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A11C-D244-497C-B7F4-D86A6713B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A944-2614-4CD5-9AF9-F53616E33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FF74-7B38-4C98-91E1-7908C9273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790F-9B4E-4332-9F38-A1A3C6702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8426-C287-45AD-AF5B-7AB0F30D7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11EE-5F8D-4770-BD2E-BC8380E7A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472-F887-4B16-936B-EEA35A66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61D-919F-46E1-97D6-BAA9B7F8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9201-96B7-4539-961C-B7AE1CBF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DBD4-FE49-4097-B83D-98A7911E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C3A-178E-46D2-B702-46DC3EF2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6922-40F4-4E64-B939-D4219EA8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374C-F582-4C27-B4A1-AD6CD030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C858-A694-49C4-B736-B3D85C20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7C8-8701-46D4-BC7E-2E618672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C2C-8CC3-416E-BF45-A7C7FD91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632-04C8-412B-98C0-0418F61B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7CC-491E-46DE-AAEF-83D7FF27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F52F-0ACE-440F-8191-3D7293D38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304920"/>
            <a:ext cx="845820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rch 26, 200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25 Day 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8580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Dad and 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ked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a cake for M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Da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ced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the c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hen 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prinkled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the nuts on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Here comes M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his is s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citing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Mom sees the c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he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miling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I think Mom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rprised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04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ou read the words in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304920"/>
            <a:ext cx="8686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609480"/>
            <a:ext cx="883944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7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7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77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" dur="77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86200" y="1219320"/>
            <a:ext cx="2286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1143000"/>
            <a:ext cx="457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19810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19810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2743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27432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3581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5812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35812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44956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4495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05320" y="1294920"/>
            <a:ext cx="2209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1295280"/>
            <a:ext cx="1218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2133720"/>
            <a:ext cx="2210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21337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38862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21337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2895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289548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2895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38098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38098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3049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ad and write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68580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371600"/>
            <a:ext cx="792468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Good-b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Ki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77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77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1" dur="77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3" dur="77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Objective: To arrange and sequence words in ABC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85800"/>
            <a:ext cx="8077320" cy="30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lphabetiz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4191120"/>
            <a:ext cx="87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Remember when we put words in ABC order we look at the first letter to see what comes first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68580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"/>
              </a:rPr>
              <a:t>We are going to reread the story </a:t>
            </a:r>
            <a:r>
              <a:rPr b="1" lang="en-US" sz="6000" spc="-1" strike="noStrike" u="sng">
                <a:solidFill>
                  <a:srgbClr val="800080"/>
                </a:solidFill>
                <a:uFillTx/>
                <a:latin typeface="Arial"/>
              </a:rPr>
              <a:t>It is the</a:t>
            </a:r>
            <a:r>
              <a:rPr b="1" lang="en-US" sz="6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6000" spc="-1" strike="noStrike" u="sng">
                <a:solidFill>
                  <a:srgbClr val="800080"/>
                </a:solidFill>
                <a:uFillTx/>
                <a:latin typeface="Arial"/>
              </a:rPr>
              <a:t>Wind</a:t>
            </a:r>
            <a:r>
              <a:rPr b="1" lang="en-US" sz="6000" spc="-1" strike="noStrike">
                <a:solidFill>
                  <a:srgbClr val="800080"/>
                </a:solidFill>
                <a:latin typeface="Arial"/>
              </a:rPr>
              <a:t>.  As we read let’s look at the animals in the story and put them in ABC ord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d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2880" y="1218960"/>
            <a:ext cx="320040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there is a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variet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something, there are many different ki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403848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114800" y="0"/>
            <a:ext cx="5029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ff3300"/>
                </a:solidFill>
                <a:latin typeface="Comic Sans MS"/>
              </a:rPr>
              <a:t>variet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5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305160" cy="49496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0"/>
          <p:cNvSpPr/>
          <p:nvPr/>
        </p:nvSpPr>
        <p:spPr>
          <a:xfrm>
            <a:off x="473040" y="5486400"/>
            <a:ext cx="32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found a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ar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e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4572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0"/>
            <a:ext cx="861048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f I say something that has a great variety then you should say, “There’s a great variety of ____________________!”  If I say something that does not have a great variety you should give me a thumbs down 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t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nosaurs still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t l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808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listen attentively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143000"/>
            <a:ext cx="8001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f th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3300"/>
                </a:solidFill>
                <a:latin typeface="Comic Sans MS"/>
              </a:rPr>
              <a:t>incredi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is </a:t>
            </a:r>
            <a:r>
              <a:rPr b="0" lang="en-US" sz="3800" spc="-1" strike="noStrike">
                <a:solidFill>
                  <a:srgbClr val="ff3300"/>
                </a:solidFill>
                <a:latin typeface="Comic Sans MS"/>
              </a:rPr>
              <a:t>incredible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, it is so amazing that it’s hard to believ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152280" y="53341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ould truly b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cred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urf this close to a sh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5" descr="chimpanzees_wideweb__470x311,0"/>
          <p:cNvPicPr/>
          <p:nvPr/>
        </p:nvPicPr>
        <p:blipFill>
          <a:blip r:embed="rId1"/>
          <a:stretch/>
        </p:blipFill>
        <p:spPr>
          <a:xfrm>
            <a:off x="380880" y="1752480"/>
            <a:ext cx="541044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228600"/>
            <a:ext cx="830592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I say something incredible then you should say “Wow!”  If I say something that is not incredible then you should make a thumbs down 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 dog b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n erupting volc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 talking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 baby lifting a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 piece of che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 person chewing g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4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4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5410080" y="1600200"/>
            <a:ext cx="349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something i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ypic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it usually happens this w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ff0000"/>
                </a:solidFill>
                <a:latin typeface="Comic Sans MS"/>
              </a:rPr>
              <a:t>typica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533520" y="51055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typical for Keesha to brush her teeth before sch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3" descr="peaceful-morning"/>
          <p:cNvPicPr/>
          <p:nvPr/>
        </p:nvPicPr>
        <p:blipFill>
          <a:blip r:embed="rId1"/>
          <a:stretch/>
        </p:blipFill>
        <p:spPr>
          <a:xfrm>
            <a:off x="914400" y="1752480"/>
            <a:ext cx="3800520" cy="331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0"/>
            <a:ext cx="8686800" cy="76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If I say something that typically happens on a school day you should shrug your shoulders and say “That’s so typical!”  If not you should make a thumbs down 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eat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go swi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do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sit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read a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go on a field 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bake a c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3049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Arial"/>
              </a:rPr>
              <a:t>Objective: To use knowledge of verbs to write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95280" y="914400"/>
            <a:ext cx="6553440" cy="28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rb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8006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member that a verb is a word that names an action.  A verb is something that you can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0"/>
            <a:ext cx="838224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t’s see if we can pick out the verbs in the following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tand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Open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urn off the l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Run in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mile a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ick up a penc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Lift up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4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4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001000" y="0"/>
            <a:ext cx="114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0" y="457200"/>
            <a:ext cx="9144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Research Re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 research repor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first sentence tells the main id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other sentences tell fa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52280"/>
          <a:ext cx="8686800" cy="59432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hat I K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hat I Want to K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hat I Learn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They live in the jungl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They have fu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What do they e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Can they understand word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Do they live in familie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Fruit, leaves,insects, bi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457200"/>
            <a:ext cx="8534520" cy="55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Have you ever seen an eleph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What does it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n my signal, turn and talk with your partner and complete the following 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n elephant has a 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Today we are going to reread a poem about elephants.  Where is an elephant’s trunk?  Where is an elephant’s tail?  As we read the poem I would like for you to wag your arms in front of you when you hear the word </a:t>
            </a:r>
            <a:r>
              <a:rPr b="1" i="1" lang="en-US" sz="4000" spc="-1" strike="noStrike">
                <a:solidFill>
                  <a:srgbClr val="33cc33"/>
                </a:solidFill>
                <a:latin typeface="Arial"/>
              </a:rPr>
              <a:t>trunk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.  I would like for you to point over one shoulder when you hear the word </a:t>
            </a:r>
            <a:r>
              <a:rPr b="1" i="1" lang="en-US" sz="4000" spc="-1" strike="noStrike">
                <a:solidFill>
                  <a:srgbClr val="33cc33"/>
                </a:solidFill>
                <a:latin typeface="Arial"/>
              </a:rPr>
              <a:t>tail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.  I will read it once and you will join me in reading on the second ti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lep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 tail is behi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 a trunk is in fro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you have s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 an eleph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r an eleph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ll never 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trunk in the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 a tail in the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304920"/>
            <a:ext cx="868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838080"/>
            <a:ext cx="830592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u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s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od-b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5335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add phonemes and chang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990720"/>
            <a:ext cx="85345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nem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ddi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0"/>
            <a:ext cx="8534520" cy="64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: To read inflectional forms with –ed and -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Let’s review over adding -ed and -ing to the end of a word.  Remember that when a word ends with a silent e and we add ed or ing we drop the e at the end of the word before adding ed or 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85800" y="457200"/>
          <a:ext cx="8305920" cy="49687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3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Root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d 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Add 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lo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lik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ra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u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los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lik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rad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us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los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lik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ra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us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09:09Z</dcterms:created>
  <dc:creator>Valued Gateway Client</dc:creator>
  <dc:description/>
  <dc:language>en-US</dc:language>
  <cp:lastModifiedBy> </cp:lastModifiedBy>
  <dcterms:modified xsi:type="dcterms:W3CDTF">2009-03-25T22:36:19Z</dcterms:modified>
  <cp:revision>4</cp:revision>
  <dc:subject/>
  <dc:title>Slide 1</dc:title>
</cp:coreProperties>
</file>