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3D7B-6700-4921-83BB-BB85998C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DFC9-5760-485C-8886-2D2EDC853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8F2-4D57-425C-9EB3-57F054F6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A11D-5D16-4828-A4BF-3EDC6299E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6CE0-91D5-49ED-9C3E-DA5E050B9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E21B-7CF8-4F5E-8C6D-DA58EC0F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B0C-F95A-48CD-92A0-3C0F749F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F71-E4DC-4AC4-B96D-633D066B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8D8-C4BB-4FA5-9F07-0ADFFB40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901-3B6B-4B8E-85CB-456DFA7B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B52-394F-4988-AE32-A7F98794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1BF-AE5F-421D-973D-0B60F49E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22B-1E5D-450F-847C-64ACB6E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3A3-B972-4222-B60A-2034B3EA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A98-A84D-4E3E-A4B9-22CA0A0C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036-31CB-4EC7-BF8F-739596F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BF4-C4FF-459F-BCB7-7615A0F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F07-70CB-4E0C-9709-148FE883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C4A-45DA-415D-A179-C0E05E58B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458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rch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5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58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and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a cake for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c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en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rinkl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nuts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ere come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is is s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it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Mom sees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h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mil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think Mom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pris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read the words in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30492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9480"/>
            <a:ext cx="883944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2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68580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Good-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arrange and sequence words in ABC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85800"/>
            <a:ext cx="8077320" cy="30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phabetiz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19112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Remember when we put words in ABC order we look at the first letter to see what comes firs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6858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We are going to reread the story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It is the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Wind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.  As we read let’s look at the animals in the story and put them in ABC ord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572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f I say something that has a great variety then you should say, “There’s a great variety of ____________________!”  If I say something that does not have a great variety you should give me a thumbs down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nosaurs still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t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143000"/>
            <a:ext cx="8001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28600"/>
            <a:ext cx="83059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I say something incredible then you should say “Wow!”  If I say something that is not incredible then you should make a thumbs down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dog b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rupting volc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talking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baby lifting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iece of 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erson chewing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0"/>
            <a:ext cx="8686800" cy="76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f I say something that typically happens on a school day you should shrug your shoulders and say “That’s so typical!”  If not you should make a thumbs down 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do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si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on a field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bake a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9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Objective: To use knowledge of verbs to wri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914400"/>
            <a:ext cx="655344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rb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800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verb is a word that names an action.  A verb is something that you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0"/>
            <a:ext cx="838224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see if we can pick out the verbs in the follow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pen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urn off the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un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mile a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ick up a p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ift up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4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52280"/>
          <a:ext cx="8686800" cy="59432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Want to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Lea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live in the jung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have fu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hat do they e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an they understand wor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Do they live in famili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ruit, leaves,insects, 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53452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ave you ever seen an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What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and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lephant has a 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oday we are going to reread a poem about elephants.  Where is an elephant’s trunk?  Where is an elephant’s tail?  As we read the poem I would like for you to wag your arms in front of you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runk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ould like for you to point over one shoulder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ail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ill read it once and you will join me in reading on the second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 tail is behi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runk is in fro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you have s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an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an eleph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never 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unk in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ail i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838080"/>
            <a:ext cx="83059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533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add phonemes and ch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990720"/>
            <a:ext cx="85345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i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0"/>
            <a:ext cx="8534520" cy="64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ad inflectional forms with –ed an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et’s review over adding -ed and -ing to the end of a word.  Remember that when a word ends with a silent e and we add ed or ing we drop the e at the end of the word before adding ed or 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457200"/>
          <a:ext cx="8305920" cy="4968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9:09Z</dcterms:created>
  <dc:creator>Valued Gateway Client</dc:creator>
  <dc:description/>
  <dc:language>en-US</dc:language>
  <cp:lastModifiedBy> </cp:lastModifiedBy>
  <dcterms:modified xsi:type="dcterms:W3CDTF">2009-03-25T22:36:19Z</dcterms:modified>
  <cp:revision>4</cp:revision>
  <dc:subject/>
  <dc:title>Slide 1</dc:title>
</cp:coreProperties>
</file>