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051-290F-402D-9016-3BF0E753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C13-D1D2-4E0C-926A-A4D59D28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AA1-DB3C-462C-8D31-B789B4F9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042-C333-4854-96D9-C19EAE4F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CBA-4C0B-444C-9AA1-AEF16E3D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FBD1-03BD-4B6B-A6F9-A8C8FF91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FEF-DE5C-456E-BC98-67840933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E25-B428-4B37-A9C8-38B23B1B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87B-6C28-454C-88EF-7E4B53B4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39F-ED91-412A-B417-E7907867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E06-92EB-419A-8954-E1C01610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461-E6BF-476A-B819-E21F5C4B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B7B0-7123-4A49-BAA7-2131B1771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2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5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Long Vowe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Long Vowe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k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838080"/>
            <a:ext cx="44197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r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l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295280"/>
            <a:ext cx="22096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1295280"/>
            <a:ext cx="2438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-b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1295280"/>
            <a:ext cx="47242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go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lon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b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wal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s have five let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at sound do you hear at the beginning of four of those wo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sound do you hear at the beginning of the other wo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phabet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alphabetiz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523880"/>
            <a:ext cx="868680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ane Goodall Meets David Greybear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mazing Anim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t Is the Wi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u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e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andies a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y stor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one voice answer this question with a yes or no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48640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ic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re that you do.  Do you think yo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er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eward for doing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 to answer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ical chore I do is 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973760" y="1676520"/>
            <a:ext cx="38145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n animal t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red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Explain why you think it is incredible.  Is that anim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ac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turn and talk with your partner 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the stem below to answer this ques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dible animal is  _________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4114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live in a box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swim in a puddl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snap at a minnow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catch at fle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______ in the se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_______ fas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_______ my tail flukes up and dow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Name an animal.  What would you see if you looked at it from the front?  What would you see from the b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 _______ has a _______ in fr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t has a _________ in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dentify the musical elements of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1752480"/>
            <a:ext cx="4191120" cy="47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Elepha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513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-36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ki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ood-b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1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Review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al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ememb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9760" y="-360"/>
            <a:ext cx="1523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add phonemes to make </a:t>
            </a:r>
            <a:br>
              <a:rPr sz="1000"/>
            </a:b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new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876312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Addition and 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563904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Inflections –ed, -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0"/>
            <a:ext cx="167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recognize root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9144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82880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6668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6483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p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5638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920" y="0"/>
          <a:ext cx="8305560" cy="7240680"/>
        </p:xfrm>
        <a:graphic>
          <a:graphicData uri="http://schemas.openxmlformats.org/drawingml/2006/table">
            <a:tbl>
              <a:tblPr/>
              <a:tblGrid>
                <a:gridCol w="2768400"/>
                <a:gridCol w="2768400"/>
                <a:gridCol w="276876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Root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d 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Add 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na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jo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p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napp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jogg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p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napp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jogg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3-27T03:26:42Z</dcterms:modified>
  <cp:revision>145</cp:revision>
  <dc:subject/>
  <dc:title>Slide 1</dc:title>
</cp:coreProperties>
</file>