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7C2-443C-45D5-9660-DB3DF45C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241-D0F3-4FF9-B901-164D1C2D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C3E-D3EB-4CF2-98BB-828BD020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0E1-FE1C-487F-9679-79BA1180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EAF-C604-40AB-9D68-F281E498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3E2-24DE-47A0-B9C1-66B10A4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7D8-CB70-4CFD-B37D-E17C5F40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941-578B-41F2-8B15-51B954AE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591-C6C4-4346-B6DE-5219D1D9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135-5019-4564-8E94-99AEB54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CED-FF12-4BAE-938E-D22994E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3B1-D0A7-4104-BA18-A419A4C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AE3-BCE5-4481-9715-CACAF9021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838080"/>
            <a:ext cx="4419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95280"/>
            <a:ext cx="22096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295280"/>
            <a:ext cx="2438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295280"/>
            <a:ext cx="47242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g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lon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b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wal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s have five let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at sound do you hear at the beginning of four of those 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sound do you hear at the beginning of the other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alphabetiz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523880"/>
            <a:ext cx="86868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ne Goodall Meets David Greybe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mazing Anim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t Is the W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e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andies 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y sto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one voice answer this question with a yes or no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4864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ic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re that you do.  Do you think y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e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ward for do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chore I do is 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73760" y="1676520"/>
            <a:ext cx="3814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n animal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d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Explain why you think it is incredible.  Is that anim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ac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dible animal is 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live in a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wim in a pudd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nap at a minnow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catch at fle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 in the se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_ fa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_ my tail flukes up and dow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ame an animal.  What would you see if you looked at it from the front?  What would you see from the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_______ has a _______ i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has a _________ in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the musical elements 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752480"/>
            <a:ext cx="419112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Elepha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13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k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ood-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Review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memb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dd phonemes to make 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new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876312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Addition and 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56390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Inflections –ed, -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cognize root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14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828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6483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638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0"/>
          <a:ext cx="8305560" cy="7240680"/>
        </p:xfrm>
        <a:graphic>
          <a:graphicData uri="http://schemas.openxmlformats.org/drawingml/2006/table">
            <a:tbl>
              <a:tblPr/>
              <a:tblGrid>
                <a:gridCol w="2768400"/>
                <a:gridCol w="2768400"/>
                <a:gridCol w="2768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Root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d 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dd 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g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g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3-27T03:26:42Z</dcterms:modified>
  <cp:revision>145</cp:revision>
  <dc:subject/>
  <dc:title>Slide 1</dc:title>
</cp:coreProperties>
</file>