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4C6F-49D4-4E01-8CC7-232C38D4B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468A-F168-4A17-BD0F-4E1C9FE3C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D426-5E80-4ACC-9ECF-B6F3FFB3E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762F-89E6-42A5-9750-76B124CA1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7F08-E28D-4BCA-A1AB-CCCF8EBBC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1EAB-5CF6-41B5-8B5D-FDFABA8CC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76C7-1FEA-4D83-B7C1-B708F6604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B47F-FD4A-44FD-AE4F-8606A18CD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EA24-4F03-4E7C-B68A-24D3E607A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433B-9D52-414A-8773-C0566B7F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39B2-0B1C-4A77-B033-AC9A6F184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646C-B757-4623-9AD4-F1532EACD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313F-7ECC-49A6-A79B-6DB90D8E7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F582-5996-4E83-BAD5-1789C29B6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58B4-8812-4D03-A00B-6C5845EE1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BA4B-2B00-4714-B76F-5F20520B1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960B-DB41-42AC-82D5-E598B5304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27ED-E340-41E4-83D2-968F5181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A67E-02AD-4092-9D08-A651B52F9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B036-BB1B-486E-BC3A-ED4EFDFF2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8CB6-5674-461E-9D64-FA045419A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1CC0-0355-4670-98E9-73258E838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4E13-BDCC-4D13-9484-4D4004060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F6A0-2E9A-4F9E-ACD1-232EA5136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6AA-90C1-460A-B384-05019DA7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586-7425-4BAB-98C7-CBA6C371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0DF-D52C-4F25-8A49-DD49CF14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EA1-9F60-4E19-9687-59CB356E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7AF-A6FA-4A59-A7BE-49D95B2D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DC3-9BA7-4892-990C-CCCB2921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F54-9993-4B6D-B7A8-F9CED6B8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BAF-C09A-4B4D-A9CA-D1874F28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95D-EE9D-4EED-B8CC-9F7715A7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58DC-DF3E-47EB-A4E0-9624F7F4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C0E-5DBE-482B-9F28-A568709C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0DA-2D5C-4B86-8979-0C2E0CE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34BC-B2DC-4FE2-BE1E-1B80BB3F4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3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2009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6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6705720" y="0"/>
            <a:ext cx="2666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852560" y="609480"/>
            <a:ext cx="596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Words in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825120" y="1600200"/>
            <a:ext cx="766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k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i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rid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come to your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f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i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use the sun’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ligh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ak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i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33280" y="22860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-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climb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thou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fool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e can see the moon from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Earth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lease stop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fooling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a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thought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it was going to snow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 set the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tabl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r din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cat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climbed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up the g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800" y="30492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020240" y="0"/>
            <a:ext cx="697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readers look for STORY ELEMENTS as they read.  What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Y EL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:  what happens in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:  where and when a story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the people and animals in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og-chasing-duck-int-mar.jpg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2853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1778400" y="4648320"/>
            <a:ext cx="534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story elements in this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:   The dog is chasing the flying d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:  This is during the day in a pond or l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The dog and the duck ar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6378120" y="6458040"/>
            <a:ext cx="27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element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523880"/>
          <a:ext cx="8763120" cy="461808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ntasy story cal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st Off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MPj03168950000[1]"/>
          <p:cNvPicPr/>
          <p:nvPr/>
        </p:nvPicPr>
        <p:blipFill>
          <a:blip r:embed="rId1"/>
          <a:stretch/>
        </p:blipFill>
        <p:spPr>
          <a:xfrm>
            <a:off x="1262160" y="2209680"/>
            <a:ext cx="3267000" cy="361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0040" y="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nder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istics of fantas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1523880"/>
          <a:ext cx="8763120" cy="461808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100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done fondly, it is done in a caring, loving, or tender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0968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fon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0" y="649116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n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eding the h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5" descr="MPj02622870000[1]"/>
          <p:cNvPicPr/>
          <p:nvPr/>
        </p:nvPicPr>
        <p:blipFill>
          <a:blip r:embed="rId1"/>
          <a:stretch/>
        </p:blipFill>
        <p:spPr>
          <a:xfrm>
            <a:off x="1295280" y="1371600"/>
            <a:ext cx="33768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pale, it is very light or without much color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0" y="6095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gg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u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8" descr="MCj04357550000[1]"/>
          <p:cNvPicPr/>
          <p:nvPr/>
        </p:nvPicPr>
        <p:blipFill>
          <a:blip r:embed="rId1"/>
          <a:stretch/>
        </p:blipFill>
        <p:spPr>
          <a:xfrm>
            <a:off x="1066680" y="1828800"/>
            <a:ext cx="28893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your favorite way to travel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one place to another?  Tell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travel by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a place is shadowy, it is not in the light; it is sha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hadow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0492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is standing in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adow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4" descr="MPj0438667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4346280" cy="43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my signal, tell your partner what you rememb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your last birthday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ne voice, answer with “yes” or “no.”  Could the sun be described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my signal, show me with your face how you might feel if you were alone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dow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6270840" y="0"/>
            <a:ext cx="285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review robust vocabulary thr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ussing ide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istinguish verbs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tell about one or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152280" y="0"/>
            <a:ext cx="89917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pour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 pours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ys pop some popc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y ______some popc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-1789200" y="5257800"/>
            <a:ext cx="843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rench Script MT"/>
              </a:rPr>
              <a:t>When talking about one perso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rench Script MT"/>
              </a:rPr>
              <a:t>I have to add an “s” to a ver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earch report is a piece of writing that tells facts about a certain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 will continue working on the research reports that we have already 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6411600" y="0"/>
            <a:ext cx="25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understand a research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for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600200" y="0"/>
            <a:ext cx="5638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Preferred Veh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4" descr="MPj04332400000[1]"/>
          <p:cNvPicPr/>
          <p:nvPr/>
        </p:nvPicPr>
        <p:blipFill>
          <a:blip r:embed="rId1"/>
          <a:stretch/>
        </p:blipFill>
        <p:spPr>
          <a:xfrm>
            <a:off x="1905120" y="2236680"/>
            <a:ext cx="518148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-b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ubstitute phonemes and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8" descr="MPj03846820000[1]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81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114800" y="12952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809880" y="19810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4290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0384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35268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6576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962520" y="2743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57200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5053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3581280" y="44197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809880" y="3581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44197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335268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57200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1"/>
          <p:cNvSpPr/>
          <p:nvPr/>
        </p:nvSpPr>
        <p:spPr>
          <a:xfrm>
            <a:off x="2900160" y="510552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3588840" y="510552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4651200" y="51055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U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u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r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J/ ge, dge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u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3-31T00:48:25Z</dcterms:modified>
  <cp:revision>191</cp:revision>
  <dc:subject/>
  <dc:title>Slide 1</dc:title>
</cp:coreProperties>
</file>