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5B64-F4B7-4A4F-A2FB-755E72CD3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9294-0397-4582-8262-32EE9CFD1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A6BA-6879-4D96-A375-5CB8066E5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F88A-F64A-49BC-98A2-65815FCA8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EA72-7597-43D3-AE38-25FCC886E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4B02-6398-4FBF-A485-101F6B079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C4B5-9399-4AF1-8470-F357466FE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C291-A19A-4A16-956D-FB9FBDFA6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3E34-8CF8-4D5A-B559-D4016A598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3E4D-5991-4AB9-BA7E-92D24532B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D340-B675-4C18-B841-5EE7ACF7F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6172-145E-4F88-9ED5-FD14BDE41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6438-717F-4063-B483-7D40FF9CB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E92A-D399-4603-9A32-D44BE3836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21E6-368F-4603-ACA2-B764B38E3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4294-0B3D-4B63-95A8-48BE9E4D9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D150-48A0-411E-AAA2-648C0C53A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70DE-19A7-4BE9-B598-16B8D1F4B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3EF7-DC61-4F86-AB05-C259934E5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557A-A94E-4623-882F-72C2AEE6B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E30D-5619-45D8-9C2C-5FE282C4E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26CE-E999-463B-B8F4-5235922F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CDD3-EBD9-40DD-AB1A-0513B0DC1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C77F-06F1-4421-B03D-33ABDB6F0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BFB-C2C0-4C23-A60B-3A34AD75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DF0-F10B-48D4-9A67-6E3EE642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638-A046-401C-B84D-5914D87D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80D-02D7-4229-83B4-99F416A3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4C1-95FE-4341-985B-170E9A4B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853-A1DF-4BA1-B6FB-A158C3BA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FE4-1EBC-4AA4-B7D4-B526E0CB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A74-A28E-45F3-9257-61E6AA4D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334-91E7-458A-8BC8-6425A08B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FED-177E-40DA-96D4-A83B759B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32B-5A76-4EF3-90F6-2CD8485C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3B1-D2F4-455C-8C7B-791C4775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BB69-A940-4893-A1B0-F6D5604BB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3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2009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6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6705720" y="0"/>
            <a:ext cx="2666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852560" y="609480"/>
            <a:ext cx="596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Words in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825120" y="1600200"/>
            <a:ext cx="766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k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i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rid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il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come to your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e 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f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i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use the sun’s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ligh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ak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i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33280" y="22860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re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-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climb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thou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fool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e can see the moon from 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Earth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lease stop 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fooling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a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 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thought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it was going to snow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 set the 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tabl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for din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cat 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climbed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up the g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800" y="30492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020240" y="0"/>
            <a:ext cx="697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readers look for STORY ELEMENTS as they read.  What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Y ELE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:  what happens in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:  where and when a story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the people and animals in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og-chasing-duck-int-mar.jpg"/>
          <p:cNvPicPr/>
          <p:nvPr/>
        </p:nvPicPr>
        <p:blipFill>
          <a:blip r:embed="rId1"/>
          <a:stretch/>
        </p:blipFill>
        <p:spPr>
          <a:xfrm>
            <a:off x="2286000" y="1752480"/>
            <a:ext cx="4572000" cy="2853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1778400" y="4648320"/>
            <a:ext cx="534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look at the story elements in this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:   The dog is chasing the flying d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:  This is during the day in a pond or l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The dog and the duck ar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6378120" y="6458040"/>
            <a:ext cx="27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story elements as a tool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523880"/>
          <a:ext cx="8763120" cy="461808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ntasy story call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st Off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0" descr="MPj03168950000[1]"/>
          <p:cNvPicPr/>
          <p:nvPr/>
        </p:nvPicPr>
        <p:blipFill>
          <a:blip r:embed="rId1"/>
          <a:stretch/>
        </p:blipFill>
        <p:spPr>
          <a:xfrm>
            <a:off x="1262160" y="2209680"/>
            <a:ext cx="3267000" cy="3618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0040" y="0"/>
            <a:ext cx="16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nderst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istics of fantas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" y="1523880"/>
          <a:ext cx="8763120" cy="461808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1008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something is done fondly, it is done in a caring, loving, or tender 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22096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209680" y="22860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fond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0" y="649116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nd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eding the h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5" descr="MPj02622870000[1]"/>
          <p:cNvPicPr/>
          <p:nvPr/>
        </p:nvPicPr>
        <p:blipFill>
          <a:blip r:embed="rId1"/>
          <a:stretch/>
        </p:blipFill>
        <p:spPr>
          <a:xfrm>
            <a:off x="1295280" y="1371600"/>
            <a:ext cx="337680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pale, it is very light or without much color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0" y="6095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gg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ue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8" descr="MCj04357550000[1]"/>
          <p:cNvPicPr/>
          <p:nvPr/>
        </p:nvPicPr>
        <p:blipFill>
          <a:blip r:embed="rId1"/>
          <a:stretch/>
        </p:blipFill>
        <p:spPr>
          <a:xfrm>
            <a:off x="1066680" y="1828800"/>
            <a:ext cx="28893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is your favorite way to travel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one place to another?  Tell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travel by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a place is shadowy, it is not in the light; it is shad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hadow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304920" y="6324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is standing in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adow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4" descr="MPj04386670000[1]"/>
          <p:cNvPicPr/>
          <p:nvPr/>
        </p:nvPicPr>
        <p:blipFill>
          <a:blip r:embed="rId1"/>
          <a:stretch/>
        </p:blipFill>
        <p:spPr>
          <a:xfrm>
            <a:off x="533520" y="1905120"/>
            <a:ext cx="4346280" cy="4341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my signal, tell your partner what you rememb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nd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your last birthday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ne voice, answer with “yes” or “no.”  Could the sun be described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my signal, show me with your face how you might feel if you were alone in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adow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6270840" y="0"/>
            <a:ext cx="285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review robust vocabulary throu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ussing ide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istinguish verbs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tell about one or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152280" y="0"/>
            <a:ext cx="899172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s pour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 pours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ys pop some popc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y ______some popc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-1789200" y="5257800"/>
            <a:ext cx="843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rench Script MT"/>
              </a:rPr>
              <a:t>When talking about one person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rench Script MT"/>
              </a:rPr>
              <a:t>I have to add an “s” to a ver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earch report is a piece of writing that tells facts about a certain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we will continue working on the research reports that we have already star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6411600" y="0"/>
            <a:ext cx="259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understand a research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for a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600200" y="0"/>
            <a:ext cx="56386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Preferred Veh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4" descr="MPj04332400000[1]"/>
          <p:cNvPicPr/>
          <p:nvPr/>
        </p:nvPicPr>
        <p:blipFill>
          <a:blip r:embed="rId1"/>
          <a:stretch/>
        </p:blipFill>
        <p:spPr>
          <a:xfrm>
            <a:off x="1905120" y="2236680"/>
            <a:ext cx="518148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-b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ubstitute phonemes and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8" descr="MPj03846820000[1]"/>
          <p:cNvPicPr/>
          <p:nvPr/>
        </p:nvPicPr>
        <p:blipFill>
          <a:blip r:embed="rId1"/>
          <a:stretch/>
        </p:blipFill>
        <p:spPr>
          <a:xfrm>
            <a:off x="4343400" y="175248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81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114800" y="12952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809880" y="19810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42900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03848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352680" y="2743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3657600" y="2743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3962520" y="2743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572000" y="27432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3505320" y="3581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3581280" y="44197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3809880" y="3581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4419720" y="35812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3352680" y="4419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572000" y="4419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1"/>
          <p:cNvSpPr/>
          <p:nvPr/>
        </p:nvSpPr>
        <p:spPr>
          <a:xfrm>
            <a:off x="2900160" y="510552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2"/>
          <p:cNvSpPr/>
          <p:nvPr/>
        </p:nvSpPr>
        <p:spPr>
          <a:xfrm>
            <a:off x="3588840" y="510552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3"/>
          <p:cNvSpPr/>
          <p:nvPr/>
        </p:nvSpPr>
        <p:spPr>
          <a:xfrm>
            <a:off x="4651200" y="510552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ng U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u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r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J/ ge, dge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u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r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 </cp:lastModifiedBy>
  <dcterms:modified xsi:type="dcterms:W3CDTF">2009-03-31T00:48:25Z</dcterms:modified>
  <cp:revision>191</cp:revision>
  <dc:subject/>
  <dc:title>Slide 1</dc:title>
</cp:coreProperties>
</file>