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F47-4B91-4443-BCD9-F31E8902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F94-7D6C-4C10-81D6-3ED00B4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93E-52A8-4613-AC13-9BA09348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802-D2EC-423A-9916-F3CB87E9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AD5E-1E1C-4090-B5E3-86C89B72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567B-65FF-4561-A97B-ECF9767B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901-CF29-46C5-9CD4-1BC14B16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59B-1DA8-4A93-84EC-FAFE74FA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2F0-F2D3-4876-9B3A-1EAEC24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790-42F5-4C3F-A2CE-D45693B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70E-C0C8-40E4-AA29-297EE6FD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F8D-066D-45A5-8D5D-92A31797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D83D-7BD6-4079-B27A-24C596AD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1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6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7524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733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33412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914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572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53341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914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1752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114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952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715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7150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914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1148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952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514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514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3526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3526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352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35268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y, ie, 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43000"/>
            <a:ext cx="87631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ve it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keep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ver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as if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m says it needs water 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nl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m is alway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ill put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 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ndow and water it each day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ency -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o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28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aloud with fluenc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ad the alphabet, using the punctuation to cue your inton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3880"/>
            <a:ext cx="8763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B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EF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M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Q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TUV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XYZ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 STORY EL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are the elements in the story “Billywise?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hat are the elements in the story “Blast Of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raveling Through Ti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MPj03168950000[1]"/>
          <p:cNvPicPr/>
          <p:nvPr/>
        </p:nvPicPr>
        <p:blipFill>
          <a:blip r:embed="rId1"/>
          <a:stretch/>
        </p:blipFill>
        <p:spPr>
          <a:xfrm>
            <a:off x="457200" y="2057400"/>
            <a:ext cx="3267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imaginative, you are good at coming up with ideas and picturing things in your mind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magin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id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agin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y played with the to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planning a trip, where would you go? How would you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______, and I’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y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come up with imaginative ideas for stories. In one voice answer “yes” or “no”, would it be imaginative for me to write a new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ould it be imaginative to write a story that has already been writ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an imaginative way to c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imila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two things are similar, they are alike in some ways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2667240" cy="1557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playground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914400"/>
            <a:ext cx="84582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When I look at a photo of my parents and me, I can see we are similar in some ways. Answer in one voice with “similar” or “different”, if you and I both like cake, are our tastes similar or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and your best friend are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My best friend and I are similar becaus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affectionate, you like to show you love someone by hugging or cuddl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ffection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724280" cy="315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ger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fection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one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played with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ignored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how how you would be affectionate to a ba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verbs that tell about now. To correctly use verbs that tell about now in sente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371600"/>
            <a:ext cx="762012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In 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stands in front of the group.  Marcy write her name. Danny sits in his chair. Mary and jen raise their hands. a bird sing outside the window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Verbs that tell abou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-141120"/>
            <a:ext cx="6324840" cy="81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search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first sentence is a main idea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other sentences tell details about the main id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entences have the correct capitalization and punctu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working on research reports started this wee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4" descr="MPj04332400000[1]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600200"/>
            <a:ext cx="85345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icycle’s fine for a little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he street or d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utomobile for a longer tri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f to another t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irplane’s fine for around the worl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y a far-out pl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a rocket, oh, for the longest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way into outer sp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638680"/>
            <a:ext cx="899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*Bicycl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handlebar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irplan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stretch arms out like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steering wheel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cke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 stretch arms ove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phoneme added to make a new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acher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228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733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572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334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1T02:05:42Z</dcterms:modified>
  <cp:revision>150</cp:revision>
  <dc:subject/>
  <dc:title>Slide 1</dc:title>
</cp:coreProperties>
</file>