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7549-9F72-41DC-B011-A12E06F5E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7086-3AAF-4B4F-B6B8-7BBAC1A10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556F-4206-4FA5-9C55-E9ACA00AB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CA3C-8236-4BD9-8DBD-5D29227B1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609E-3D6E-4872-A1D3-5F8366FEA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6E96-D177-4923-8ECD-EF21D4DDE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5CCB-CDFF-43DA-83C1-7B678007A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6BD4-1D47-4D4B-9628-CA201CB43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7A03-E819-4DB6-AF93-C891471CD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F7A5-348F-4828-93AD-40231C2D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6244-5A5B-4F27-9A2C-02F71281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8D78-7BBD-4E3D-BF1E-4AC60558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E10E3-006E-4D05-A5C6-4C2033892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i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pril 3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26, Day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It’s time to take our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spelling test!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pelling Wor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Long Vowe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80720" y="990720"/>
            <a:ext cx="4419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LONG 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cu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tu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Ju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flu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mu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hu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r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m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Long Vowe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4419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LONG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m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r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tw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l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cr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f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f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724280" y="838080"/>
            <a:ext cx="4419720" cy="58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LONG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p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p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tri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fri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s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l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f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z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m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8088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295280"/>
            <a:ext cx="220968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l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o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y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u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057400" y="1295280"/>
            <a:ext cx="243828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ou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mb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952880" y="1676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19720" y="1676520"/>
            <a:ext cx="472428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Which word rhymes with fle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Look at the four letter words -Which word is a verb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Look at the three letter words – Which word is a verb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Look at the five letter words - Which word is a verb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Which words have a base word with an end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990720" y="360360"/>
            <a:ext cx="7162560" cy="61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-360" y="1066320"/>
            <a:ext cx="8915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someone you know who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ffectionat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 you think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nd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at person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n my signal, turn and talk with your partn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sing the stem be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I know who is affectionate is 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think fondly of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7696080" y="0"/>
            <a:ext cx="1447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view robust vocabula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30492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Rounded MT Bold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1218960"/>
            <a:ext cx="5029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around the room.  Do you see anything that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mil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al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ue sk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In one voice, answer with yes or 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see  _______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7696080" y="0"/>
            <a:ext cx="1447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view robust vocabula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30492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Rounded MT Bold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800600" y="2362320"/>
            <a:ext cx="411480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2189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adow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lace that would make a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magina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tting for a fantasy stor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When I give you the signal, turn and talk with your partner us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the stem below to answer this ques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credible animal is  _________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7696080" y="0"/>
            <a:ext cx="1447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view robust vocabula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30492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Rounded MT Bold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438280" y="3789360"/>
            <a:ext cx="409572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If you could be anywhere in the world, where would you like to b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’d like to be _______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because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315200" y="0"/>
            <a:ext cx="1828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spond to poetry this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5257800" cy="50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“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And Ther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228600" y="2209680"/>
          <a:ext cx="4419720" cy="4038480"/>
        </p:xfrm>
        <a:graphic>
          <a:graphicData uri="http://schemas.openxmlformats.org/drawingml/2006/table">
            <a:tbl>
              <a:tblPr/>
              <a:tblGrid>
                <a:gridCol w="2057400"/>
                <a:gridCol w="2362320"/>
              </a:tblGrid>
              <a:tr h="63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you say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r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one e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to sel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 pointer finger on li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 finger on h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ke h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9909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0"/>
            <a:ext cx="86104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nstantia"/>
              </a:rPr>
              <a:t>Word Wal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climb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o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foo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w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w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u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m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10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1000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1000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1000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" dur="1000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1000"/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1000"/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Review Wor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bec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be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wal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bec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loud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li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rememb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br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467480" y="0"/>
            <a:ext cx="16765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77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2" dur="77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4" dur="77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6" dur="77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8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9760" y="-360"/>
            <a:ext cx="1523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Objective: To add phonemes to make </a:t>
            </a:r>
            <a:br>
              <a:rPr sz="1000"/>
            </a:b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new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0"/>
            <a:ext cx="8763120" cy="73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 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 Substitution and Addi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666880" y="3276720"/>
            <a:ext cx="396396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600" spc="-1" strike="noStrike" u="sng">
                <a:solidFill>
                  <a:srgbClr val="000000"/>
                </a:solidFill>
                <a:uFillTx/>
                <a:latin typeface="Arial"/>
              </a:rPr>
              <a:t>Contractions ‘d, ‘ve,’re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20120" y="0"/>
            <a:ext cx="1676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Objective: To recognize contra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91440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e woul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1828800"/>
            <a:ext cx="7620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e’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26668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e hav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365760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e’v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4648320"/>
            <a:ext cx="7620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e a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56386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e’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2280" y="2057400"/>
            <a:ext cx="876312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83818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’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’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’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’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’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’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’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 </cp:lastModifiedBy>
  <dcterms:modified xsi:type="dcterms:W3CDTF">2009-04-03T03:12:23Z</dcterms:modified>
  <cp:revision>154</cp:revision>
  <dc:subject/>
  <dc:title>Slide 1</dc:title>
</cp:coreProperties>
</file>