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307-16B5-4612-BAF7-A42C5642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5B4-7C83-418D-935B-CB3ACC9B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E0B-A035-4BB7-9337-F9415E06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5C5-5D36-472E-B783-CD218CC8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FC5-EE0D-44B7-AF89-E146EB89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813-4E97-43D8-BB25-93250518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F45-B1A8-4446-A515-9F3BF1C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A5D-493E-4F8D-A351-894F5CBD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263-3B3A-43CB-9107-9C003F44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A9C-C580-4E01-9322-8DE2F8CE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F12-4712-4608-B5A1-516F244F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FC2-0ABA-4A82-B21C-EC5B491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5B7F-1BBC-4413-82B8-F26C52E10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07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w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838080"/>
            <a:ext cx="4419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z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22096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y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1295280"/>
            <a:ext cx="2438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676520"/>
            <a:ext cx="47242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fl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four letter words -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three letter words – 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five letter words - 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s have a base word with an e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360360"/>
            <a:ext cx="71625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someone you know who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fectiona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you thin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n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at pers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ing the stem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I know who is affectionate is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fondly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round the room.  Do you see anything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sk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 one voice, answer with yes or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 _______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dow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 that would make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agin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ing for a fantasy sto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turn and talk with your partner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dible animal is  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8280" y="3789360"/>
            <a:ext cx="4095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be anywhere in the world, where would you like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’d like to be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15200" y="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spond to poetry this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525780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nd T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2209680"/>
          <a:ext cx="441972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362320"/>
              </a:tblGrid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you sa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ne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to s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 pointer finger on l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 finger on 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ke 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90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imb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Review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memb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dd phonemes to make 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new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876312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ubstitution and Ad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963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Contractions ‘d, ‘ve,’re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cognize con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14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wou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828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ha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6483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638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763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4-03T03:12:23Z</dcterms:modified>
  <cp:revision>154</cp:revision>
  <dc:subject/>
  <dc:title>Slide 1</dc:title>
</cp:coreProperties>
</file>