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020-977A-44DA-AF62-E6206ABF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113-2B19-4373-8200-E286374D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466-93C9-4BB0-8017-3AB0BA54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01C-2713-41A6-9FAF-DB6FECA7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56B-50ED-470B-ABEF-C1371B12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E85-EEB1-48F2-8A46-6AB01D29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99B-2B27-4C53-9C0E-40B505A3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292-6D4C-4F5C-BB0B-19F9DED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A4F-ABE7-41AE-8F9B-6ECFF13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77F-F1BF-48F1-A976-EA346C4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AE6-7C21-435F-87D6-D12F663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FCD-7958-42FE-8CDC-E6CAF371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30FE-C8B2-4E0C-88E0-D4D6B538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wight and Tyrone are bunn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Dwight wants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 Fligh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5334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Night Flight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llywis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008160" cy="472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2133720"/>
            <a:ext cx="472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ntasies have animals that talk.  Some happen in imaginary places.  When I read, I can tell that a story is fantasy, because it includes events that could not really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ere are many amazing things to explore.  What would you like to explor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explor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look around the room and find something that is p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show how you might fondly hold a k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838080"/>
            <a:ext cx="89917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wl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u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t ni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illywise </a:t>
            </a: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ives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in an oak tre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3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______ the birds in the t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213372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has with /i/ in the middle, hold up your hand and say the sound. When I say a word that does not begin with /i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Ii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981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9T21:33:05Z</dcterms:modified>
  <cp:revision>162</cp:revision>
  <dc:subject/>
  <dc:title>Slide 1</dc:title>
</cp:coreProperties>
</file>