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036-E8D7-4914-8065-0E91C2DF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B0C-EB65-4467-9369-383E3C08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21E-9699-45A1-B123-72BD1514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8C8-E110-4F83-8E42-1946ED51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84A-915F-41A4-906B-7ABF55DD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E8E-E5AD-4D42-ABF5-225BD49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78E-C3D2-4241-AEC9-406A8C5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23D-16F0-43BC-9924-DA52673A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495-EAC6-4839-9088-EBE6619B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334-C566-4010-8726-2D3D44D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CEA-00F8-4FFE-AD91-5D3B546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568-A965-4406-922B-60BC2F6B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835-7BC6-43DE-A8B0-6D4179669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Dwight and Tyrone are bunn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Dwight wants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 Fligh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5334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Night Flight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llywis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008160" cy="472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2133720"/>
            <a:ext cx="4724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antasies have animals that talk.  Some happen in imaginary places.  When I read, I can tell that a story is fantasy, because it includes events that could not really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100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done fondly, it is done in a caring, loving, or tend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fon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911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n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ing the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376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pale, it is very light or without much color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5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gg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u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889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 place is shadowy, it is not in the light; it is sh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hadow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is standing i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ow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346280" cy="43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ere are many amazing things to explore.  What would you like to explor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explore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look around the room and find something that is p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show how you might fondly hold a k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verbs that tell about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838080"/>
            <a:ext cx="89917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wl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u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t nigh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illywise </a:t>
            </a: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ives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in an oak tre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3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verbs that tell abou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______ the birds in the t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a research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Here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and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213372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 say a word that has with /i/ in the middle, hold up your hand and say the sound. When I say a word that does not begin with /i/, hold your hand behind your ba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51051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Ii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219320"/>
            <a:ext cx="16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981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3581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81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12952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4197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581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3-29T21:33:05Z</dcterms:modified>
  <cp:revision>162</cp:revision>
  <dc:subject/>
  <dc:title>Slide 1</dc:title>
</cp:coreProperties>
</file>