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586-D9AF-4FF4-A519-C9EFC60F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86A-4B3F-458E-96A3-94C6837D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139-04E4-4A29-8B8C-75680537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34BD-586B-4DD4-A54F-D482F0CE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F84-4F6F-4726-8C7F-DD5D9E5E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CE3E-60B6-4C36-94CF-48B54342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642-728C-417D-87E0-BCF08DE3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3AD-C1AE-433C-A37E-6C1B9C35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E99-AB5B-497C-B995-872210C1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FF1-079E-4D5B-B537-C8B3EDE9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B01-5188-4D0F-A221-3CA13C72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199-613C-476D-AB9F-20C8DC9F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3FFE-9E4B-4CA7-BB1B-A3452F26D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pril 8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27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ords with /ou/ ow, 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0"/>
            <a:ext cx="7315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Vowel Diphthong /ou/ow, 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1143000"/>
            <a:ext cx="876312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d said, “It does no good t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o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and I can g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d and I walked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rou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fa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saw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rown co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I saw a pink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o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a bi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no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oud sou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t mad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gave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ho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WO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forgot what had made m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o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c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d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ea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sw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e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sh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6"/>
          <p:cNvSpPr/>
          <p:nvPr/>
        </p:nvSpPr>
        <p:spPr>
          <a:xfrm>
            <a:off x="6378120" y="6458040"/>
            <a:ext cx="27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story elements as a tool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y Elements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57200"/>
            <a:ext cx="8991720" cy="65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Remember that a story has characters, a setting, and a plot with a beginning, middle, and end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ll Done, Y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ac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t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gin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dd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Ebb and Flo and the Baby Se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Charac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Set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Begin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Midd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E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62160" y="114300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ad “Fellini the Fur Sea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41529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e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lonesome, you feel lonely and want company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lonesom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5181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irl wa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nes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out her frie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1143000"/>
            <a:ext cx="8763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Sometimes I get lonesome when my family is away, so I call a friend. In one voice answer, when you get lonesome would you rather sit around or find something fun to do by yoursel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talk with your partner about what you do when you feel lones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*When I’m lonesome, I 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la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elated, you are very happy and excited about something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4800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by wa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a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 of his new teddy b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3886200" cy="277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914400"/>
            <a:ext cx="84582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I would be elated if I were to win a game.  Answer in one voice, would you be more elated if it were your birthday or if it were your friend’s birth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how how you might look if you were el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could be a sea animal, which one would you be? Tell w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’d be a __________ because 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something seems hopeless, you feel as if there is no chance that what you want to happen will happ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hopeles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5257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ing the game seem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pel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w that they had an injured play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36232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990720"/>
            <a:ext cx="87631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Learning to skateboard would seem hopeless if I fell every time. Answer in one voice, If learning to do something seems hopeless, are you likely to keep trying or to give u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Turn and talk with your partner about what you would say to a friend who feels hopeles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am, is, and are in sentence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371600"/>
            <a:ext cx="7620120" cy="40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What We Are Doing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itting at my desk Joan is getting a pencil.  Miss clark’s class is going to the lunchroom.  You are teaching us about verbs.  I are standing up now.  she is answering a question.  They is helping.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Using Am, is, and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7621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et’s fix the mistak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685800"/>
            <a:ext cx="6324840" cy="49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Book Re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title and the author of the book are gi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review tells what the book is abou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tells what I think about the boo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7086600" y="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words that add color and interest to writing. To write a book revie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57200" y="274680"/>
            <a:ext cx="80773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small picture of your favorite part of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t is the Win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rite a book review about it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7086600" y="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7086600" y="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words that add color and interest to writing. To write a book revie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7086600" y="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words that add color and interest to writing. To write a book revie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80880"/>
            <a:ext cx="69343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It Is the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By Ferida Wol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ome noises wake a boy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e is curious about wh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oises are. It was fun f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out what each sound was.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Liked the rhythm of the words.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respond to a poem through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600200" y="0"/>
            <a:ext cx="56386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Way Down D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00200"/>
            <a:ext cx="85345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derneath the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y down de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and and stones and seaw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rfish cre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ails inch slow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ysters sle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derneath the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y down de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09588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*Let’s sing to the tune of “I’m a Little Teapo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477120" y="3581280"/>
            <a:ext cx="230508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33720" y="228600"/>
            <a:ext cx="5181480" cy="65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sw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sh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086600" y="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make new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143000"/>
            <a:ext cx="777240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honemic Awarenes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95280" y="3200400"/>
            <a:ext cx="632484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honeme Deletio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l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m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i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u/ ow, ou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914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914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600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600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438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24382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32767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41148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41148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48769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914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16002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1600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24382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2438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32767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1148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4114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41148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48769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4876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4876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5715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57150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5715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5715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0"/>
            <a:ext cx="19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914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17524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1752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914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1752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2666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26668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26668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26668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3581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3581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5812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u/ ow, ou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4-08T02:06:35Z</dcterms:modified>
  <cp:revision>152</cp:revision>
  <dc:subject/>
  <dc:title>Slide 1</dc:title>
</cp:coreProperties>
</file>