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0DD-255B-40BA-971E-E45C4D8F7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0CDD-6668-46D3-BC26-F90C8273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D7A2-BE84-41EA-B742-002CB8CF7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F258-E54E-4F26-A01E-0D6FD7DB5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DD0A-5A15-4881-9977-A93B366B1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4B15-F2CB-4859-81C3-2AA6E1F32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DAA-2356-4B36-A839-3092EAA4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A54-A030-4E71-8838-379C1DE0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565-A4B0-4163-9BE2-B6AC3B91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4E7-B7C6-4ECF-B5C1-C23D74AF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07A6-C0D3-42C6-A3F8-B2463358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2441-8E47-4AC7-8176-B00A8EFA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DD44-1478-4AC0-9CF1-3CE78CED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191A-7B27-4ABF-AF6B-AB25358F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0889-8983-4DCD-B913-B2ACD5E3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D67E-3398-45C8-913E-E1874B18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2AA-A8AD-47FD-A782-D62AA9B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3E2-3D92-4DCF-A86B-48577B64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238C-529F-46BD-B0FA-9738312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EB54-CF52-4FF2-859D-AC0660C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EBDD-B8C0-456C-B737-94D8B6ED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7197-13F6-4542-ACC0-06DC459F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E403-4E97-4FA5-B161-629239D7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08B11-1319-425D-9F67-1739418D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603D-9D63-4CCB-82DE-B2A09155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5A52-388E-4D65-A876-B3B987C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A053-5C02-4862-ACD0-8C93CF8B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B9C7-A78B-4651-B351-9BA5E3B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0EE-CC56-4A44-8163-0CCF5859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1EB1-7812-4EA2-8C8D-823793D8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31B9-F84B-46B2-8C26-DE89C69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FA85-BF96-4213-915C-986F45F5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0193-02CA-46B2-965E-35C81AB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57DAC-2316-4761-B174-E816E2A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4644-4470-4E9B-9C22-A41D763B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E511-05C4-4DF9-AEF4-3D797899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C36-E2B8-4DD8-84E4-EF9FADE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B19-8BFB-42D4-A4EC-F92166EF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71E-5F37-44E3-948F-9C73EDE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B65-6C89-48A1-B2A9-B13CF79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A1D-EBEB-4039-B0E0-7DB1866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BE8-4004-43D3-8D3B-87258D7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2E50-34F0-47B3-805B-B291E0B60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822-C92B-4E95-8F1B-CFB6C7A3E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DD89-6EE3-4256-9107-82FDB1926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-371520" y="-201600"/>
            <a:ext cx="990612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/ar/ /o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marke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a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ha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k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o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stor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13680" y="594360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ar/, /or/, 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66"/>
          <p:cNvSpPr/>
          <p:nvPr/>
        </p:nvSpPr>
        <p:spPr>
          <a:xfrm>
            <a:off x="3505320" y="2590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297180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3429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4267080" y="91440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86"/>
          <p:cNvSpPr/>
          <p:nvPr/>
        </p:nvSpPr>
        <p:spPr>
          <a:xfrm>
            <a:off x="3886200" y="5715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87"/>
          <p:cNvSpPr/>
          <p:nvPr/>
        </p:nvSpPr>
        <p:spPr>
          <a:xfrm>
            <a:off x="4572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4876920" y="5715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3"/>
          <p:cNvSpPr/>
          <p:nvPr/>
        </p:nvSpPr>
        <p:spPr>
          <a:xfrm>
            <a:off x="46483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96"/>
          <p:cNvSpPr/>
          <p:nvPr/>
        </p:nvSpPr>
        <p:spPr>
          <a:xfrm>
            <a:off x="43434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98"/>
          <p:cNvSpPr/>
          <p:nvPr/>
        </p:nvSpPr>
        <p:spPr>
          <a:xfrm>
            <a:off x="3505320" y="342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99"/>
          <p:cNvSpPr/>
          <p:nvPr/>
        </p:nvSpPr>
        <p:spPr>
          <a:xfrm>
            <a:off x="4267080" y="3429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0"/>
          <p:cNvSpPr/>
          <p:nvPr/>
        </p:nvSpPr>
        <p:spPr>
          <a:xfrm>
            <a:off x="46483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03"/>
          <p:cNvSpPr/>
          <p:nvPr/>
        </p:nvSpPr>
        <p:spPr>
          <a:xfrm>
            <a:off x="426708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05"/>
          <p:cNvSpPr/>
          <p:nvPr/>
        </p:nvSpPr>
        <p:spPr>
          <a:xfrm>
            <a:off x="457200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6"/>
          <p:cNvSpPr/>
          <p:nvPr/>
        </p:nvSpPr>
        <p:spPr>
          <a:xfrm>
            <a:off x="525780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07"/>
          <p:cNvSpPr/>
          <p:nvPr/>
        </p:nvSpPr>
        <p:spPr>
          <a:xfrm>
            <a:off x="556272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3886200" y="4876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11"/>
          <p:cNvSpPr/>
          <p:nvPr/>
        </p:nvSpPr>
        <p:spPr>
          <a:xfrm>
            <a:off x="4572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12"/>
          <p:cNvSpPr/>
          <p:nvPr/>
        </p:nvSpPr>
        <p:spPr>
          <a:xfrm>
            <a:off x="487692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1" descr=""/>
          <p:cNvPicPr/>
          <p:nvPr/>
        </p:nvPicPr>
        <p:blipFill>
          <a:blip r:embed="rId1"/>
          <a:stretch/>
        </p:blipFill>
        <p:spPr>
          <a:xfrm>
            <a:off x="-6480" y="469800"/>
            <a:ext cx="9169560" cy="654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15228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substitute phonemes in the initial position to make new words; to add phonemes to make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t’s change some sounds to make new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it to /s/ and the new word is 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arn to a /y/ and the new word is y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c/ in cool to a /p/ and the new word is p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ust to a /m/ and the new word is m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rn to a /t/ and the new word is 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f/ in fight to a /t/ and the new word is t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id to a /b/ and the new word is b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rush to a /c/ and the new word is cr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t/ in turn to a /b/ and the new word is b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l/ in lock to a /d/ and the new word is d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nny to a /f/ and the new word is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h/ in hint to a /m/ and the new word is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9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0"/>
            <a:ext cx="9067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Calibri"/>
              </a:rPr>
              <a:t>Sung to the tune “The Wheels on the Bu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end of cook, end of c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and find the new word – cook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dirt – di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sit –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t/ to the end of go – g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s/ to the end of art –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p/ to the end of she – sh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r/ to the end of teach –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red – re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fun –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f/ to the end of scar - sca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inflectional forms of –ed, -es, -er, and –est with spelling changes; To recognize root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380880" y="8380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We are going to do some more phoneme addition with ending sounds.  We will be adding –ed, -er, -es, and –est to words to make new wo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28600" y="32767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s = hur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d = 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r = fun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st = funni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en a word ends in y, the y is changed to an i before adding –ed, -er, -est, or –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762120"/>
          <a:ext cx="8686800" cy="43434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-er      +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 -est       +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0" y="38088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hurri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pring Street was the long w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Kate to walk on Main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a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ick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 to get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knew that York Street was t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astest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, but 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os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made it hom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than she had thought it would 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n she 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erries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a sn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6320" y="152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4876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-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 -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-6480" y="438120"/>
            <a:ext cx="9156960" cy="1774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04920" y="14479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0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363240" cy="4584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76320" y="228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express personal preferences; to follow simple dir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04920" y="1522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52280" y="609480"/>
            <a:ext cx="8763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46160" y="743040"/>
            <a:ext cx="8474040" cy="3122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380880" y="32004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Details are little bits of information about a character, place, or event in a st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0" y="152280"/>
            <a:ext cx="914400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e are going to reread the stor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Here in Space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  There are many details in this story.  As I read, be listening for these detail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ere does the boy l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ow does the author feel about sp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the Crayon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r. Kim, 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he red crayon, Ke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New Cat saves the factory with spilled to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rayons are made at a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acts about Earth and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ight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y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 the Bron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a crayon factory, at Kelly’s 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 Earth and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anticip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mer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vib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nticipate a party, you look forward to it.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nticipate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layer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ticip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all going in the go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0" name="Content Placeholder 3" descr="anticipate.jpg"/>
          <p:cNvPicPr/>
          <p:nvPr/>
        </p:nvPicPr>
        <p:blipFill>
          <a:blip r:embed="rId3"/>
          <a:stretch/>
        </p:blipFill>
        <p:spPr>
          <a:xfrm>
            <a:off x="457200" y="2362320"/>
            <a:ext cx="472428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28600" y="838080"/>
            <a:ext cx="86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 will name some places.  If you would anticipate going there I want you to raise your hand.  If not I want you to shake your head n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birthday par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grocery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doctor’s off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friend’s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2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mer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numerous toys, you have many toys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57200" y="4800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umerou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ys collected to give away to a needy fam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Content Placeholder 3" descr="numerous.jpg"/>
          <p:cNvPicPr/>
          <p:nvPr/>
        </p:nvPicPr>
        <p:blipFill>
          <a:blip r:embed="rId1"/>
          <a:stretch/>
        </p:blipFill>
        <p:spPr>
          <a:xfrm>
            <a:off x="380880" y="1746360"/>
            <a:ext cx="441972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52280" y="152280"/>
            <a:ext cx="8686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I will name some things.  If there are numerous of these in our classroom raise your hand.  If not do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c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ac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halkbo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pu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9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4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4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r shirt is vibrant, it has bright or bold color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vibran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60948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lowers 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ibr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lo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3" descr="vibrant%20cuts%20300.jpg"/>
          <p:cNvPicPr/>
          <p:nvPr/>
        </p:nvPicPr>
        <p:blipFill>
          <a:blip r:embed="rId1"/>
          <a:stretch/>
        </p:blipFill>
        <p:spPr>
          <a:xfrm>
            <a:off x="609480" y="1600200"/>
            <a:ext cx="3810240" cy="363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at is your favorite color to wea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to your partner to complete the following 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My favorite color to wear is 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04920" y="0"/>
            <a:ext cx="845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will describe three different things.  If I describe something that is vibrant then you should say, “Now, that is vibrant!”  If it is not something vibrant then you should say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bright orange bo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dull gray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very colorful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5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920" y="30492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nswer in one voice by saying vibrant or d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f you are properly coloring a picture of the sun, are you using vibrant colors or dull col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f you arrived at school and found out that you had numerous test to take, would you be excited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f a familiar movie star were planning a visit to your house, would you anticipate his or her arrival?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Identify and use verbs that tell about the pa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28600" y="11430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 at the book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ed at the book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 my dad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ed my dad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8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380880" y="0"/>
            <a:ext cx="8305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ich one of these sentences show a verb that is in the pa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ing crawled up to the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ack jumps up and d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Keesha plays the vio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y dog bar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 looked at the rainb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e walked to the sw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5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5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20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28600" y="380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write a how-to para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52280" y="838080"/>
            <a:ext cx="861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w-to Para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ives directions in ord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entences should be written clear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cludes words such as first, next, after, and la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7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52280" y="6094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ow to wash a do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ere’s how to wash a dog. First, fill a tub with water. Next, put the dog in and wash him. Then, rinse the dog off with clean water. Last, use a towel to dry the do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8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5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434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8991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at is your favorite type of bi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_________ are my favorite birds.  I like them because 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7632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spond to a poem through movement; to do a choral response to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6858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oday we are going to read a poem called “Molly Day’s Colors.”  I want you to listen as I read it first.  On the second time I would like for you to read it with me.  I will divide you up into two groups and we will read it in different parts.  Remember to read the poem with rhyth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8839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Molly Day’s Col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wears yellow cloth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finches flutter by her toe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she’s in her bright blue gown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eacocks trail her through the t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is dressed in red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ummingbirds surround her head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but when she wears her suit of gray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no one follows Moll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5228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146160" y="165240"/>
            <a:ext cx="877248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0" y="11430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alibri"/>
              </a:rPr>
              <a:t>/ir/ /ur/ /e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hirs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shi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hu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i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ch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pur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313680" y="611964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ir/, /ur/, /er/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50:57Z</dcterms:created>
  <dc:creator>lara colleen mangham</dc:creator>
  <dc:description/>
  <dc:language>en-US</dc:language>
  <cp:lastModifiedBy>lara colleen mangham</cp:lastModifiedBy>
  <dcterms:modified xsi:type="dcterms:W3CDTF">2009-04-17T01:39:31Z</dcterms:modified>
  <cp:revision>18</cp:revision>
  <dc:subject/>
  <dc:title>Slide 1</dc:title>
</cp:coreProperties>
</file>