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9596-C0A6-45C7-90AC-E4DB4CAD1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38BA-7887-409A-A607-FD263E81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C811-2DFA-4887-96B9-B4109500B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3EFE-EE4B-4A2D-8657-285008106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CD2B-2C12-4F5A-8B27-2170AACE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4DD0-E9D6-4741-8103-55329588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9F5E-9306-4BA4-BE5C-4B980A98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5A02-1F22-4BDE-BAF7-77B0A49E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E601-D5E6-445C-A6E3-FC4B9E80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092E-9FBC-4AB6-B05B-54042D53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3110-AF8A-40C2-958A-A8D430E6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FE87-5774-406C-838C-8BACC5A5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82E5-C2E4-4DD1-BAF6-086CC62A4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pril 20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29, Da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When called go to your seat and label the paper with your name and dat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It’s time to take our spelling pre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ntractions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04760" y="1066320"/>
            <a:ext cx="55623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on’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on’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uldn’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houldn’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aven’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idn’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ren’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et’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’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ong U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4760" y="1066320"/>
            <a:ext cx="55623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ut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ub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ut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u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u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Ju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uk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u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/J/ ge, dge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04760" y="1066320"/>
            <a:ext cx="55623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ed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ed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ed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ed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ar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r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ad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ud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u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Constantia"/>
              </a:rPr>
              <a:t>Shelly digs with her new too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nstantia"/>
              </a:rPr>
              <a:t>Shelly wears boo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mb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lmo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ou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re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ea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2880" y="1143000"/>
            <a:ext cx="4191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’s Rea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New Room by the Sea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alled go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first rota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52280" y="2362320"/>
            <a:ext cx="556272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9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4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9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4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9" dur="2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4" dur="20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9" dur="2000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summariz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28600" y="1523880"/>
          <a:ext cx="8763120" cy="4800600"/>
        </p:xfrm>
        <a:graphic>
          <a:graphicData uri="http://schemas.openxmlformats.org/drawingml/2006/table">
            <a:tbl>
              <a:tblPr/>
              <a:tblGrid>
                <a:gridCol w="2894040"/>
                <a:gridCol w="2813040"/>
                <a:gridCol w="305604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80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luenc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fluently in a manner that sounds like natural speec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00200" y="2590920"/>
            <a:ext cx="6095880" cy="4070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85800" y="1523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“A New Room by the Sea” with a partn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to four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523880" y="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ad Alou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20120" y="0"/>
            <a:ext cx="152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 To set a purpose for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9144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Ugly Vegetables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85800" y="1735200"/>
            <a:ext cx="746748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amazes you about the planet Earth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think _______ is amaz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g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k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es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5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bcBulletin"/>
              </a:rPr>
              <a:t>wriggle</a:t>
            </a: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Content Placeholder 3" descr="silk-wriggle.jpg"/>
          <p:cNvPicPr/>
          <p:nvPr/>
        </p:nvPicPr>
        <p:blipFill>
          <a:blip r:embed="rId1"/>
          <a:stretch/>
        </p:blipFill>
        <p:spPr>
          <a:xfrm>
            <a:off x="4343400" y="914400"/>
            <a:ext cx="3657600" cy="49957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rigg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you move your body back and forth, as you do when you are squirm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wrig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irls sees worm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rigg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di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omeone is holding you, you migh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rigg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get awa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anted a dog to stop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riggl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ould you ask him to sit still or bounce up and down?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bcBulletin"/>
              </a:rPr>
              <a:t>prickly</a:t>
            </a:r>
            <a:br>
              <a:rPr sz="40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omething that is</a:t>
            </a:r>
            <a:r>
              <a:rPr b="0" lang="en-US" sz="2900" spc="-1" strike="noStrike">
                <a:solidFill>
                  <a:srgbClr val="ff0000"/>
                </a:solidFill>
                <a:latin typeface="Arial"/>
              </a:rPr>
              <a:t> prickly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s sharp and hurts to touch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Content Placeholder 3" descr="prickly-pear-cactus.jpg"/>
          <p:cNvPicPr/>
          <p:nvPr/>
        </p:nvPicPr>
        <p:blipFill>
          <a:blip r:embed="rId1"/>
          <a:stretch/>
        </p:blipFill>
        <p:spPr>
          <a:xfrm>
            <a:off x="1066680" y="1600200"/>
            <a:ext cx="693432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prick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17521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tem of some vegetables are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prick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I touch something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prick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I might say “Ouch!” and pull my hand away quick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cactus or a daisy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prick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  How do you know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5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bcBulletin"/>
              </a:rPr>
              <a:t>interested</a:t>
            </a:r>
            <a:br>
              <a:rPr sz="1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Content Placeholder 3" descr="interested.jpg"/>
          <p:cNvPicPr/>
          <p:nvPr/>
        </p:nvPicPr>
        <p:blipFill>
          <a:blip r:embed="rId1"/>
          <a:srcRect l="25690" t="0" r="0" b="0"/>
          <a:stretch/>
        </p:blipFill>
        <p:spPr>
          <a:xfrm>
            <a:off x="4265640" y="1447920"/>
            <a:ext cx="4579920" cy="43434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you ar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ntereste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n something, you want to do it or learn more about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interes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irl’s neighbors were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intereste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trading their flowers for some of her mother’s sou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I am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intereste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something, I want to do it or learn more about i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uld you be more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intereste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learning about spaceships or paper clip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Vocabulary Practice/App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my signal, pretend to be a worm and wriggle in the dir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my signal, turn to your partner and tell about a vegetable you are NOT interested in try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0" y="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e use of was and w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609480"/>
            <a:ext cx="8991720" cy="73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y mother was planting vegetabl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neighbors were planting flower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893960" y="0"/>
            <a:ext cx="535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participate in a choral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0"/>
            <a:ext cx="480060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Constantia"/>
              </a:rPr>
              <a:t>Here in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4952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238880" y="0"/>
            <a:ext cx="190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the use of was and w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219320"/>
            <a:ext cx="8381880" cy="56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_______ was on the shelf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_______ were under the desk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001000" y="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e purpose of a s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920960" y="0"/>
            <a:ext cx="5302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04920" y="152280"/>
            <a:ext cx="8839080" cy="78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S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It has a tit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It has a character and a sett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It has a beginning, middle, and en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It has a plo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storm Story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m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sh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ou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memb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10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blend phonemes into recognizable wor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228960" y="12189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nd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72428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391520" y="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and generate the s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f /o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7620120" cy="24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Vowel Variant /o0/ oo, 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405080"/>
            <a:ext cx="3124080" cy="61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When I say a word that has /oo/ in the middle, give a thumbs up sign. When I say a word that does not have /oo/ in the middle, keep your hands on your la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When I say a word that has /oo/ at the end, give a thumbs up sign. When I say a word that does not have /oo/ in the at the end, keep your hands on your la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52280" y="1701720"/>
            <a:ext cx="57913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580920" y="1143000"/>
            <a:ext cx="838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oo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14800" y="1143000"/>
            <a:ext cx="1295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91120" y="19810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57600" y="1981080"/>
            <a:ext cx="838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1143000"/>
            <a:ext cx="1371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81280" y="2743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274320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2743200"/>
            <a:ext cx="19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33920" y="35812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3581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358128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66520" y="1294920"/>
            <a:ext cx="221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oo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657600" y="1295280"/>
            <a:ext cx="1523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8120" y="213372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19720" y="12952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72200" y="34290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57600" y="2133720"/>
            <a:ext cx="838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213372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213372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297180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9880" y="297180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24280" y="2971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29000" y="4724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38862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733920" y="388620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48320" y="38862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72428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54864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4864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5486400"/>
            <a:ext cx="220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 </cp:lastModifiedBy>
  <dcterms:modified xsi:type="dcterms:W3CDTF">2009-04-19T21:59:28Z</dcterms:modified>
  <cp:revision>189</cp:revision>
  <dc:subject/>
  <dc:title>Slide 1</dc:title>
</cp:coreProperties>
</file>