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DEC-DCF4-4008-BB03-86F05245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5E26-DDE8-4140-95DC-C1584109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D5E-51C1-4AD7-9A38-C9B26B36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D74-3DB5-4CA2-9D5C-05DC9591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95A-79EF-47A1-9499-18613FB3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291-AB27-4CD0-AA1C-9AB7852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CD2-1008-48C1-8725-621249F8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ECB-6BFB-4EBD-962C-6CA8B3D8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4AD-454E-4FCA-898A-FE8D8243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458-8399-433B-AD50-273641F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599-7FBF-4BA2-9807-A7A818F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EB0-2702-4E39-B2EF-25792FFA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0F73-09D3-442C-8569-B3E47E12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nstantia"/>
              </a:rPr>
              <a:t>Shelly digs with her new to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nstantia"/>
              </a:rPr>
              <a:t>Shelly wears boo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 Room by the Se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A New Room by the Sea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Ugly Vegetable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735200"/>
            <a:ext cx="7467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mazes you about the planet Ear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think _______ is ama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sees worm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d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is holding you, you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et a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a dog to stop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ould you ask him to sit still or bounce up and down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m of some vegetables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touch someth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 might say “Ouch!” and pull my hand away quick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actus or a dais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How do you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irl’s neighbors we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rading their flowers for some of her mother’s s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am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, I want to do it or learn more about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be mo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learning about spaceships or paper cl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pretend to be a worm and wriggle in the d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about a vegetable you are NOT interested in try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99172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mother was planting vegetab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neighbors were planting flow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3960" y="0"/>
            <a:ext cx="53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articipate in a choral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219320"/>
            <a:ext cx="838188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as on the shel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ere under the de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Story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into recognizable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724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405080"/>
            <a:ext cx="3124080" cy="61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in the middle, give a thumbs up sign. When I say a word that does not have /oo/ in the middle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at the end, give a thumbs up sign. When I say a word that does not have /oo/ in the at the end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19T21:59:28Z</dcterms:modified>
  <cp:revision>189</cp:revision>
  <dc:subject/>
  <dc:title>Slide 1</dc:title>
</cp:coreProperties>
</file>