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6C59-2662-4173-9170-24D66B509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8547-CA2A-4B6C-84B9-5CDDB2BFF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2E71-BD29-4487-BCC8-4D968619C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AE7A-8650-468F-A3E0-0426DBD8F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E0DE-6F18-4FF5-975F-CE47A4555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EEA4-EA95-426E-BC66-E0CCAE0B8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D85A-B7A8-472C-BD4D-F8D7254C5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3E9A-F1BB-4D5F-B748-ED4732371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0070-DFAB-483A-8C9C-99F7ADAD5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5458-7165-4919-B635-F117E1707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F0F9-ECD3-4C4E-87BA-0A0418E36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0BF0-3B7D-441E-A619-F0018556F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E54A-482B-4A8C-843D-FB0D648D7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03C5-8900-4387-895D-E77EB245C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038C-F2B9-42C9-B7DA-F5CC9E072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0B17-12F0-408D-83F7-D5E97B971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6C13-ADAB-470F-9FB0-D6DC5BE71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C4A7-D56C-4966-B6CB-324ED76D8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5B6B-6104-4DBF-AC49-86578A413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8CFF-8AAD-4DE9-BD35-B8626F2D3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5D91-6131-481E-BA91-91E842F54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5EB7-67EE-4890-8891-88D911FF9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03CC-A685-4E14-8316-957452B2E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8791-83F9-464C-8AD5-109CB9C60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5418-DEA9-4AAB-94B8-2C84F80AA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662B-1A83-4C51-AFA6-1B52E49E9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5008-92AB-49CC-BD03-9072C40BF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6DF4-6FEC-47D4-8393-457489A17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C9CF-36C6-4D47-9695-1A5210BE5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CB6F-DE0A-4D79-8AA6-416C478B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8779-DD0A-497F-AB8B-9C957666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2E1-461D-4907-BC6A-2ABCFCEC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C6F4-77A2-4E41-95A6-1AB0EA33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998-A6FF-4719-AE42-0D7F1EA4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651-09BC-41D8-86B6-481EA8D4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E8D-DEB6-40CB-B7AC-360985CD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8E5-8F78-4CC3-8BC9-EFEFA547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0B60-BFD3-44B4-BD4A-36AB3376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311D-F9D8-4620-A083-E1ED2524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6F94-B34E-4911-95CF-287D8604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A180-AFA9-4E80-8299-03A4A35C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65FC-7BE5-408C-A5B2-FFF448262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ril 2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9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2210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657600" y="129528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048120" y="21337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419720" y="12952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61722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657600" y="21337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572000" y="21337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3733920" y="21337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352680" y="29718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3809880" y="297180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724280" y="2971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342900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3276720" y="3886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3733920" y="38862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4648320" y="3886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3962520" y="47242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3429000" y="5486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3886200" y="5486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4191120" y="54864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tractions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43400" y="1066320"/>
            <a:ext cx="3581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o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ul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houl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ve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e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1230120" y="1143000"/>
            <a:ext cx="2291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ld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uld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d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7"/>
          <p:cNvCxnSpPr/>
          <p:nvPr/>
        </p:nvCxnSpPr>
        <p:spPr>
          <a:xfrm flipV="1">
            <a:off x="2971800" y="1447200"/>
            <a:ext cx="2194560" cy="9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Straight Arrow Connector 9"/>
          <p:cNvCxnSpPr/>
          <p:nvPr/>
        </p:nvCxnSpPr>
        <p:spPr>
          <a:xfrm flipV="1">
            <a:off x="2895120" y="1980720"/>
            <a:ext cx="219492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0"/>
          <p:cNvCxnSpPr/>
          <p:nvPr/>
        </p:nvCxnSpPr>
        <p:spPr>
          <a:xfrm flipV="1">
            <a:off x="3200400" y="2514240"/>
            <a:ext cx="219456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Straight Arrow Connector 11"/>
          <p:cNvCxnSpPr/>
          <p:nvPr/>
        </p:nvCxnSpPr>
        <p:spPr>
          <a:xfrm flipV="1">
            <a:off x="3505320" y="3123720"/>
            <a:ext cx="219456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Straight Arrow Connector 12"/>
          <p:cNvCxnSpPr/>
          <p:nvPr/>
        </p:nvCxnSpPr>
        <p:spPr>
          <a:xfrm flipV="1">
            <a:off x="3048120" y="3657240"/>
            <a:ext cx="221040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14"/>
          <p:cNvCxnSpPr/>
          <p:nvPr/>
        </p:nvCxnSpPr>
        <p:spPr>
          <a:xfrm>
            <a:off x="2895480" y="4282920"/>
            <a:ext cx="2286720" cy="6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5"/>
          <p:cNvCxnSpPr/>
          <p:nvPr/>
        </p:nvCxnSpPr>
        <p:spPr>
          <a:xfrm>
            <a:off x="2895120" y="4816440"/>
            <a:ext cx="2210760" cy="6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7"/>
          <p:cNvCxnSpPr/>
          <p:nvPr/>
        </p:nvCxnSpPr>
        <p:spPr>
          <a:xfrm flipV="1">
            <a:off x="2743200" y="5409720"/>
            <a:ext cx="221040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Straight Arrow Connector 18"/>
          <p:cNvCxnSpPr/>
          <p:nvPr/>
        </p:nvCxnSpPr>
        <p:spPr>
          <a:xfrm>
            <a:off x="2971800" y="5959440"/>
            <a:ext cx="2210400" cy="6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TextBox 23"/>
          <p:cNvSpPr/>
          <p:nvPr/>
        </p:nvSpPr>
        <p:spPr>
          <a:xfrm>
            <a:off x="7016040" y="6248520"/>
            <a:ext cx="2122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read and identif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actions and their origi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ng U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ub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u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u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uk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7083360" y="0"/>
            <a:ext cx="192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read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 “u_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ng A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i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a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a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la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359480" y="0"/>
            <a:ext cx="1779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read wor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aining long 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My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oots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 are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new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You need to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chew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 your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food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I must hurry to get home by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noon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Tom has a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new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tooth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Soon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 a bean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grew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 from the se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381960" y="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rea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4191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50"/>
                </a:solidFill>
                <a:latin typeface="Arial"/>
              </a:rPr>
              <a:t>tow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Arial"/>
              </a:rPr>
              <a:t>bo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welcom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Arial"/>
              </a:rPr>
              <a:t>build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Arial"/>
              </a:rPr>
              <a:t>tomorr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4476600" y="1066680"/>
            <a:ext cx="4584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Guess my wor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hich word is the opposite of “girl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hich word is the opposite of “away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hich word means “the day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today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hich word means “making something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Content Placeholder 3" descr="Deep%20Sea%20Fishing.jpg"/>
          <p:cNvPicPr/>
          <p:nvPr/>
        </p:nvPicPr>
        <p:blipFill>
          <a:blip r:embed="rId1"/>
          <a:stretch/>
        </p:blipFill>
        <p:spPr>
          <a:xfrm>
            <a:off x="1752480" y="1371600"/>
            <a:ext cx="5715000" cy="3784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Details are bits of information.  They answer questions like who, what, where, and w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442160" y="5334120"/>
            <a:ext cx="66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What details can we learn from this picture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Who?  What?  Where? 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952880" y="762120"/>
            <a:ext cx="4191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Re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nd Castl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3" descr="MPj04392950000[1]"/>
          <p:cNvPicPr/>
          <p:nvPr/>
        </p:nvPicPr>
        <p:blipFill>
          <a:blip r:embed="rId1"/>
          <a:stretch/>
        </p:blipFill>
        <p:spPr>
          <a:xfrm>
            <a:off x="380880" y="304920"/>
            <a:ext cx="507528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28600" y="1523880"/>
          <a:ext cx="8763120" cy="480060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g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k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nstantia"/>
              </a:rPr>
              <a:t>Why do you like to play in the san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play in the sand because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wriggle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Content Placeholder 3" descr="silk-wriggle.jpg"/>
          <p:cNvPicPr/>
          <p:nvPr/>
        </p:nvPicPr>
        <p:blipFill>
          <a:blip r:embed="rId1"/>
          <a:stretch/>
        </p:blipFill>
        <p:spPr>
          <a:xfrm>
            <a:off x="4343400" y="914400"/>
            <a:ext cx="3657600" cy="4995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g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move your body back and forth, as you do when you are squi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bcBulletin"/>
              </a:rPr>
              <a:t>wriggl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/T:  What animal might be able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g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 of your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5707080" y="152280"/>
            <a:ext cx="337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bcBulletin"/>
              </a:rPr>
              <a:t>prickly</a:t>
            </a:r>
            <a:br>
              <a:rPr sz="3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hing that is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prickl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sharp and hurts to tou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Content Placeholder 3" descr="prickly-pear-cactus.jpg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bcBulletin"/>
              </a:rPr>
              <a:t>prickl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/T:  Name a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rick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im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/T:  Name an animal th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no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rick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6028920" y="152280"/>
            <a:ext cx="2869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discussing ideas and situa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bcBulletin"/>
              </a:rPr>
              <a:t>interested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Content Placeholder 3" descr="interested.jpg"/>
          <p:cNvPicPr/>
          <p:nvPr/>
        </p:nvPicPr>
        <p:blipFill>
          <a:blip r:embed="rId1"/>
          <a:srcRect l="25690" t="0" r="0" b="0"/>
          <a:stretch/>
        </p:blipFill>
        <p:spPr>
          <a:xfrm>
            <a:off x="4265640" y="1447920"/>
            <a:ext cx="4579920" cy="4343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ar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teres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something, you want to do it or learn more about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bcBulletin"/>
              </a:rPr>
              <a:t>intereste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w me how your face and body look when you ar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nterest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someth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6181560" y="152280"/>
            <a:ext cx="2681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by discussing ideas and situa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the use of was and w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57200" y="1219320"/>
            <a:ext cx="8381880" cy="74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r lunch ____ in a box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r sandwiches _____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fferent kind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160640" y="15228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oose “was” or “wer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6"/>
          <p:cNvSpPr/>
          <p:nvPr/>
        </p:nvSpPr>
        <p:spPr>
          <a:xfrm>
            <a:off x="304920" y="152280"/>
            <a:ext cx="8839080" cy="78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S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character and a sett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beginning, middle, and 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plo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haroni"/>
                <a:ea typeface="Aharoni"/>
              </a:rPr>
              <a:t>Make a Sto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haroni"/>
                <a:ea typeface="Aharoni"/>
              </a:rPr>
              <a:t>Who will the characters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haroni"/>
                <a:ea typeface="Aharoni"/>
              </a:rPr>
              <a:t>What is the set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haroni"/>
                <a:ea typeface="Aharoni"/>
              </a:rPr>
              <a:t>What will happen at the begin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haroni"/>
                <a:ea typeface="Aharoni"/>
              </a:rPr>
              <a:t>What will happen in the midd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haroni"/>
                <a:ea typeface="Aharoni"/>
              </a:rPr>
              <a:t>What will happen at the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7213320" y="0"/>
            <a:ext cx="16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plan a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responsively to a po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In the S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7" descr="MPj04332400000[1]"/>
          <p:cNvPicPr/>
          <p:nvPr/>
        </p:nvPicPr>
        <p:blipFill>
          <a:blip r:embed="rId1"/>
          <a:stretch/>
        </p:blipFill>
        <p:spPr>
          <a:xfrm>
            <a:off x="2752560" y="1600200"/>
            <a:ext cx="3714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u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This Week’s Sigh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47560" y="13716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o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elc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6105240" y="1523880"/>
            <a:ext cx="1486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k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segment words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o phone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gme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3" descr="C:\Program Files\Microsoft Office\MEDIA\CAGCAT10\j0335112.wmf"/>
          <p:cNvPicPr/>
          <p:nvPr/>
        </p:nvPicPr>
        <p:blipFill>
          <a:blip r:embed="rId1"/>
          <a:stretch/>
        </p:blipFill>
        <p:spPr>
          <a:xfrm>
            <a:off x="4876920" y="2362320"/>
            <a:ext cx="26859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7391520" y="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f /o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0" y="0"/>
            <a:ext cx="762012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Vowel Variant /o0/ oo, 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2"/>
          <p:cNvSpPr/>
          <p:nvPr/>
        </p:nvSpPr>
        <p:spPr>
          <a:xfrm>
            <a:off x="6019920" y="762120"/>
            <a:ext cx="3124080" cy="76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member, this week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ound is “oo,” which c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e spelled with “oo”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w.”  Here are 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h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sh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g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5" descr="MPj04309120000[1]"/>
          <p:cNvPicPr/>
          <p:nvPr/>
        </p:nvPicPr>
        <p:blipFill>
          <a:blip r:embed="rId1"/>
          <a:stretch/>
        </p:blipFill>
        <p:spPr>
          <a:xfrm>
            <a:off x="152280" y="1701720"/>
            <a:ext cx="57913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0920" y="1143000"/>
            <a:ext cx="8384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114800" y="1143000"/>
            <a:ext cx="1295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191120" y="19810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657600" y="19810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800600" y="11430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358128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4038480" y="27432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6"/>
          <p:cNvSpPr/>
          <p:nvPr/>
        </p:nvSpPr>
        <p:spPr>
          <a:xfrm>
            <a:off x="4343400" y="274320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8"/>
          <p:cNvSpPr/>
          <p:nvPr/>
        </p:nvSpPr>
        <p:spPr>
          <a:xfrm>
            <a:off x="3733920" y="3581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0"/>
          <p:cNvSpPr/>
          <p:nvPr/>
        </p:nvSpPr>
        <p:spPr>
          <a:xfrm>
            <a:off x="403848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1"/>
          <p:cNvSpPr/>
          <p:nvPr/>
        </p:nvSpPr>
        <p:spPr>
          <a:xfrm>
            <a:off x="4343400" y="35812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janice</cp:lastModifiedBy>
  <dcterms:modified xsi:type="dcterms:W3CDTF">2009-04-20T23:50:55Z</dcterms:modified>
  <cp:revision>229</cp:revision>
  <dc:subject/>
  <dc:title>Slide 1</dc:title>
</cp:coreProperties>
</file>