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AA3-593A-4836-BC70-BC96A2F2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311F-6050-4DE3-B638-DFB8CAC51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2A4-68F7-4BB2-9A1B-CFA89FF44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A48E-676D-4E39-A6DE-8A035B53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383-5B91-4C23-8AED-35D1FC92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906-07E7-4FFA-8095-5861FE8F2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84F-459A-447E-B8D4-C2036FDE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01E0-6276-4883-BDFD-AA81F7B2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F59-2BF6-426C-8ADC-419527D0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893-B822-4E30-8879-6FFF30AF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5D39-F299-4B98-BCAE-12AD48D2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7BAE-6ACC-49D3-857B-EB30026E9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78B-7C65-450E-AF19-27158667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C3D2-8D68-4082-B826-1F8BFEB9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AF1D-4980-42AD-9DE7-FBDD5FA70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19D-9E4C-4DA6-9CA6-74844AD9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879-37D5-4955-9BEC-E538965D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5C8-6962-435B-A7BE-A35D8B4E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0E8-C8EB-4DE4-8A34-53F16C29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D5F-CEDA-4ACB-A1ED-D035A1DEB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01B-2F03-45FB-86BB-2C82B6F92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4AE2-A614-442E-974A-659E6D57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817-CC6B-436D-953B-A0CA56983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D5C-FCF3-49D3-942C-1EE43D06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DF9-BB0A-4FB7-B15F-91907A17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A126-A11E-4D41-88BA-DC253B9F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587C-350E-496B-A82B-2129B84E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BA2F-700E-4F76-B013-1DB8A41E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75E-8D31-4B3F-8B68-92E5E5DB6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0A7-22CB-436D-A1F2-9F23640B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03F-A38C-4EE8-A5B9-3EC7845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04D-C703-48EC-8EC4-6E9425C0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806-FE0E-44E1-B8E1-51A16826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C3A-98DC-4D55-85C1-3CC10012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8F2-E3C0-4B80-BF76-1ED7FF3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C13-9E53-4623-814C-907914E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F39-89D1-4BBD-9B18-20E8041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5A7-8871-4A42-9207-8374775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340-A455-4E79-890C-EB0656E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6D1-CA31-4434-B420-C049197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EBB-F267-48F9-A418-45D28D36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C0E8-1487-4138-BDAF-55501D27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230120" y="1143000"/>
            <a:ext cx="2291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7"/>
          <p:cNvCxnSpPr/>
          <p:nvPr/>
        </p:nvCxnSpPr>
        <p:spPr>
          <a:xfrm flipV="1">
            <a:off x="2971800" y="1447200"/>
            <a:ext cx="2194560" cy="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9"/>
          <p:cNvCxnSpPr/>
          <p:nvPr/>
        </p:nvCxnSpPr>
        <p:spPr>
          <a:xfrm flipV="1">
            <a:off x="2895120" y="1980720"/>
            <a:ext cx="21949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/>
          <p:nvPr/>
        </p:nvCxnSpPr>
        <p:spPr>
          <a:xfrm flipV="1">
            <a:off x="3200400" y="251424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1"/>
          <p:cNvCxnSpPr/>
          <p:nvPr/>
        </p:nvCxnSpPr>
        <p:spPr>
          <a:xfrm flipV="1">
            <a:off x="3505320" y="312372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/>
          <p:nvPr/>
        </p:nvCxnSpPr>
        <p:spPr>
          <a:xfrm flipV="1">
            <a:off x="3048120" y="365724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>
            <a:off x="2895480" y="4282920"/>
            <a:ext cx="228672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5"/>
          <p:cNvCxnSpPr/>
          <p:nvPr/>
        </p:nvCxnSpPr>
        <p:spPr>
          <a:xfrm>
            <a:off x="2895120" y="4816440"/>
            <a:ext cx="221076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7"/>
          <p:cNvCxnSpPr/>
          <p:nvPr/>
        </p:nvCxnSpPr>
        <p:spPr>
          <a:xfrm flipV="1">
            <a:off x="2743200" y="540972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8"/>
          <p:cNvCxnSpPr/>
          <p:nvPr/>
        </p:nvCxnSpPr>
        <p:spPr>
          <a:xfrm>
            <a:off x="2971800" y="5959440"/>
            <a:ext cx="221040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23"/>
          <p:cNvSpPr/>
          <p:nvPr/>
        </p:nvSpPr>
        <p:spPr>
          <a:xfrm>
            <a:off x="7016040" y="6248520"/>
            <a:ext cx="2122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and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ions and their origi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083360" y="0"/>
            <a:ext cx="192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“u_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359480" y="0"/>
            <a:ext cx="177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ining long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M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oots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re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You need to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ch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your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ood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I must hurry to get home b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Tom has a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ooth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 bean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gr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from the s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81960" y="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Arial"/>
              </a:rPr>
              <a:t>to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</a:rPr>
              <a:t>bo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elc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"/>
              </a:rPr>
              <a:t>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omor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476600" y="1066680"/>
            <a:ext cx="458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Guess my wo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gir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aw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the day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d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making someth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Deep%20Sea%20Fishing.jpg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3784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tails are bits of information.  They answer questions like who, what, where, and w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442160" y="5334120"/>
            <a:ext cx="66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at details can we learn from this pictur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o?  What?  Where?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52880" y="76212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 Cast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MPj04392950000[1]"/>
          <p:cNvPicPr/>
          <p:nvPr/>
        </p:nvPicPr>
        <p:blipFill>
          <a:blip r:embed="rId1"/>
          <a:stretch/>
        </p:blipFill>
        <p:spPr>
          <a:xfrm>
            <a:off x="380880" y="304920"/>
            <a:ext cx="507528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like to play in the san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in the sand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/T:  What animal might be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of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707080" y="152280"/>
            <a:ext cx="337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3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im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n animal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no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28920" y="152280"/>
            <a:ext cx="286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me how your face and body look when you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181560" y="152280"/>
            <a:ext cx="268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1219320"/>
            <a:ext cx="838188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lunch ____ in a bo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sandwiches ____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fferent ki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160640" y="152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oose “was” or “wer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Make a Sto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o will the character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begi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in the mid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7213320" y="0"/>
            <a:ext cx="16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plan a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responsively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n the S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7" descr="MPj04332400000[1]"/>
          <p:cNvPicPr/>
          <p:nvPr/>
        </p:nvPicPr>
        <p:blipFill>
          <a:blip r:embed="rId1"/>
          <a:stretch/>
        </p:blipFill>
        <p:spPr>
          <a:xfrm>
            <a:off x="2752560" y="160020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560" y="13716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el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105240" y="1523880"/>
            <a:ext cx="1486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o phone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4876920" y="236232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6019920" y="762120"/>
            <a:ext cx="3124080" cy="76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member, this week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und is “oo,” which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 spelled with “oo”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w.”  Here are 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h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5" descr="MPj04309120000[1]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8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1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0T23:50:55Z</dcterms:modified>
  <cp:revision>229</cp:revision>
  <dc:subject/>
  <dc:title>Slide 1</dc:title>
</cp:coreProperties>
</file>