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061-2F88-4438-BA9F-4FF076AC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9BA-CFAC-4F37-A45A-75D93D71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B2C-D225-4E75-9F91-8D4B64B1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1B6-C3E1-42F6-B13B-0C2670BC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4F1-93D9-4864-920B-6E2255CE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15E-895D-411C-8E7A-E9DD0494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EDC-E37C-44DA-82F0-A9CC8ABB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A1A-2350-4290-8CDF-8C9C503C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6EA-69D6-4551-809E-DA537EAE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FB3-8044-4224-A70B-6B775FE9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5E46-D693-491E-AA49-88A28A96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F93-7D38-4AAE-865E-DA6A93F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02D4-CD88-4C01-A420-FECB4DC7F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22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9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ords with /oo/ oo, 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oo/oo, 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143000"/>
            <a:ext cx="87631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ndr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 in hi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bedroo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peek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 hi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wind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balloon bl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rooster fl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no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f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g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pped b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mo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me ou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oo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gr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gr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t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morr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elco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6365880" y="6458040"/>
            <a:ext cx="26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detail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y Details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685800"/>
            <a:ext cx="8991720" cy="65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Remember that details tell little bits of information about a story or selection. When finding out details in the story ask the questions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who, what, where, and when.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Ugly Veget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16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Shape the Seash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232000" cy="337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operative person works with others in a helpful way to do something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oper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ildren w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ope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3" descr="CooperativeWork.jpg"/>
          <p:cNvPicPr/>
          <p:nvPr/>
        </p:nvPicPr>
        <p:blipFill>
          <a:blip r:embed="rId3"/>
          <a:stretch/>
        </p:blipFill>
        <p:spPr>
          <a:xfrm>
            <a:off x="304920" y="1905120"/>
            <a:ext cx="464796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1143000"/>
            <a:ext cx="87631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When I work well with others, I am being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. Answer in one voice with “yes” or “no”, Is it important to be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 during class activitie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how you can be </a:t>
            </a: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 in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*I can be </a:t>
            </a: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 in class by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struc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I construct something, I build it or make i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rl used block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tru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Content Placeholder 3" descr="construct.jpg"/>
          <p:cNvPicPr/>
          <p:nvPr/>
        </p:nvPicPr>
        <p:blipFill>
          <a:blip r:embed="rId1"/>
          <a:stretch/>
        </p:blipFill>
        <p:spPr>
          <a:xfrm>
            <a:off x="1219320" y="1752480"/>
            <a:ext cx="33922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could you make out of s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ould make __________ out of s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91440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 can use blocks to </a:t>
            </a:r>
            <a:r>
              <a:rPr b="1" i="1" lang="en-US" sz="3200" spc="-1" strike="noStrike">
                <a:solidFill>
                  <a:srgbClr val="cc3399"/>
                </a:solidFill>
                <a:latin typeface="Arial"/>
              </a:rPr>
              <a:t>construct</a:t>
            </a: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 a tower.  Would you rather construct something alone or with oth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something you would like to constru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 would like to construct 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I assist someone, I help them do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sis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y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ir mom by setting the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ontent Placeholder 3" descr="assist.jpg"/>
          <p:cNvPicPr/>
          <p:nvPr/>
        </p:nvPicPr>
        <p:blipFill>
          <a:blip r:embed="rId1"/>
          <a:stretch/>
        </p:blipFill>
        <p:spPr>
          <a:xfrm>
            <a:off x="1143000" y="1676520"/>
            <a:ext cx="2949480" cy="4182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Arial"/>
              </a:rPr>
              <a:t>If I help someone carry a heavy box, I assist that person. Answer in one voice, could you assist your teacher by being quiet or being nosy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Turn and talk with your partner about how you assist your family at ho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I assist my family by _________.</a:t>
            </a: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was and were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371600"/>
            <a:ext cx="76201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The Vis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est ranger came to tell us about fire safety. We were asking her questions about Smokey the bear. She were telling us about smokey. He was found in a tree after a fire. He lost his mother. people were sad about Smokey. They wanted to  help prevent forest fi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was and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762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et’s fix the mistak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Using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and Nate _________ sitting on a ben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________ qu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e _______ yelling loud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and Nate _________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_______ thinking about fish for din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was and were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52280"/>
            <a:ext cx="88390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20968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657600"/>
            <a:ext cx="761976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25780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1905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43600" y="1905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2362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5334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049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066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What are some things you would like to learn how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spond to a poem through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981080" y="-152280"/>
            <a:ext cx="52578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nstantia"/>
              </a:rPr>
              <a:t>In the S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53452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the s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castle grow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ramps and towers, turrets, bower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ees and flow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d for hou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ings and knights march through the l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between my to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0080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62920" y="1219320"/>
            <a:ext cx="16761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228600"/>
            <a:ext cx="5181480" cy="65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lco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v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ending phonemes from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143000"/>
            <a:ext cx="77724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onemic Awaren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3200400"/>
            <a:ext cx="63248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oneme Dele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90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17524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429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3429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4191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41911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4876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914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v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22T01:55:25Z</dcterms:modified>
  <cp:revision>154</cp:revision>
  <dc:subject/>
  <dc:title>Slide 1</dc:title>
</cp:coreProperties>
</file>