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9E7-4740-4525-BCE8-F8DBAA5F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296-DBAB-4055-AE95-1B49C6FF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0D5A-6EFC-41B8-864C-2DD2A68B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DDC7-0143-44CD-9996-8C551282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504-68FD-4187-B9A7-045EEDCA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165-0E19-4853-AFBC-6214FF8F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EA8-DA6A-4B08-BCE7-EA615C20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A2C-00DF-4824-8254-83C516A0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870-4E97-4BDC-AE7D-7608ABAC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073-984B-4027-9011-F836BFE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74D-B5D5-4D91-9A87-4131C016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A9F-3717-429A-B105-2BDE188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2DE0-64BA-4EED-B477-263BB9EE9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22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9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l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ords with /oo/ oo, 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oo/oo, 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143000"/>
            <a:ext cx="87631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ndr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 in hi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bedroo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peek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 hi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wind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balloon bl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rooster fl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noon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f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g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pped by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on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mo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me out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o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oo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gr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gr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t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morr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elco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6365880" y="6458040"/>
            <a:ext cx="26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detail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522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y Details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685800"/>
            <a:ext cx="8991720" cy="65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Remember that details tell little bits of information about a story or selection. When finding out details in the story ask the questions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who, what, where, and when.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Ugly Veget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216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Shape the Seash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232000" cy="337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operative person works with others in a helpful way to do something.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oper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ildren w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ope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6" name="Content Placeholder 3" descr="CooperativeWork.jpg"/>
          <p:cNvPicPr/>
          <p:nvPr/>
        </p:nvPicPr>
        <p:blipFill>
          <a:blip r:embed="rId3"/>
          <a:stretch/>
        </p:blipFill>
        <p:spPr>
          <a:xfrm>
            <a:off x="304920" y="1905120"/>
            <a:ext cx="4647960" cy="3700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1143000"/>
            <a:ext cx="87631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When I work well with others, I am being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. Answer in one voice with “yes” or “no”, Is it important to be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 during class activitie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how you can be </a:t>
            </a:r>
            <a:r>
              <a:rPr b="1" i="1" lang="en-US" sz="2800" spc="-1" strike="noStrike">
                <a:solidFill>
                  <a:srgbClr val="9933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 in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*I can be </a:t>
            </a:r>
            <a:r>
              <a:rPr b="1" i="1" lang="en-US" sz="2800" spc="-1" strike="noStrike">
                <a:solidFill>
                  <a:srgbClr val="9933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 in class by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struc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I construct something, I build it or make it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rl used block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tru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Content Placeholder 3" descr="construct.jpg"/>
          <p:cNvPicPr/>
          <p:nvPr/>
        </p:nvPicPr>
        <p:blipFill>
          <a:blip r:embed="rId1"/>
          <a:stretch/>
        </p:blipFill>
        <p:spPr>
          <a:xfrm>
            <a:off x="1219320" y="1752480"/>
            <a:ext cx="339228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could you make out of s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ould make __________ out of s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914400"/>
            <a:ext cx="8458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 can use blocks to </a:t>
            </a:r>
            <a:r>
              <a:rPr b="1" i="1" lang="en-US" sz="3200" spc="-1" strike="noStrike">
                <a:solidFill>
                  <a:srgbClr val="cc3399"/>
                </a:solidFill>
                <a:latin typeface="Arial"/>
              </a:rPr>
              <a:t>construct</a:t>
            </a: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 a tower.  Would you rather construct something alone or with oth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something you would like to constru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I would like to construct 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I assist someone, I help them do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sis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y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s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ir mom by setting the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ontent Placeholder 3" descr="assist.jpg"/>
          <p:cNvPicPr/>
          <p:nvPr/>
        </p:nvPicPr>
        <p:blipFill>
          <a:blip r:embed="rId1"/>
          <a:stretch/>
        </p:blipFill>
        <p:spPr>
          <a:xfrm>
            <a:off x="1143000" y="1676520"/>
            <a:ext cx="2949480" cy="4182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763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33cc33"/>
                </a:solidFill>
                <a:latin typeface="Arial"/>
              </a:rPr>
              <a:t>If I help someone carry a heavy box, I assist that person. Answer in one voice, could you assist your teacher by being quiet or being nosy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Turn and talk with your partner about how you assist your family at ho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I assist my family by _________.</a:t>
            </a: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was and were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371600"/>
            <a:ext cx="76201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The Vis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est ranger came to tell us about fire safety. We were asking her questions about Smokey the bear. She were telling us about smokey. He was found in a tree after a fire. He lost his mother. people were sad about Smokey. They wanted to  help prevent forest fi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was and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762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et’s fix the mistak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Using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was</a:t>
            </a: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and Nate _________ sitting on a ben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________ qu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e _______ yelling loud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and Nate _________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_______ thinking about fish for din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was and were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52280"/>
            <a:ext cx="88390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20968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657600"/>
            <a:ext cx="761976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25780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1905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43600" y="1905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2362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5334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049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066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What are some things you would like to learn how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spond to a poem through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981080" y="-152280"/>
            <a:ext cx="525780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nstantia"/>
              </a:rPr>
              <a:t>In the S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53452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the s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castle grow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ramps and towers, turrets, bower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ees and flower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d for hou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ings and knights march through the l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between my to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0080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62920" y="1219320"/>
            <a:ext cx="16761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228600"/>
            <a:ext cx="5181480" cy="65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lco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v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ending phonemes from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143000"/>
            <a:ext cx="77724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onemic Awarenes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3200400"/>
            <a:ext cx="63248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honeme Dele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590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17524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429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34290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4191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41911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48769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914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v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22T01:55:25Z</dcterms:modified>
  <cp:revision>154</cp:revision>
  <dc:subject/>
  <dc:title>Slide 1</dc:title>
</cp:coreProperties>
</file>