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1495-BBEC-4DA4-BB6A-898EB8A21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8C8B-E2EB-41AD-8A67-92CECB82A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7576-D818-43D5-B881-7DDA9947C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282F-FA3F-4CEA-B8FA-C36806EB4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360A-374D-446C-AAEC-E34DA870E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2688-EA9E-4621-86CC-5284F05A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382-BBBF-45A7-9DB0-E701E064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229-60C9-4F33-BACC-8DDECD0E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7EC-927E-46D6-BFF5-3A5B2C8D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321-9E63-4EAF-8077-9B240B5B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57E8-1438-4480-B7E7-6A6E7D20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F590-5BAC-4C2E-BF0E-68CD3B07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2C2B-B8EB-4AAB-A7ED-019B0E81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A6F8-EB17-44EA-8043-F6AB6827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EAD8-85DF-4936-B5C8-C71F9F74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5739-AF41-4DF0-8670-2395E92A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7C93-2486-4173-ABDB-8D768327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8C0B-D869-4B0F-81D0-075FAA5D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D94D-BE13-4CC8-952D-BE6B799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AEBC-0082-4F2F-AC7B-DC46EBC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8CC1-B74F-4221-BEA5-9B47416C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DFAD-4AF2-4D1F-AF84-5D5E5660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B851-60A8-4540-8C25-3771204D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5F9E-BF0C-47A3-A2AB-0DE99789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FF17-8E12-4EBA-9AEE-1E3856ED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FCF6-F453-4EE7-91D9-26922421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F800-3D17-47CC-9639-51208A54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CD415-2CB3-4F80-84B2-B089F104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F52-C928-464F-833B-BF887AFC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F243F-A366-4CD7-9F17-F51EF18E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03084-AA99-44B3-BF4C-E5A051D8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F8C2-7450-47E5-882F-BACBDC83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26659-0F53-4A01-9325-CF6A83AF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2D484-37B7-4800-A949-C5990829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E664-2793-41C3-A123-EA8C6C28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F5BB-2ED8-4D44-A310-9FB23B63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04D39-56E3-4A36-87C4-F2248EA1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69B8-050A-4D18-84E9-DE7BBFFB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49DD2-A528-4B40-A1FE-630706AB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C42-AE82-41D7-9381-64A0461F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A400-8EFB-42FB-BE40-44D0B3CF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D7961-366D-4336-B8B0-9CC708CD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03B4-59B0-4FD8-ABC8-941D8930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41FE5-CCF4-4195-8459-3FD2E19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35E3-5F7D-489A-8263-E327EB04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6EF4-C6AE-488C-8E13-4E676A7B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D267C-F207-4D8D-9371-1F140F94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05E2C-9AEA-4781-9350-7175EA17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D86D8-81C9-4E05-BA84-835C5121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16B72-B32C-4E7F-BED5-87CD9AB1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50B-526B-4119-983B-AC7A6BC8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7CB3-63CE-4567-9CB1-A5F60D84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E6BD5-8F88-461A-9E0F-7C5B171C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CDAD-FFE4-4C93-A01B-7160F201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E9E7D-9836-47FB-9427-79494637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49D5-CCAE-48A8-80BC-4A68F1B6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DE3C4-7B35-49C0-A80B-36C24CFE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5DF7D-9775-4FB0-ADDF-09E8A42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2384-5227-4AF4-B1B2-A98F5BBB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EB463-07FE-4918-9EFE-256C437E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E43F9-A83A-4C2A-A05F-E08C742B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96F-092A-456F-A484-0E11F492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C0FD7-4915-4CB6-97F6-26B34971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A3E78-925A-4AD0-98C7-CA568B3D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B0B7-21E8-4195-A5F4-E7BC5AE5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6B984-B2E1-4111-B761-C3A9E720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E2C0A-6B7A-4D89-9C38-D73BDCDD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C92F0-0427-4CE6-A2EE-3A152895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41CC1-BA78-485D-95F4-0B8941DD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E6C2C-C629-43A3-AF94-03C8847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2F77F-6DCD-4D4D-993F-EF851726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6B647-C1AC-4946-A298-CE0291BC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984-03E0-4696-8263-F8328CC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ACB5F-5C37-499C-A458-EC40E6EA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C2DFD-4856-4573-96AF-889D22BC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1FD00-C42C-4162-87A8-938BC254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1BB-9572-40AA-99AA-A3AF57F5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6D1-AE3A-43F4-A169-D00F3FEE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02CA-245B-494D-9C32-5720D5088D2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4312-A950-41F6-ABC7-0561655A3C7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0AA4-7708-4C08-AFF0-FE22B2D5E30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D66A-5547-4EB7-A3A6-F34192FCEFA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2920-28EB-437F-B0AC-DB14E7885C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0EA4-94A7-4C0B-8F4D-828843F58D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3" descr=""/>
          <p:cNvPicPr/>
          <p:nvPr/>
        </p:nvPicPr>
        <p:blipFill>
          <a:blip r:embed="rId1"/>
          <a:stretch/>
        </p:blipFill>
        <p:spPr>
          <a:xfrm>
            <a:off x="-585720" y="-324000"/>
            <a:ext cx="1064412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228600" y="3808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discriminate between words with different patterns; to use common letter patterns to build and rea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-96840" y="774720"/>
            <a:ext cx="9333000" cy="49672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228600" y="60958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Remember phonograms are words that have the same e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304920" y="457200"/>
          <a:ext cx="8534160" cy="594360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r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228600" y="1143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Drew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 likes to swim in the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pool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He has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new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 swim f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His dog likes to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fool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 with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The dog likes to swim,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too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The water is so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cool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52280" y="6858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Read the words i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228600" y="685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recognize and read contractions with   ‘d, ‘ve, ‘re, ‘s, n’t, ‘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52280" y="1219320"/>
            <a:ext cx="86868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70c0"/>
                </a:solidFill>
                <a:latin typeface="Constantia"/>
              </a:rPr>
              <a:t>Contract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Remember a contraction is a shorter way of saying two words.  When you have a contraction you make two words become one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-228600" y="24300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 a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n the red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’re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on the red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e </a:t>
            </a: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did not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start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e </a:t>
            </a: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didn’t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start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 woul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like to w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’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like to w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 have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got the 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’ve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 got the 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 will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ass the ball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’ll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pass the ball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t is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a go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t’s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a go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3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800"/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146160" y="133200"/>
            <a:ext cx="8851680" cy="10987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457200" y="1219320"/>
            <a:ext cx="815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b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t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hu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5" dur="2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v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l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3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3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3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3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3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3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3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Calibri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2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4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4"/>
          <p:cNvSpPr/>
          <p:nvPr/>
        </p:nvSpPr>
        <p:spPr>
          <a:xfrm>
            <a:off x="30481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6"/>
          <p:cNvSpPr/>
          <p:nvPr/>
        </p:nvSpPr>
        <p:spPr>
          <a:xfrm>
            <a:off x="3505320" y="2590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9"/>
          <p:cNvSpPr/>
          <p:nvPr/>
        </p:nvSpPr>
        <p:spPr>
          <a:xfrm>
            <a:off x="434340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3"/>
          <p:cNvSpPr/>
          <p:nvPr/>
        </p:nvSpPr>
        <p:spPr>
          <a:xfrm>
            <a:off x="44197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4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5"/>
          <p:cNvSpPr/>
          <p:nvPr/>
        </p:nvSpPr>
        <p:spPr>
          <a:xfrm>
            <a:off x="35812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6"/>
          <p:cNvSpPr/>
          <p:nvPr/>
        </p:nvSpPr>
        <p:spPr>
          <a:xfrm>
            <a:off x="4419720" y="17524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7"/>
          <p:cNvSpPr/>
          <p:nvPr/>
        </p:nvSpPr>
        <p:spPr>
          <a:xfrm>
            <a:off x="30481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8"/>
          <p:cNvSpPr/>
          <p:nvPr/>
        </p:nvSpPr>
        <p:spPr>
          <a:xfrm>
            <a:off x="3505320" y="3429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0"/>
          <p:cNvSpPr/>
          <p:nvPr/>
        </p:nvSpPr>
        <p:spPr>
          <a:xfrm>
            <a:off x="4419720" y="34290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1"/>
          <p:cNvSpPr/>
          <p:nvPr/>
        </p:nvSpPr>
        <p:spPr>
          <a:xfrm>
            <a:off x="3048120" y="4191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2"/>
          <p:cNvSpPr/>
          <p:nvPr/>
        </p:nvSpPr>
        <p:spPr>
          <a:xfrm>
            <a:off x="350532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3"/>
          <p:cNvSpPr/>
          <p:nvPr/>
        </p:nvSpPr>
        <p:spPr>
          <a:xfrm>
            <a:off x="3886200" y="41911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8"/>
          <p:cNvSpPr/>
          <p:nvPr/>
        </p:nvSpPr>
        <p:spPr>
          <a:xfrm>
            <a:off x="2971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9"/>
          <p:cNvSpPr/>
          <p:nvPr/>
        </p:nvSpPr>
        <p:spPr>
          <a:xfrm>
            <a:off x="3429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0"/>
          <p:cNvSpPr/>
          <p:nvPr/>
        </p:nvSpPr>
        <p:spPr>
          <a:xfrm>
            <a:off x="3886200" y="48769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75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75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75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75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7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7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75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5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75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75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75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75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75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75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75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75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75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75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75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75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75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75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75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75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75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75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75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75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75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75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15228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Objective: To listen attentively and respond appropriately to or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146160" y="590400"/>
            <a:ext cx="87724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352680" y="914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35812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97180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42900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36576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4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457200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75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75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75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75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7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7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7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7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7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7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75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75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75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75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75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75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75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75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228600" y="152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read 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46160" y="407880"/>
            <a:ext cx="885168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304920" y="160020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im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u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to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wel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9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50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50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0" y="457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identify details in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25360" y="817560"/>
            <a:ext cx="8388360" cy="19018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228600" y="3733920"/>
            <a:ext cx="8610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Remember that details are little bits of information about a story.  Details can tell you who, what, when, and w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152280" y="152280"/>
          <a:ext cx="8839440" cy="65534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e Ugly Vege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and Cas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ere in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girl and her m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b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0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a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ant vege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uild a sand cas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xplores different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 sum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 sum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ir ga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 b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operat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ssis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3564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A cooperative person works with others in a helpful way to do something.    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0f6fc6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oper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3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ren w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ope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86" name="Content Placeholder 3" descr="CooperativeWork.jpg"/>
          <p:cNvPicPr/>
          <p:nvPr/>
        </p:nvPicPr>
        <p:blipFill>
          <a:blip r:embed="rId3"/>
          <a:stretch/>
        </p:blipFill>
        <p:spPr>
          <a:xfrm>
            <a:off x="304920" y="1905120"/>
            <a:ext cx="4647960" cy="3700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1"/>
          <p:cNvSpPr/>
          <p:nvPr/>
        </p:nvSpPr>
        <p:spPr>
          <a:xfrm>
            <a:off x="228600" y="685800"/>
            <a:ext cx="838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will name some things.  If I say something that tells of children being cooperative give a thumbs up.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two children argue over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two children work together to pick up art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ne child colors while the other one grabs the cray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two children work together to carry som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8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37" dur="2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3564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4617b"/>
                </a:solidFill>
                <a:latin typeface="Comic Sans MS"/>
              </a:rPr>
              <a:t>construct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I construct something, I build it or make it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5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used blocks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ru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Content Placeholder 3" descr="construct.jpg"/>
          <p:cNvPicPr/>
          <p:nvPr/>
        </p:nvPicPr>
        <p:blipFill>
          <a:blip r:embed="rId1"/>
          <a:stretch/>
        </p:blipFill>
        <p:spPr>
          <a:xfrm>
            <a:off x="1219320" y="1752480"/>
            <a:ext cx="339228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1"/>
          <p:cNvSpPr/>
          <p:nvPr/>
        </p:nvSpPr>
        <p:spPr>
          <a:xfrm>
            <a:off x="228600" y="0"/>
            <a:ext cx="87631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If I name something that people could construct you should say, “People can construct that.”  If not say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sand 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dog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air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94" dur="20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8" dur="5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I assist someone, I help them do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85dfd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sis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2"/>
          <p:cNvSpPr/>
          <p:nvPr/>
        </p:nvSpPr>
        <p:spPr>
          <a:xfrm>
            <a:off x="8380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s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ir mom by setting the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Content Placeholder 3" descr="assist.jpg"/>
          <p:cNvPicPr/>
          <p:nvPr/>
        </p:nvPicPr>
        <p:blipFill>
          <a:blip r:embed="rId1"/>
          <a:stretch/>
        </p:blipFill>
        <p:spPr>
          <a:xfrm>
            <a:off x="1143000" y="1676520"/>
            <a:ext cx="2949480" cy="4182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380880" y="45720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What would you like to do during a day at the bea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Constantia"/>
              </a:rPr>
              <a:t>On my signal,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I would ____ at the beach because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52280" y="152280"/>
            <a:ext cx="87631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nstantia"/>
              </a:rPr>
              <a:t>If I describe a situation in which you could assist, you should say. “Let me assist you.”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Your mom is looking for her ke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Your brother or sister needs a ride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The family dog needs a b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The teacher is passing out 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A pilot is flying an air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1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152280" y="152280"/>
            <a:ext cx="8763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Answer in one voice with a yes or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f I touch something prickly, would it make me wriggle a 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If I am interested in everyone cooperating during an activity, what might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If you want to construct a doghouse, who could assis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compose sentences that include was and were; to use correct subject verb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65240" y="365040"/>
            <a:ext cx="9039240" cy="44989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3"/>
          <p:cNvSpPr/>
          <p:nvPr/>
        </p:nvSpPr>
        <p:spPr>
          <a:xfrm>
            <a:off x="380880" y="50292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Remember that the word was is used to tell about one person or thing.  The word were is used to tell about more than one person or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28600" y="228600"/>
            <a:ext cx="8458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Let’s see if we can pick out the correct sentences with the words were and w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I were going to the p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My dogs was coming,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Jack and Jane were t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We were kicking a ball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Then we was swing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We was having a lot of f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5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1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7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3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228600" y="609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generate ideas before writing; to plan a story using a st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85800" y="1066680"/>
          <a:ext cx="8001000" cy="4648320"/>
        </p:xfrm>
        <a:graphic>
          <a:graphicData uri="http://schemas.openxmlformats.org/drawingml/2006/table">
            <a:tbl>
              <a:tblPr/>
              <a:tblGrid>
                <a:gridCol w="2800440"/>
                <a:gridCol w="2533680"/>
                <a:gridCol w="266688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harac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t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lo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l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ia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er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lltop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meone gets los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mouse finds a new frien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9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2514600" y="1082520"/>
          <a:ext cx="1523880" cy="64008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029200" y="1054080"/>
          <a:ext cx="1523880" cy="63972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ll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2519280" y="2266920"/>
          <a:ext cx="4170600" cy="700200"/>
        </p:xfrm>
        <a:graphic>
          <a:graphicData uri="http://schemas.openxmlformats.org/drawingml/2006/table">
            <a:tbl>
              <a:tblPr/>
              <a:tblGrid>
                <a:gridCol w="417060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 wants a fri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2584440" y="3462480"/>
          <a:ext cx="4133880" cy="914400"/>
        </p:xfrm>
        <a:graphic>
          <a:graphicData uri="http://schemas.openxmlformats.org/drawingml/2006/table">
            <a:tbl>
              <a:tblPr/>
              <a:tblGrid>
                <a:gridCol w="413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 search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2603520" y="4702320"/>
          <a:ext cx="4133880" cy="793440"/>
        </p:xfrm>
        <a:graphic>
          <a:graphicData uri="http://schemas.openxmlformats.org/drawingml/2006/table">
            <a:tbl>
              <a:tblPr/>
              <a:tblGrid>
                <a:gridCol w="4133880"/>
              </a:tblGrid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d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 finds a fri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9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457200" y="533520"/>
            <a:ext cx="8458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at things might you see, hear, and touch at the b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On my signal, turn and talk with your partner to complete the following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might see ____________at the b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might hear ______________at the b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might touch _____________at the b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304920" y="9907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aaf2"/>
                </a:solidFill>
                <a:latin typeface="Constantia"/>
              </a:rPr>
              <a:t>Today we are going to read a poem called “Shore.”  When a poet writes a poem they want you to have a picture in your mind as you hear their poem. I will read the poem first and I want you to close your eyes and see what kind of picture you have in your mind.  After I read the poem once you will read it with me on the second time.  I will divide you into two groups to read different parts.  Remember to read the poem with rhyt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152280" y="3049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nstantia"/>
              </a:rPr>
              <a:t>Objective: To appreciate the rhythm of poetry; to do a choral reading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228600" y="838080"/>
            <a:ext cx="86868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Play on the sea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And gather up sh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Kneel in the damp s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Digging w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Run on the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Where the seaweed sl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Watch the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And the beautiful 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228600" y="0"/>
            <a:ext cx="87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onstantia"/>
              </a:rPr>
              <a:t>Objective: To read high frequenc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146160" y="171360"/>
            <a:ext cx="8851680" cy="5842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3"/>
          <p:cNvSpPr/>
          <p:nvPr/>
        </p:nvSpPr>
        <p:spPr>
          <a:xfrm>
            <a:off x="0" y="609480"/>
            <a:ext cx="8763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alm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clim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h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p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to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t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welc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w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0" dur="500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3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228600" y="12193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nstantia"/>
              </a:rPr>
              <a:t>Objective: To substitute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15920" y="1474920"/>
            <a:ext cx="8820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228600" y="10666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add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146160" y="1122480"/>
            <a:ext cx="88516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9:50:18Z</dcterms:created>
  <dc:creator>lara colleen mangham</dc:creator>
  <dc:description/>
  <dc:language>en-US</dc:language>
  <cp:lastModifiedBy> </cp:lastModifiedBy>
  <dcterms:modified xsi:type="dcterms:W3CDTF">2009-04-23T02:23:38Z</dcterms:modified>
  <cp:revision>17</cp:revision>
  <dc:subject/>
  <dc:title>Slide 1</dc:title>
</cp:coreProperties>
</file>