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15E2-B05F-4E8D-8312-A78990ED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4789-8E46-4E5E-A973-400880B9A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698-D407-47D8-B0AE-71059A790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4AE7-5A52-43E2-9E73-86BB1873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F0AA-2976-4348-8DC6-714BBF78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AA8-8ED7-4A05-B5A2-4B592E9FE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A2F-1AA8-4F17-9DEB-983DCBEA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628-21BE-407B-93D2-90462265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BE3-E0D6-4DCE-8A94-B66340E7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451-C9C3-4BA6-8356-77D62426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CF33-F806-4D27-84C1-7C28AE4C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2FF9-540E-45CD-9945-D2778E0A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8012-57E1-4947-B0F2-0BE8DAA5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584C-2DBB-4E1E-BFA1-0926522F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FEA8-7527-4445-994A-B2F5F336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CEF1-DEBD-40D1-B120-3993826B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DB54-0852-48F1-86DF-ED3260C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1D7-33B9-4232-BE98-E11597A8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452C-02D4-47DA-A158-F4DD618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4049-A68D-4904-989B-59504E4D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0206-8675-461E-9A98-1884D4F3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C902-85AB-472B-95A6-317D0F3D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D02D-67F2-43E7-A626-283E1058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BAA9-9FC2-4127-A1BB-81F36FCF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A1502-29D4-4BDF-B3CC-FB3C3F4E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9A6C-A950-44A2-87C6-BB0C3762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DA9B-6E07-44AA-A9F1-6E7D1D8C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D6788-51B3-45EC-AD8C-4721522C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802-9CB3-4A49-BF25-5C2DC299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D75A-C6D0-490E-BF3F-48881DC6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8F9E-BD68-4791-ABA3-1E7F4627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4CA6-9EBA-4610-A7B3-D2CE45E2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89B6-6B88-4610-9DC0-A579510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237D-3EC9-496C-AC22-F575EE8E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4849-4731-4910-9B63-6DD07FFF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CE9E-5928-4C73-83C6-CF23B06C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66383-32D2-4A94-A156-09204104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3091-929A-476B-A9DA-31DC0FEF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BE921-B1CB-4C25-90BE-B1F74355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36D-DB0E-457D-B28E-F7AD323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E036-895C-4E45-9008-E9B2CA6C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F862-09EE-4141-A8FB-4269A68A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B26A4-71F3-4E74-B896-B2B8A86C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3253-6F33-4A51-9378-1F8A8E38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C7B8-650F-411B-82A7-CC583956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867A1-E157-4393-A9AD-65D013F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C7F30-1BD0-4C0D-9D4E-B4160BA3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C3EB-74A3-4289-AEDA-D5ED9C89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6C421-5F16-4B47-B537-927C8B1D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3312-049D-432D-AAA2-E5990807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A18-6087-4B2C-AF90-4E522E4F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4954F-ED59-4001-91DC-FA7395E5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1D28F-40D1-427F-8D32-FA70CE05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7A53-0D77-419A-8579-5EFD4EAA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6911C-7B5D-4D6E-ABFE-180DD889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B544E-CFA1-478D-813B-B4E77154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0716A-44A1-47EE-801D-8B917073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B5B50-26C3-4082-92DB-88913760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4F53B-B3CA-4CE0-B506-77B01C2A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C8740-0A23-4E37-9FE9-8FE9D7F6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6A659-527D-42E7-A457-722BF8F1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D52-9D68-442D-9140-E7B477CF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B15BE-8F36-4740-933E-F3ACC895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A607F-12DD-4811-9165-A6643C85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0F2C-D776-4F5B-A176-B28211AE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004EF-C209-4862-9DF3-A158CEFA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206E7-5662-400A-9632-9B6B31F6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10E54-0CB2-4320-ADA2-BA2800BF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BD59B-EB06-432B-B9A4-66C000EA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6AD64-8010-40B7-AC2A-F5AB0919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F263F-971C-4181-8B59-DE3DBD3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D3ED9-6A35-40A0-BBE8-8FBE8E42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9FB-F7DB-4824-BE87-8EC965A5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011BF-6E5D-4F6D-B857-73BC19E1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87295-35F3-4898-8D02-EAC8B7E2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D17E4-D565-46E6-983D-F575EBC4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245-BA57-4DC6-BF45-13A26F2C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D20-8815-4310-9418-75E4937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BEDA-ECB6-4675-AE0C-C15DC7289B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620-0DFF-4031-BBEF-0A30D2D87AA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DD33-0609-4EAD-930A-D14FA7A10D1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3F4B-1547-434C-A855-CB561F8EF62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8DB1-BBE1-4A46-83E7-6D5E76C248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3AD7-F7D5-4AD8-BDCC-1792FD9763E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3" descr=""/>
          <p:cNvPicPr/>
          <p:nvPr/>
        </p:nvPicPr>
        <p:blipFill>
          <a:blip r:embed="rId1"/>
          <a:stretch/>
        </p:blipFill>
        <p:spPr>
          <a:xfrm>
            <a:off x="-585720" y="-324000"/>
            <a:ext cx="106441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228600" y="3808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discriminate between words with different patterns; to use common letter patterns to build and rea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-96840" y="774720"/>
            <a:ext cx="9333000" cy="49672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228600" y="60958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Remember phonograms are words that have the same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304920" y="457200"/>
          <a:ext cx="8534160" cy="59436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r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228600" y="1143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Drew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 likes to swim in the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pool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He has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new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 swim f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His dog likes to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fool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 with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The dog likes to swim,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too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The water is so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cool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52280" y="6858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Read the words i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228600" y="685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recognize and read contractions with   ‘d, ‘ve, ‘re, ‘s, n’t, ‘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52280" y="1219320"/>
            <a:ext cx="8686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70c0"/>
                </a:solidFill>
                <a:latin typeface="Constantia"/>
              </a:rPr>
              <a:t>Contract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Remember a contraction is a shorter way of saying two words.  When you have a contraction you make two words become one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2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-228600" y="24300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 a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n the red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’re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on the red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e </a:t>
            </a: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did not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start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e </a:t>
            </a: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didn’t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start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 woul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like to w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’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like to w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 have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got the 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’ve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 got the 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 will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ass the ball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’ll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pass the ball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t is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a go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t’s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a go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5000" fill="hold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5000" fill="hold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851680" cy="10987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457200" y="1219320"/>
            <a:ext cx="815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t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h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6" dur="2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v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3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3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3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3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3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3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3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3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3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alibri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4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4"/>
          <p:cNvSpPr/>
          <p:nvPr/>
        </p:nvSpPr>
        <p:spPr>
          <a:xfrm>
            <a:off x="30481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3505320" y="2590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9"/>
          <p:cNvSpPr/>
          <p:nvPr/>
        </p:nvSpPr>
        <p:spPr>
          <a:xfrm>
            <a:off x="434340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3"/>
          <p:cNvSpPr/>
          <p:nvPr/>
        </p:nvSpPr>
        <p:spPr>
          <a:xfrm>
            <a:off x="44197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4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5"/>
          <p:cNvSpPr/>
          <p:nvPr/>
        </p:nvSpPr>
        <p:spPr>
          <a:xfrm>
            <a:off x="35812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6"/>
          <p:cNvSpPr/>
          <p:nvPr/>
        </p:nvSpPr>
        <p:spPr>
          <a:xfrm>
            <a:off x="4419720" y="17524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7"/>
          <p:cNvSpPr/>
          <p:nvPr/>
        </p:nvSpPr>
        <p:spPr>
          <a:xfrm>
            <a:off x="3048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8"/>
          <p:cNvSpPr/>
          <p:nvPr/>
        </p:nvSpPr>
        <p:spPr>
          <a:xfrm>
            <a:off x="3505320" y="3429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0"/>
          <p:cNvSpPr/>
          <p:nvPr/>
        </p:nvSpPr>
        <p:spPr>
          <a:xfrm>
            <a:off x="4419720" y="3429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1"/>
          <p:cNvSpPr/>
          <p:nvPr/>
        </p:nvSpPr>
        <p:spPr>
          <a:xfrm>
            <a:off x="3048120" y="4191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2"/>
          <p:cNvSpPr/>
          <p:nvPr/>
        </p:nvSpPr>
        <p:spPr>
          <a:xfrm>
            <a:off x="350532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3"/>
          <p:cNvSpPr/>
          <p:nvPr/>
        </p:nvSpPr>
        <p:spPr>
          <a:xfrm>
            <a:off x="3886200" y="41911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8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9"/>
          <p:cNvSpPr/>
          <p:nvPr/>
        </p:nvSpPr>
        <p:spPr>
          <a:xfrm>
            <a:off x="3429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0"/>
          <p:cNvSpPr/>
          <p:nvPr/>
        </p:nvSpPr>
        <p:spPr>
          <a:xfrm>
            <a:off x="3886200" y="4876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75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75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75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5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7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7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75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75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75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75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75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75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75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75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75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75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75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75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75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75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75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75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75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75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75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75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75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75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75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75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15228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Objective: To listen attentively and respond appropriately to or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46160" y="590400"/>
            <a:ext cx="87724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352680" y="914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35812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97180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42900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36576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4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457200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75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75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75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75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75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75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228600" y="152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read 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46160" y="407880"/>
            <a:ext cx="885168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304920" y="160020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im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u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o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wel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5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9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8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8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8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8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9" dur="500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identify details in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25360" y="817560"/>
            <a:ext cx="8388360" cy="1901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228600" y="3733920"/>
            <a:ext cx="861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Remember that details are little bits of information about a story.  Details can tell you who, what, when, and w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5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5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5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5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52280" y="152280"/>
          <a:ext cx="8839440" cy="65534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 Ugly Vege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and Cas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ere in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girl and her 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b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nt vege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uild a sand cas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plores different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su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su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ir ga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b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ssis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3564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A cooperative person works with others in a helpful way to do something.    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0f6fc6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oper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3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w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pe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86" name="Content Placeholder 3" descr="CooperativeWork.jpg"/>
          <p:cNvPicPr/>
          <p:nvPr/>
        </p:nvPicPr>
        <p:blipFill>
          <a:blip r:embed="rId3"/>
          <a:stretch/>
        </p:blipFill>
        <p:spPr>
          <a:xfrm>
            <a:off x="304920" y="1905120"/>
            <a:ext cx="464796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1"/>
          <p:cNvSpPr/>
          <p:nvPr/>
        </p:nvSpPr>
        <p:spPr>
          <a:xfrm>
            <a:off x="228600" y="68580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will name some things.  If I say something that tells of children being cooperative give a thumbs up.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two children argue over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two children work together to pick up art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ne child colors while the other one grabs the cray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two children work together to carry som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4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3564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4617b"/>
                </a:solidFill>
                <a:latin typeface="Comic Sans MS"/>
              </a:rPr>
              <a:t>construct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I construct something, I build it or make i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used blocks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ru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Content Placeholder 3" descr="construct.jpg"/>
          <p:cNvPicPr/>
          <p:nvPr/>
        </p:nvPicPr>
        <p:blipFill>
          <a:blip r:embed="rId1"/>
          <a:stretch/>
        </p:blipFill>
        <p:spPr>
          <a:xfrm>
            <a:off x="1219320" y="1752480"/>
            <a:ext cx="33922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1"/>
          <p:cNvSpPr/>
          <p:nvPr/>
        </p:nvSpPr>
        <p:spPr>
          <a:xfrm>
            <a:off x="228600" y="0"/>
            <a:ext cx="8763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If I name something that people could construct you should say, “People can construct that.”  If not say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sand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dog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air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0" dur="2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8" dur="10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3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8" dur="20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I assist someone, I help them do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85dfd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sis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2"/>
          <p:cNvSpPr/>
          <p:nvPr/>
        </p:nvSpPr>
        <p:spPr>
          <a:xfrm>
            <a:off x="8380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ir mom by setting the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Content Placeholder 3" descr="assist.jpg"/>
          <p:cNvPicPr/>
          <p:nvPr/>
        </p:nvPicPr>
        <p:blipFill>
          <a:blip r:embed="rId1"/>
          <a:stretch/>
        </p:blipFill>
        <p:spPr>
          <a:xfrm>
            <a:off x="1143000" y="1676520"/>
            <a:ext cx="2949480" cy="4182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380880" y="45720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What would you like to do during a day at the bea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onstantia"/>
              </a:rPr>
              <a:t>On my signal,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I would ____ at the beach because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52280" y="152280"/>
            <a:ext cx="87631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nstantia"/>
              </a:rPr>
              <a:t>If I describe a situation in which you could assist, you should say. “Let me assist you.”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Your mom is looking for her k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Your brother or sister needs a ride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The family dog needs a b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The teacher is passing out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 pilot is flying an air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3" dur="5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8" dur="2000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152280" y="152280"/>
            <a:ext cx="8763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nswer in one voice with a yes or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f I touch something prickly, would it make me wriggle a 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If I am interested in everyone cooperating during an activity, what might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If you want to construct a doghouse, who could assis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compose sentences that include was and were; to use correct subject verb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65240" y="365040"/>
            <a:ext cx="9039240" cy="44989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"/>
          <p:cNvSpPr/>
          <p:nvPr/>
        </p:nvSpPr>
        <p:spPr>
          <a:xfrm>
            <a:off x="380880" y="50292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Remember that the word was is used to tell about one person or thing.  The word were is used to tell about more than one person or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0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28600" y="228600"/>
            <a:ext cx="8458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Let’s see if we can pick out the correct sentences with the words were and w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I were going to the p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My dogs was coming,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Jack and Jane were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We were kicking a ball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Then we was swing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We was having a lot of f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6" dur="8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7" dur="8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8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3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7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3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9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228600" y="609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generate ideas before writing; to plan a story using a st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5800" y="1066680"/>
          <a:ext cx="8001000" cy="4648320"/>
        </p:xfrm>
        <a:graphic>
          <a:graphicData uri="http://schemas.openxmlformats.org/drawingml/2006/table">
            <a:tbl>
              <a:tblPr/>
              <a:tblGrid>
                <a:gridCol w="2800440"/>
                <a:gridCol w="2533680"/>
                <a:gridCol w="266688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harac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t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lo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l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i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er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lltop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meone gets los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mouse finds a new frien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9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2514600" y="1082520"/>
          <a:ext cx="1523880" cy="64008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029200" y="1054080"/>
          <a:ext cx="1523880" cy="63972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ll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2519280" y="2266920"/>
          <a:ext cx="4170600" cy="700200"/>
        </p:xfrm>
        <a:graphic>
          <a:graphicData uri="http://schemas.openxmlformats.org/drawingml/2006/table">
            <a:tbl>
              <a:tblPr/>
              <a:tblGrid>
                <a:gridCol w="41706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 wants a fri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2584440" y="3462480"/>
          <a:ext cx="4133880" cy="914400"/>
        </p:xfrm>
        <a:graphic>
          <a:graphicData uri="http://schemas.openxmlformats.org/drawingml/2006/table">
            <a:tbl>
              <a:tblPr/>
              <a:tblGrid>
                <a:gridCol w="413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 search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2603520" y="4702320"/>
          <a:ext cx="4133880" cy="793440"/>
        </p:xfrm>
        <a:graphic>
          <a:graphicData uri="http://schemas.openxmlformats.org/drawingml/2006/table">
            <a:tbl>
              <a:tblPr/>
              <a:tblGrid>
                <a:gridCol w="4133880"/>
              </a:tblGrid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d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 finds a fri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457200" y="533520"/>
            <a:ext cx="8458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at things might you see, hear, and touch at the b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On my signal, turn and talk with your partner to complete the following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might see ____________at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might hear ______________at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might touch _____________at the b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304920" y="9907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aaf2"/>
                </a:solidFill>
                <a:latin typeface="Constantia"/>
              </a:rPr>
              <a:t>Today we are going to read a poem called “Shore.”  When a poet writes a poem they want you to have a picture in your mind as you hear their poem. I will read the poem first and I want you to close your eyes and see what kind of picture you have in your mind.  After I read the poem once you will read it with me on the second time.  I will divide you into two groups to read different parts.  Remember to read the poem with rhy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152280" y="304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nstantia"/>
              </a:rPr>
              <a:t>Objective: To appreciate the rhythm of poetry; to do a choral reading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228600" y="838080"/>
            <a:ext cx="86868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Play on the sea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And gather up sh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Kneel in the damp s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Digging w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Run on the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Where the seaweed s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Watch the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And the beautiful 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228600" y="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onstantia"/>
              </a:rPr>
              <a:t>Objective: To read high frequenc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146160" y="171360"/>
            <a:ext cx="8851680" cy="5842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3"/>
          <p:cNvSpPr/>
          <p:nvPr/>
        </p:nvSpPr>
        <p:spPr>
          <a:xfrm>
            <a:off x="0" y="609480"/>
            <a:ext cx="876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alm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clim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h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to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t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el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228600" y="12193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nstantia"/>
              </a:rPr>
              <a:t>Objective: To substitute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15920" y="1474920"/>
            <a:ext cx="8820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228600" y="10666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add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146160" y="1122480"/>
            <a:ext cx="88516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9:50:18Z</dcterms:created>
  <dc:creator>lara colleen mangham</dc:creator>
  <dc:description/>
  <dc:language>en-US</dc:language>
  <cp:lastModifiedBy> </cp:lastModifiedBy>
  <dcterms:modified xsi:type="dcterms:W3CDTF">2009-04-23T02:23:38Z</dcterms:modified>
  <cp:revision>17</cp:revision>
  <dc:subject/>
  <dc:title>Slide 1</dc:title>
</cp:coreProperties>
</file>