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51C-0F4C-47F9-9875-4CE682E2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2D4-6CFA-4955-939F-BC203FD3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B5E-509B-4C11-9695-97CAC881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BEC-E19E-4C12-AF95-F60DECF9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6B5-9C0C-4B96-B859-21412ECB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037-2C42-46B4-BF24-0552B3F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88A-67EA-486F-B16E-31BE5380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7C5-2A4A-4D69-9DEB-CBCA2620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BDC-45D8-4709-8F2D-19C51321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248-0055-434C-AA13-756E46D0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3C9-EA9D-47DE-BDD9-8CCE79E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C0-03AB-410A-873B-40FBB27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D7A-615F-4B4E-9418-EC6542E70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62481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533520"/>
            <a:ext cx="6934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DJ Basic"/>
              </a:rPr>
              <a:t>High-Frequency Word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DJ Basic"/>
              <a:ea typeface="DJ Basic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752480"/>
            <a:ext cx="2971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82880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e will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in the c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8195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ill you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ld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my h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After school, we go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me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That mountain is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7913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It will be lunchtime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on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pecial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29200" y="2209680"/>
            <a:ext cx="38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especially important, it is very import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91440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icture is especially important to the gi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especially.png"/>
          <p:cNvPicPr/>
          <p:nvPr/>
        </p:nvPicPr>
        <p:blipFill>
          <a:blip r:embed="rId1"/>
          <a:stretch/>
        </p:blipFill>
        <p:spPr>
          <a:xfrm>
            <a:off x="609480" y="1752480"/>
            <a:ext cx="369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emo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800600" y="175248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emorize a poem, you learn it so you can say it without loo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85800" y="5029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had to memorize their part for the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emorize.jpg"/>
          <p:cNvPicPr/>
          <p:nvPr/>
        </p:nvPicPr>
        <p:blipFill>
          <a:blip r:embed="rId1"/>
          <a:stretch/>
        </p:blipFill>
        <p:spPr>
          <a:xfrm>
            <a:off x="685800" y="1676520"/>
            <a:ext cx="3827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n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724280" y="17524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sensed something, you had a feeling about it before you were even tol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685800" y="5638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uld sense a storm was c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ensed.jpg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17524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will have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533520"/>
            <a:ext cx="7086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hop like a rabb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leap like a fr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swim like a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run like a d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57200"/>
            <a:ext cx="53316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1523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666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733920"/>
            <a:ext cx="53352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228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 am si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57600" y="30492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like mi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1371600"/>
            <a:ext cx="180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2004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 have a c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352680" y="320040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457200"/>
            <a:ext cx="64767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J Basic"/>
              </a:rPr>
              <a:t>Circle the naming part of each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sat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sat down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Bill will sit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y dog sits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They like my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1828800"/>
            <a:ext cx="533520" cy="60948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590920"/>
            <a:ext cx="106704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429000"/>
            <a:ext cx="106668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4267080"/>
            <a:ext cx="160020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5181480"/>
            <a:ext cx="1143000" cy="6098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What signs do you see every day?  What do they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A ____________ sign tells u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8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28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1905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905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im had a pin in his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pig likes to dig in the s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o not like that p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id sit in the v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big cat sat on the m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9907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9907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990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0574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0574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029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029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095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172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828800"/>
            <a:ext cx="79246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99072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143000" cy="982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886200" y="2133720"/>
            <a:ext cx="1238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486400" y="1905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858000" y="2514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19320" y="304920"/>
            <a:ext cx="7162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w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100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7 L -0.03333 0.31075 E">
                                      <p:cBhvr>
                                        <p:cTn id="35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7341E-006 L -0.12084 0.33919 E">
                                      <p:cBhvr>
                                        <p:cTn id="3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86127E-006 L -0.20833 0.44392 E">
                                      <p:cBhvr>
                                        <p:cTn id="36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2775 L 0.39584 0.17202 E">
                                      <p:cBhvr>
                                        <p:cTn id="3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50867E-006 L 0.05 0.37735 E">
                                      <p:cBhvr>
                                        <p:cTn id="38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994 L 0.00417 0.36069 E">
                                      <p:cBhvr>
                                        <p:cTn id="3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28600"/>
            <a:ext cx="81532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97452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434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486400" y="304920"/>
            <a:ext cx="1265400" cy="101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wi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9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1.27168E-006 L 1.73472E-018 0.32185 E">
                                      <p:cBhvr>
                                        <p:cTn id="42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3.87283E-006 L -0.275 0.43283 E">
                                      <p:cBhvr>
                                        <p:cTn id="42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3526E-006 L -0.45834 0.72138 E">
                                      <p:cBhvr>
                                        <p:cTn id="42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5942 L 0.48334 0.38127 E">
                                      <p:cBhvr>
                                        <p:cTn id="43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0.0333 L 0.33004 0.56601 E">
                                      <p:cBhvr>
                                        <p:cTn id="4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6659 L -0.10833 0.75468 E">
                                      <p:cBhvr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24:35Z</dcterms:created>
  <dc:creator>Christina Ramsey</dc:creator>
  <dc:description/>
  <dc:language>en-US</dc:language>
  <cp:lastModifiedBy>Christina Ramsey</cp:lastModifiedBy>
  <dcterms:modified xsi:type="dcterms:W3CDTF">2009-09-02T19:02:10Z</dcterms:modified>
  <cp:revision>9</cp:revision>
  <dc:subject/>
  <dc:title>Slide 1</dc:title>
</cp:coreProperties>
</file>