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EFA-0F76-4843-AC32-2F814E23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423-2454-45AC-B633-D2F56A5B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228-9035-46C7-A86D-AC4F5681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E18-9879-4E31-9B6C-555304E2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BFA-1385-42DF-96B6-51A1093D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D75-AA5E-4F5A-9D61-7CC43523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DF7-A352-41FB-A67F-B317A8FC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6A1-FBD9-4FAF-852D-BFB62BD0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575-EE46-4084-B964-7599DB1B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C99-B515-4CDB-A3CE-F1DA4B9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F38-4802-4486-A92B-AF4EDF6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BD5-DA29-4B94-A3F7-5863FF1F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D543-AB06-4D5A-9DA8-A396B510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5228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Lesson 3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Day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3076560"/>
            <a:ext cx="58672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457200"/>
            <a:ext cx="5790960" cy="70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, to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, to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2714400" cy="3714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216216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066680" y="304920"/>
            <a:ext cx="7162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DJ Basic"/>
              </a:rPr>
              <a:t>Classify/Categori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DJ Basic"/>
              <a:ea typeface="DJ Basic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029200" y="2209680"/>
            <a:ext cx="3886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capacity of something is the amount of space it has to hold th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04920" y="5562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elly bean jar has a capacity of 200 jelly be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a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029200" y="2209680"/>
            <a:ext cx="3886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haul something, you use a lot of effort to move it from one place to an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04920" y="5562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uck had to haul the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6957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ro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029200" y="2209680"/>
            <a:ext cx="3886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proud you feel very good about something you did or who you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0492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was proud to the big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914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30492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Fix this senten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17524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his pal is ki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95280" y="380880"/>
            <a:ext cx="647712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 was up at b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_ sat in the s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 had some popco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 was f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304920"/>
            <a:ext cx="6858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Basic"/>
              </a:rPr>
              <a:t>Circle the naming part of each sentence.  Write the sentence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1.  bill is at c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2.  kim is his 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3.  she is at c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4.  they see s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5.  the two pals d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15238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hunkM"/>
              </a:rPr>
              <a:t>Question of th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hunkM"/>
              <a:ea typeface="DJ ChunkM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DJ ChunkM"/>
              </a:rPr>
              <a:t>Traffic lights and traffic signs are important.  How do you use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572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J ChunkM"/>
              </a:rPr>
              <a:t>When I see ______, I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9"/>
          <p:cNvSpPr/>
          <p:nvPr/>
        </p:nvSpPr>
        <p:spPr>
          <a:xfrm>
            <a:off x="609480" y="1371600"/>
            <a:ext cx="2514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800600" y="1371600"/>
            <a:ext cx="251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t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5120" y="3049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DJ Basic"/>
              </a:rPr>
              <a:t>Word Wall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6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90920" y="2514600"/>
            <a:ext cx="3886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hy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ecogni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Produ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DJ ChunkM"/>
              </a:rPr>
              <a:t>Word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762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447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809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5486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5486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762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447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209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533520"/>
            <a:ext cx="2438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f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w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b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1219320"/>
            <a:ext cx="381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28600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342900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609480"/>
            <a:ext cx="2438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ki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pa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mi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Ma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29528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3623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46483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981080" y="304920"/>
            <a:ext cx="5105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Reading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295280"/>
            <a:ext cx="5562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Dad has a list in his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Milk is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Ham is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Dad will go s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I will ask Dad if I can go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371600"/>
            <a:ext cx="914400" cy="53352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1447920"/>
            <a:ext cx="762120" cy="3808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371600"/>
            <a:ext cx="685800" cy="4572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1295280"/>
            <a:ext cx="990720" cy="6098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447920"/>
            <a:ext cx="761760" cy="3808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133720"/>
            <a:ext cx="83808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286000"/>
            <a:ext cx="380880" cy="3808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209680"/>
            <a:ext cx="838080" cy="4572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971800"/>
            <a:ext cx="99072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124080"/>
            <a:ext cx="380880" cy="3812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895480"/>
            <a:ext cx="761760" cy="6858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809880"/>
            <a:ext cx="990720" cy="6098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3809880"/>
            <a:ext cx="685800" cy="6098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648320"/>
            <a:ext cx="76212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4648320"/>
            <a:ext cx="68580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4648320"/>
            <a:ext cx="83844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4648320"/>
            <a:ext cx="53352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4648320"/>
            <a:ext cx="76176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95280" y="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071720"/>
            <a:ext cx="2971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071720"/>
            <a:ext cx="2971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h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h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s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t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002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g is bi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954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 on the p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3434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dig in the s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66680" y="11430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hold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1430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home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1430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soon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295280"/>
            <a:ext cx="65530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get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9:52:39Z</dcterms:created>
  <dc:creator>Christina Ramsey</dc:creator>
  <dc:description/>
  <dc:language>en-US</dc:language>
  <cp:lastModifiedBy>Christina Ramsey</cp:lastModifiedBy>
  <dcterms:modified xsi:type="dcterms:W3CDTF">2009-09-04T12:16:13Z</dcterms:modified>
  <cp:revision>3</cp:revision>
  <dc:subject/>
  <dc:title>Slide 1</dc:title>
</cp:coreProperties>
</file>