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E01E-E253-440D-8A51-DB18ECC0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E240-A657-494C-8D73-6AD05212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BE8-49D7-4369-9484-E5D40B33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779B-8A07-4A70-8710-2B693648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06E-6254-4B4F-B9E5-0D3F2CDD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231-8A7D-4481-9656-AD141CEC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4085-4ED9-4838-AB2E-961839B7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8D0-59A3-4B17-9DF7-C8D2F01D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549-A56D-4D77-A5D6-0DC0781C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9831-0B37-42B5-8117-5CF2CD29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CC8-048A-4071-9C93-AED66A7F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485E-260B-4410-BE93-8F4B923B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DE63-A3EA-4F39-8588-6E989895C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152280"/>
            <a:ext cx="69343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Classic"/>
              </a:rPr>
              <a:t>Lesson 3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Classic"/>
              <a:ea typeface="DJ Clas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Classic"/>
              </a:rPr>
              <a:t>Day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Classic"/>
              <a:ea typeface="DJ Classic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3076560"/>
            <a:ext cx="586728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76520" y="457200"/>
            <a:ext cx="5790960" cy="70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DJ Basic"/>
              </a:rPr>
              <a:t>My cat is six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DJ Basic"/>
              </a:rPr>
              <a:t>My cat is six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DJ Basic"/>
              </a:rPr>
              <a:t>My cat is six, to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DJ Basic"/>
              </a:rPr>
              <a:t>My cat is six, too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9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9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2714400" cy="3714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2162160" cy="3352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066680" y="304920"/>
            <a:ext cx="7162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DJ Basic"/>
              </a:rPr>
              <a:t>Classify/Categoriz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DJ Basic"/>
              <a:ea typeface="DJ Basic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334120" y="205740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905120" y="0"/>
            <a:ext cx="525780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apac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029200" y="2209680"/>
            <a:ext cx="3886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capacity of something is the amount of space it has to hold thin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304920" y="55627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elly bean jar has a capacity of 200 jelly be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05120" y="0"/>
            <a:ext cx="525780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au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5029200" y="2209680"/>
            <a:ext cx="3886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haul something, you use a lot of effort to move it from one place to ano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304920" y="55627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uck had to haul the r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69576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05120" y="0"/>
            <a:ext cx="525780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rou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029200" y="2209680"/>
            <a:ext cx="3886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proud you feel very good about something you did or who you 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304920" y="6019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 was proud to the big f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29145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219320" y="304920"/>
            <a:ext cx="6476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Basic"/>
              </a:rPr>
              <a:t>Fix this sentenc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17524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his pal is ki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95280" y="380880"/>
            <a:ext cx="647712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________ was up at b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_________ sat in the s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_______ had some popcor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________ was f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304920"/>
            <a:ext cx="68580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J Basic"/>
              </a:rPr>
              <a:t>Circle the naming part of each sentence.  Write the sentence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J Basic"/>
              </a:rPr>
              <a:t>1.  bill is at ca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J Basic"/>
              </a:rPr>
              <a:t>2.  kim is his 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J Basic"/>
              </a:rPr>
              <a:t>3.  she is at ca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J Basic"/>
              </a:rPr>
              <a:t>4.  they see s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J Basic"/>
              </a:rPr>
              <a:t>5.  the two pals d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15238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J Bas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219320" y="380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ChunkM"/>
              </a:rPr>
              <a:t>Question of the D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ChunkM"/>
              <a:ea typeface="DJ ChunkM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DJ ChunkM"/>
              </a:rPr>
              <a:t>Traffic lights and traffic signs are important.  How do you use th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572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J ChunkM"/>
              </a:rPr>
              <a:t>When I see ______, I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9"/>
          <p:cNvSpPr/>
          <p:nvPr/>
        </p:nvSpPr>
        <p:spPr>
          <a:xfrm>
            <a:off x="609480" y="1371600"/>
            <a:ext cx="2514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e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800600" y="1371600"/>
            <a:ext cx="2514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t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5120" y="304920"/>
            <a:ext cx="5486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DJ Basic"/>
              </a:rPr>
              <a:t>Word Wall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016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90920" y="2514600"/>
            <a:ext cx="3886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Rhy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Recognit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a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Product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DJ ChunkM"/>
              </a:rPr>
              <a:t>Word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7621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14479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1447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447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2096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22096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22096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9718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2971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971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38098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38098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8098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46483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46483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648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54864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5486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5486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5486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762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1447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22096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2971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533520"/>
            <a:ext cx="243864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l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fa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w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b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1219320"/>
            <a:ext cx="3812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2286000"/>
            <a:ext cx="380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3429000"/>
            <a:ext cx="380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4572000"/>
            <a:ext cx="380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609480"/>
            <a:ext cx="24382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ki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pa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mit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Mat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295280"/>
            <a:ext cx="380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29400" y="2362320"/>
            <a:ext cx="380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4648320"/>
            <a:ext cx="380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981080" y="304920"/>
            <a:ext cx="51055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DJ Basic"/>
              </a:rPr>
              <a:t>Reading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DJ Basic"/>
              <a:ea typeface="DJ Basic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295280"/>
            <a:ext cx="55627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Dad has a list in his h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Milk is on the l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Ham is on the l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Dad will go so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I will ask Dad if I can go, to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371600"/>
            <a:ext cx="914400" cy="53352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1447920"/>
            <a:ext cx="762120" cy="38088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1371600"/>
            <a:ext cx="685800" cy="45720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1295280"/>
            <a:ext cx="990720" cy="60984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1447920"/>
            <a:ext cx="761760" cy="38088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2133720"/>
            <a:ext cx="838080" cy="60948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2286000"/>
            <a:ext cx="380880" cy="38088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209680"/>
            <a:ext cx="838080" cy="45720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2971800"/>
            <a:ext cx="990720" cy="60948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124080"/>
            <a:ext cx="380880" cy="38124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895480"/>
            <a:ext cx="761760" cy="68580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3809880"/>
            <a:ext cx="990720" cy="60984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3809880"/>
            <a:ext cx="685800" cy="60984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4648320"/>
            <a:ext cx="762120" cy="53316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4648320"/>
            <a:ext cx="685800" cy="53316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4648320"/>
            <a:ext cx="838440" cy="53316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4648320"/>
            <a:ext cx="533520" cy="53316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4648320"/>
            <a:ext cx="761760" cy="60948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95280" y="0"/>
            <a:ext cx="6477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071720"/>
            <a:ext cx="29718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1071720"/>
            <a:ext cx="29718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h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h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 h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s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. t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6002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ig is bi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89548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 on the p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3434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dig in the sa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66680" y="1143000"/>
            <a:ext cx="65534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DJ Basic"/>
              </a:rPr>
              <a:t>hold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DJ Basic"/>
              <a:ea typeface="DJ Bas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680" y="1143000"/>
            <a:ext cx="65534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DJ Basic"/>
              </a:rPr>
              <a:t>home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DJ Basic"/>
              <a:ea typeface="DJ Basic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680" y="1143000"/>
            <a:ext cx="65534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DJ Basic"/>
              </a:rPr>
              <a:t>soon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DJ Basic"/>
              <a:ea typeface="DJ Basic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19320" y="1295280"/>
            <a:ext cx="65530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DJ Basic"/>
              </a:rPr>
              <a:t>get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9:52:39Z</dcterms:created>
  <dc:creator>Christina Ramsey</dc:creator>
  <dc:description/>
  <dc:language>en-US</dc:language>
  <cp:lastModifiedBy>Christina Ramsey</cp:lastModifiedBy>
  <dcterms:modified xsi:type="dcterms:W3CDTF">2009-09-04T12:16:13Z</dcterms:modified>
  <cp:revision>3</cp:revision>
  <dc:subject/>
  <dc:title>Slide 1</dc:title>
</cp:coreProperties>
</file>