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441A-108D-43D0-BD28-5D6E1D43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FBAB-6683-4DDE-A135-12A05091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9643-7571-4264-BDAD-533240AA9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BD90-3AC4-4F74-BAED-3B02623AB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581-E350-46FA-8141-45B228F8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DAD7-025F-45B7-A73D-05190AD6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01B1-0D37-4F31-8154-FD1FEC1F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378E-04EC-4770-8A36-C5865EB60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E25E-58A5-46C4-BB1F-7906A5DCA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316D-4D73-4F6F-9082-0AA6CB59F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A80F-EF48-4124-85AD-A743025F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B4FA-D941-4B70-AA52-AF91ABB7C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BFF-4E2C-499A-BC97-22853FE2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049-F5E5-4783-95DD-CEE51D6A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606C-D443-46F7-9C78-CEB8A2F2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E6EA-FF92-48AF-B180-CBA9168BE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49B2-0FB9-40FE-80B8-0D42C3AFA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3FA8-6B6C-4568-9F96-689570BDF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337-9891-4A4A-AA11-23B89F77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2E92-138C-44FE-8A28-CA01D0B7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5D4A-0251-4059-988C-B798EF30F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CB0-96BA-4F42-B489-B66AC3F3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A5A-269D-410C-A602-18E5A30F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553-2B9D-4316-929F-9F89CBDD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469-3554-468E-AFE0-F728DED3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6E5-077A-4A0E-B9DC-EEA73DB8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8D5-0878-4864-8F52-AD2491F7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C04-322B-4A31-879C-46B9E271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0E4-D35E-4E2D-9034-7140BB25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588-E49B-4A55-9B01-38455B97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C18-DF38-4CE6-BF23-59A7C64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812-3864-43E1-B85B-E8AF120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EEC-07C3-4032-B4A4-61FA952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2877-3104-46D0-AA56-3D71E3687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3, Day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752480" y="1752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676520" y="19810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905120" y="20574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905120" y="21337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828800" y="21337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78487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228600" y="38862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My dad has a big ri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0" y="403848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ig rigs are so bi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 / 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219320" y="1600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 when you categorize things you groups them together with things that are al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143000" y="3048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en as I read “Go, Go, Go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of the sentences in the story begin with the word “I” and tell about the person in the photograp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se your hand each time I read a sentence that also tells about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295280" y="17524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our classroom have the capacity to hol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895480" y="33526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n boo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743200" y="33526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jet pl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66688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x bik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66688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ho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51460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tab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281952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big r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133720" y="19051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ld you haul this in your book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895480" y="33526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ay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66688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81952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ci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895480" y="3505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unch bo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819520" y="3505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leph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266688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tra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752480" y="1523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uld you be proud if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676520" y="29718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ed to 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600200" y="30481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e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523880" y="3124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n a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1752480" y="28195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d with your sister or br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600200" y="3124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got your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676520" y="2819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ed your best 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DJ Sunny"/>
              </a:rPr>
              <a:t>Small Grou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04920" y="1523880"/>
            <a:ext cx="853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d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ading Gro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Seat Work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omic Sans MS"/>
              </a:rPr>
              <a:t>Blue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1. Centers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Reading Group  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3. Sea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50"/>
                </a:solidFill>
                <a:uFillTx/>
                <a:latin typeface="Comic Sans MS"/>
              </a:rPr>
              <a:t>Green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1. Seat Work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2.Centers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3. Read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DJ Sunny"/>
              </a:rPr>
              <a:t>Langu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85800" y="1676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wrong with these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362320" y="2819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2362320" y="3809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my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152280" y="16765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the naming part of a sentenc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04920" y="2514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who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ere have you traveled? How did you get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urn and tell your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ent __________b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676520" y="762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the naming part of the sentence and write these sentenc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371600" y="1371600"/>
            <a:ext cx="6553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ll has a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bill and dan sit in the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he van will no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t has no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his dad will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now they have gas and can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90720" y="6172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When you finish draw a picture to illustrate the sent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– To listen and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 Alou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 I Was Going Al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P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83808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read this poem I want you think about the rhythm of the langu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magine you are riding in a car, truck or pl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8"/>
          <p:cNvSpPr/>
          <p:nvPr/>
        </p:nvSpPr>
        <p:spPr>
          <a:xfrm>
            <a:off x="2133720" y="3049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620120" y="6095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352680" y="144792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1066680" y="76212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honological Awaren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78487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447920" y="182880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t.jpg"/>
          <p:cNvPicPr/>
          <p:nvPr/>
        </p:nvPicPr>
        <p:blipFill>
          <a:blip r:embed="rId1"/>
          <a:stretch/>
        </p:blipFill>
        <p:spPr>
          <a:xfrm>
            <a:off x="6324480" y="1523880"/>
            <a:ext cx="2590920" cy="2194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762120" y="3352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word in red.  This is called a contraction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easier way to say the word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4920" y="50292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1600200" y="502920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828800" y="502920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1219320" y="510552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4495680" y="48006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 is my ca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648320" y="57150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my ca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139 L -0.0625 0.00139 E">
                                      <p:cBhvr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600200" y="18288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’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600200" y="31240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et’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lso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et 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8195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105520" y="48769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638680" y="48769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333 0 E">
                                      <p:cBhvr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828800" y="1447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read these sentences and find the cont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0" y="251460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p, T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’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T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752480" y="4876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con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45720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621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724280" y="25146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in the b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’s a w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let’s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10552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56272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410080" y="3657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6477120" y="419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2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7652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0574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3434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167652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6708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343400" y="2666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0574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4343400" y="3200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4343400" y="3809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434340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21337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4343400" y="5181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13716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kdrummond</cp:lastModifiedBy>
  <dcterms:modified xsi:type="dcterms:W3CDTF">2009-09-05T03:14:56Z</dcterms:modified>
  <cp:revision>114</cp:revision>
  <dc:subject/>
  <dc:title>Slide 1</dc:title>
</cp:coreProperties>
</file>