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C207-1A2E-479E-9256-B22C32E3F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8601-4F28-4815-96F4-45C1F9126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0979-BD43-4649-9960-27B9E5FE6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9831-D2DD-451A-BD32-810FAF1AC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40D2-F95E-4937-9AC2-AA4C413A5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1774-B453-4546-915F-9F5BC2117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C7AB-750D-4BE0-9379-124261F17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7737-E524-4A75-9B93-BB9E7EC59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0CAF-EA2A-4996-BAAC-C00D2B3DD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9E8D-DA17-41E1-A15C-214B632DD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19F6-D2ED-4FD9-AF3F-FC819D030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008F-EAA7-4528-BF59-A0800C870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4B5D-E381-41CE-AA15-6DDC1ECED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DD26-C177-479B-BC60-C186EC2D6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78B1-F83C-47E9-94C6-DAEF6D8EE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737F-538F-4A70-B827-3A2EB5CD5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F8E9-B71C-4F78-88E6-B2CB3598D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3DCB-63DF-4567-AD89-3475F285A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04FD-40BC-4627-ACA4-98673C532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4236-B657-4823-A3A6-D16A68476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10DB-D049-40AE-9400-95277F9D6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BF73-1D5D-478B-9DCA-D8395545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5144-31BE-4FD5-87C0-3B811F82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65C1-86E1-4DD4-9015-FFD7FAF0D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17BB-B620-4907-8341-17B220DCD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CCB4-1BBA-4F52-977A-304A0CDD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2980-D9BE-4449-B936-E4BC7C1F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DDD0-674C-421A-A1D0-060AAD93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9F31-3A9C-4ACF-BA38-C2B399F4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3B4F-C8D2-4D58-B332-43FBFDC3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C3A1-821C-4535-A355-920BBC1B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0779-B1E4-457E-A2F7-5E7AB753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468A-3A4B-4487-9D19-E573E36D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DF0C-9F98-460D-A6C8-BA867FDA1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33720" y="685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3, Day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3"/>
          <p:cNvSpPr/>
          <p:nvPr/>
        </p:nvSpPr>
        <p:spPr>
          <a:xfrm>
            <a:off x="1905120" y="838080"/>
            <a:ext cx="601956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DJ Polka Dot"/>
              </a:rPr>
              <a:t>Spelling Test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0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Frequenc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3200400" y="1752480"/>
            <a:ext cx="34290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get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1828800" y="1828800"/>
            <a:ext cx="59436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hold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1981080" y="1905120"/>
            <a:ext cx="59436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2743200" y="1981080"/>
            <a:ext cx="41911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good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2514600" y="1905120"/>
            <a:ext cx="46483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help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7848720" y="62485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514600" y="1981080"/>
            <a:ext cx="46483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let’s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2666880" y="1981080"/>
            <a:ext cx="46483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so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4"/>
          <p:cNvSpPr/>
          <p:nvPr/>
        </p:nvSpPr>
        <p:spPr>
          <a:xfrm>
            <a:off x="2590920" y="1981080"/>
            <a:ext cx="464796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soon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5"/>
          <p:cNvSpPr/>
          <p:nvPr/>
        </p:nvSpPr>
        <p:spPr>
          <a:xfrm>
            <a:off x="2362320" y="1981080"/>
            <a:ext cx="464796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6"/>
          <p:cNvSpPr/>
          <p:nvPr/>
        </p:nvSpPr>
        <p:spPr>
          <a:xfrm>
            <a:off x="2590920" y="1981080"/>
            <a:ext cx="464796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0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9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8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7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4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3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2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1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y / Categor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295280" y="1371600"/>
          <a:ext cx="6477120" cy="4754520"/>
        </p:xfrm>
        <a:graphic>
          <a:graphicData uri="http://schemas.openxmlformats.org/drawingml/2006/table">
            <a:tbl>
              <a:tblPr/>
              <a:tblGrid>
                <a:gridCol w="1295640"/>
                <a:gridCol w="1752480"/>
                <a:gridCol w="1676520"/>
                <a:gridCol w="175248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n You Hear a Rainbow?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ig Rigs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o, Go, Go!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o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a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22" name="TextBox 6"/>
          <p:cNvSpPr/>
          <p:nvPr/>
        </p:nvSpPr>
        <p:spPr>
          <a:xfrm>
            <a:off x="2666880" y="27432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4495680" y="2819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6095880" y="2819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2743200" y="38862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 soc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 in a 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4419720" y="3962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up the r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 the r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1"/>
          <p:cNvSpPr/>
          <p:nvPr/>
        </p:nvSpPr>
        <p:spPr>
          <a:xfrm>
            <a:off x="6095880" y="38862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2666880" y="51055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cer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3"/>
          <p:cNvSpPr/>
          <p:nvPr/>
        </p:nvSpPr>
        <p:spPr>
          <a:xfrm>
            <a:off x="4419720" y="51055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4"/>
          <p:cNvSpPr/>
          <p:nvPr/>
        </p:nvSpPr>
        <p:spPr>
          <a:xfrm>
            <a:off x="6095880" y="50292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g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bust Vocabula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u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peci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3"/>
          <p:cNvSpPr/>
          <p:nvPr/>
        </p:nvSpPr>
        <p:spPr>
          <a:xfrm>
            <a:off x="1295280" y="45720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you </a:t>
            </a:r>
            <a:r>
              <a:rPr b="0" i="1" lang="en-US" sz="3200" spc="-1" strike="noStrike">
                <a:solidFill>
                  <a:srgbClr val="ff0000"/>
                </a:solidFill>
                <a:latin typeface="Comic Sans MS"/>
              </a:rPr>
              <a:t>sens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ou little sister would you ignore the feeling or tell someone abou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1219320" y="29718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foods do you </a:t>
            </a:r>
            <a:r>
              <a:rPr b="0" i="1" lang="en-US" sz="3200" spc="-1" strike="noStrike">
                <a:solidFill>
                  <a:srgbClr val="ff0000"/>
                </a:solidFill>
                <a:latin typeface="Comic Sans MS"/>
              </a:rPr>
              <a:t>especially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1219320" y="464832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you feel </a:t>
            </a:r>
            <a:r>
              <a:rPr b="0" i="1" lang="en-US" sz="3200" spc="-1" strike="noStrike">
                <a:solidFill>
                  <a:srgbClr val="ff0000"/>
                </a:solidFill>
                <a:latin typeface="Comic Sans MS"/>
              </a:rPr>
              <a:t>prou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yourself when you do something well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3"/>
          <p:cNvSpPr/>
          <p:nvPr/>
        </p:nvSpPr>
        <p:spPr>
          <a:xfrm>
            <a:off x="1295280" y="45720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Let’s Prete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1143000" y="1676520"/>
            <a:ext cx="685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your classroom is filled to capacity with 100 students. Act out how you would look after a long day of being in this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1371600" y="441972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are hauling a large bag of toys across the room. How would you loo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838080" y="1523880"/>
            <a:ext cx="7696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st night you were sleeping and sensed a fire.  Show us what you would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just memorized a long poem. Show how you would act when the audience claps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7924680" y="6248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500"/>
                            </p:stCondLst>
                            <p:childTnLst>
                              <p:par>
                                <p:cTn id="64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DJ Sunny"/>
              </a:rPr>
              <a:t>Small Grou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304920" y="1523880"/>
            <a:ext cx="8534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Red gro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ading Group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. Seat Work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. C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70c0"/>
                </a:solidFill>
                <a:uFillTx/>
                <a:latin typeface="Comic Sans MS"/>
              </a:rPr>
              <a:t>Blue Gro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1. Centers</a:t>
            </a: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Reading Group  </a:t>
            </a: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3. Sea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b050"/>
                </a:solidFill>
                <a:uFillTx/>
                <a:latin typeface="Comic Sans MS"/>
              </a:rPr>
              <a:t>Green Gro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1. Seat Work</a:t>
            </a: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2.Centers</a:t>
            </a: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3. Read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7030a0"/>
                </a:solidFill>
                <a:latin typeface="DJ Sunny"/>
              </a:rPr>
              <a:t>Languag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685800" y="16765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wrong with these sentenc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777240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2362320" y="28195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m and jan ran f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2362320" y="38098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 and fred can sw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3"/>
          <p:cNvSpPr/>
          <p:nvPr/>
        </p:nvSpPr>
        <p:spPr>
          <a:xfrm>
            <a:off x="609480" y="16765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ar is a sentence about something I d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5"/>
          <p:cNvSpPr/>
          <p:nvPr/>
        </p:nvSpPr>
        <p:spPr>
          <a:xfrm>
            <a:off x="304920" y="266688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you tell me the naming part of this sent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609480" y="39625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 likes the water, sand and sh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nk of a place you would want to visit.  Where would it be? How would you get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Turn and tell your part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 want to go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 will go there in a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1676520" y="76212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le the naming part of the sentence and write these sentences correc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152280" y="1600200"/>
            <a:ext cx="563904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 will get in the 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we can float on th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my dad is with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 do not get 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liz and dad did get 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990720" y="6172200"/>
            <a:ext cx="73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When you finish draw a picture to illustrate the senten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children rafting.jpg"/>
          <p:cNvPicPr/>
          <p:nvPr/>
        </p:nvPicPr>
        <p:blipFill>
          <a:blip r:embed="rId1"/>
          <a:stretch/>
        </p:blipFill>
        <p:spPr>
          <a:xfrm>
            <a:off x="5562720" y="2666880"/>
            <a:ext cx="33112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5242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 – To listen and respond to a po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52280"/>
            <a:ext cx="85345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ead Alou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 I Was Going Along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7772400" y="6248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PR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838080" y="251460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you have fun saying this rhy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s enjoyable about saying this rhy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ld you memorize it and say it over and over agai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8"/>
          <p:cNvSpPr/>
          <p:nvPr/>
        </p:nvSpPr>
        <p:spPr>
          <a:xfrm>
            <a:off x="2133720" y="304920"/>
            <a:ext cx="533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d 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7620120" y="60958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2362320" y="1447920"/>
            <a:ext cx="2743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5029200" y="1600200"/>
            <a:ext cx="2743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t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5"/>
          <p:cNvSpPr/>
          <p:nvPr/>
        </p:nvSpPr>
        <p:spPr>
          <a:xfrm>
            <a:off x="1066680" y="762120"/>
            <a:ext cx="685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Phonological Awarenes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7848720" y="62485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500"/>
                            </p:stCondLst>
                            <p:childTnLst>
                              <p:par>
                                <p:cTn id="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action ‘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3733920" y="18288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3809880" y="28954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4572000" y="18288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4724280" y="182880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4419720" y="1828800"/>
            <a:ext cx="2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4800600" y="2895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1"/>
          <p:cNvSpPr/>
          <p:nvPr/>
        </p:nvSpPr>
        <p:spPr>
          <a:xfrm>
            <a:off x="5029200" y="2895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4648320" y="281952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3"/>
          <p:cNvSpPr/>
          <p:nvPr/>
        </p:nvSpPr>
        <p:spPr>
          <a:xfrm>
            <a:off x="2209680" y="38098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Try these contr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4"/>
          <p:cNvSpPr/>
          <p:nvPr/>
        </p:nvSpPr>
        <p:spPr>
          <a:xfrm>
            <a:off x="3886200" y="46483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r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5"/>
          <p:cNvSpPr/>
          <p:nvPr/>
        </p:nvSpPr>
        <p:spPr>
          <a:xfrm>
            <a:off x="3962520" y="46483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re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6"/>
          <p:cNvSpPr/>
          <p:nvPr/>
        </p:nvSpPr>
        <p:spPr>
          <a:xfrm>
            <a:off x="3886200" y="46483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7"/>
          <p:cNvSpPr/>
          <p:nvPr/>
        </p:nvSpPr>
        <p:spPr>
          <a:xfrm>
            <a:off x="3886200" y="46483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3334 0 E">
                                      <p:cBhvr>
                                        <p:cTn id="113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167 0 E">
                                      <p:cBhvr>
                                        <p:cTn id="136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 Vowel /i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838080" y="16002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2666880" y="16002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sat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c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914400" y="24382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914400" y="32004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914400" y="38862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>
            <a:off x="838080" y="54864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9"/>
          <p:cNvSpPr/>
          <p:nvPr/>
        </p:nvSpPr>
        <p:spPr>
          <a:xfrm>
            <a:off x="914400" y="4648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0"/>
          <p:cNvSpPr/>
          <p:nvPr/>
        </p:nvSpPr>
        <p:spPr>
          <a:xfrm>
            <a:off x="2590920" y="243828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have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i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n my jac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2514600" y="32767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i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t pi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2743200" y="39625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phants ar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i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3"/>
          <p:cNvSpPr/>
          <p:nvPr/>
        </p:nvSpPr>
        <p:spPr>
          <a:xfrm>
            <a:off x="2438280" y="46483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y dog likes to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i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the y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4"/>
          <p:cNvSpPr/>
          <p:nvPr/>
        </p:nvSpPr>
        <p:spPr>
          <a:xfrm>
            <a:off x="2666880" y="54100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y home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5"/>
          <p:cNvSpPr/>
          <p:nvPr/>
        </p:nvSpPr>
        <p:spPr>
          <a:xfrm>
            <a:off x="8153280" y="6248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 Vowel /i/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838080" y="16002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2666880" y="16002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a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ggs for break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914400" y="22860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2743200" y="23623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a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next to Sam on the b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990720" y="32004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2743200" y="32767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I can’t go to the mov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990720" y="3962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0"/>
          <p:cNvSpPr/>
          <p:nvPr/>
        </p:nvSpPr>
        <p:spPr>
          <a:xfrm>
            <a:off x="2590920" y="39625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is my favorite book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990720" y="48006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2"/>
          <p:cNvSpPr/>
          <p:nvPr/>
        </p:nvSpPr>
        <p:spPr>
          <a:xfrm>
            <a:off x="2666880" y="4800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i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nder the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990720" y="56386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4"/>
          <p:cNvSpPr/>
          <p:nvPr/>
        </p:nvSpPr>
        <p:spPr>
          <a:xfrm>
            <a:off x="2666880" y="56386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’t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i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our little s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ctation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1676520" y="15238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ig is bi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1676520" y="28195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t on the p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1600200" y="41148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dig in the s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9-09-07T20:57:34Z</dcterms:modified>
  <cp:revision>126</cp:revision>
  <dc:subject/>
  <dc:title>Slide 1</dc:title>
</cp:coreProperties>
</file>