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8003-C014-4C91-A345-14E436894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6FF7-C940-4E74-ACDA-9745EED1D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93E1-073C-4E0F-96F6-70685258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D6C-C546-49E7-BAC2-4E70F2647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D725-E47D-4D03-94C8-CB6AA86C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9F51-E639-47A0-9142-4B4BC7605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973A-F61B-494D-B21D-58BADD016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4CB-ABB4-4E9C-BCA5-2A9D2CD80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6C39-C868-438B-80ED-43A306E45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BB27-CDA3-463C-94CA-922291A74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D78B-EDD4-4085-8955-62D44AB4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10E8-A4F4-48A0-904B-743EED92D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CEDB-914E-43EB-AC37-BA76EA7E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9167-34DD-44B5-8F90-32DC61FA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56A0-09BC-415B-ACD5-D87F3BA3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6025-4297-4CB9-8C05-B5BA2845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4631-19CD-43F0-B565-8E419DD4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0DE-5952-45FA-88C1-0012A425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ED55-F3D0-400F-A9F1-2A8F853C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EF6-53B6-4303-B9F8-1ABDD90AC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455A-F5BE-44B6-982A-26FF1EDF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D8B-ECDA-4467-A438-BF5B3857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DE4-9EA8-4935-BD80-5E390FFB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BD2-DF67-4471-9388-4931BBE5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F1C-91ED-4A4E-9836-9D2DFDAD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B14-6EE1-41F0-9783-D715CA16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C8C-0153-4C65-A0B1-37AC59F1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2DE-ECC1-4D2B-9F14-7E73FA7D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DC4-9D05-436D-8448-8427370C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C56-5975-4E29-936F-C333CEA8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2C2-8E79-4048-A834-9BF08622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A84-9B52-4AE2-A017-11461B34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F56-A800-4DDC-A8B0-F4D3F23E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2390-BE30-4364-92F7-514D552E5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3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1905120" y="838080"/>
            <a:ext cx="601956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DJ Polka Dot"/>
              </a:rPr>
              <a:t>Spelling Tes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200400" y="1752480"/>
            <a:ext cx="3429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828800" y="1828800"/>
            <a:ext cx="5943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981080" y="1905120"/>
            <a:ext cx="5943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743200" y="1981080"/>
            <a:ext cx="4191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514600" y="190512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8487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514600" y="198108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let’s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666880" y="198108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5909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23623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25909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 / 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1371600"/>
          <a:ext cx="6477120" cy="47545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676520"/>
                <a:gridCol w="17524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n You Hear a Rainbow?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ig Rigs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, Go, Go!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6"/>
          <p:cNvSpPr/>
          <p:nvPr/>
        </p:nvSpPr>
        <p:spPr>
          <a:xfrm>
            <a:off x="266688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495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09588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74320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soc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in a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4197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up the 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the 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095880" y="3886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666880" y="5105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cer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4419720" y="5105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095880" y="5029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eci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1295280" y="4572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sens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little sister would you ignore the feeling or tell someone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219320" y="2971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foods do you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219320" y="46483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prou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yourself when you do something well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295280" y="457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Pret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143000" y="167652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classroom is filled to capacity with 100 students. Act out how you would look after a long day of being in this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371600" y="44197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hauling a large bag of toys across the room. How would you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38080" y="152388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night you were sleeping and sensed a fire.  Show us what you would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just memorized a long poem. Show how you would act when the audience clap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924680" y="624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500"/>
                            </p:stCondLst>
                            <p:childTnLst>
                              <p:par>
                                <p:cTn id="6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J Sunny"/>
              </a:rPr>
              <a:t>Small Gro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04920" y="1523880"/>
            <a:ext cx="853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d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ing Gro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Seat Work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Blue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1. Centers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Reading Group  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3. Sea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Comic Sans MS"/>
              </a:rPr>
              <a:t>Green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1. Seat Work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2.Centers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3. Read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DJ Sunny"/>
              </a:rPr>
              <a:t>Langu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85800" y="1676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rong with these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3623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m and jan ran 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23623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 and fred can sw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609480" y="16765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r is a sentence about something I d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304920" y="26668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tell me the naming part of this sent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609480" y="3962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 likes the water, sand and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a place you would want to visit.  Where would it be? How would you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urn and tell your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ant to go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ill go there in a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676520" y="762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the naming part of the sentence and write these sentenc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2280" y="1600200"/>
            <a:ext cx="56390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will get in the 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we can float o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my dad is with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do not get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liz and dad did get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90720" y="6172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When you finish draw a picture to illustrate the sent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hildren rafting.jpg"/>
          <p:cNvPicPr/>
          <p:nvPr/>
        </p:nvPicPr>
        <p:blipFill>
          <a:blip r:embed="rId1"/>
          <a:stretch/>
        </p:blipFill>
        <p:spPr>
          <a:xfrm>
            <a:off x="5562720" y="2666880"/>
            <a:ext cx="3311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– To listen and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 Alou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 I Was Going Al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P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38080" y="25146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have fun saying thi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enjoyable about saying thi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you memorize it and say it over and over aga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8"/>
          <p:cNvSpPr/>
          <p:nvPr/>
        </p:nvSpPr>
        <p:spPr>
          <a:xfrm>
            <a:off x="2133720" y="304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620120" y="6095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362320" y="144792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029200" y="160020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/>
          <p:cNvSpPr/>
          <p:nvPr/>
        </p:nvSpPr>
        <p:spPr>
          <a:xfrm>
            <a:off x="1066680" y="76212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8487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33920" y="1828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988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0" y="1828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4724280" y="1828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419720" y="18288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8006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0292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648320" y="28195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2209680" y="3809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ry these cont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6252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334 0 E">
                                      <p:cBhvr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0 E">
                                      <p:cBhvr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838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91440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9144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914400" y="3886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838080" y="5486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91440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590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my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2514600" y="3276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t p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2743200" y="3962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phan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438280" y="46483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dog likes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2666880" y="5410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8153280" y="6248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ggs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914400" y="2286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743200" y="23623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xt to Sam on the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99072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743200" y="3276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 can’t go to the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99072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590920" y="3962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my favorite book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990720" y="4800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66880" y="4800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er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99072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2666880" y="56386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ittle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ation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67652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ig is b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676520" y="2819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t on the p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600200" y="4114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dig in the s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07T20:57:34Z</dcterms:modified>
  <cp:revision>126</cp:revision>
  <dc:subject/>
  <dc:title>Slide 1</dc:title>
</cp:coreProperties>
</file>