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AAC0-E7E7-4CB5-BF7C-EC4C42421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F1A7-7D54-460D-A010-7CBAD0C31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5B14-C339-43D8-B056-D6EA275F0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9A44-0499-4477-BC20-EFFCAB0BD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B9F2-C2D8-40BE-BC97-65F79BCA7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98B1-30D6-49ED-8F7E-702E4EC61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559A-F89F-4A51-B9F0-E556DB384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D381-04C7-4A17-84F4-FEF318B98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B926-930B-4097-BB6E-7B38C1E10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0F08-E637-4890-A127-68FFB62B9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187D-29A5-498A-8ACD-ED7104D27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1B73-5D8B-4BEA-A4AA-440AA53D4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ED54-9B99-48E7-B687-B40908166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7E8D-8CFD-4401-A20D-57A48E97D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099E-5D02-4478-AA3F-F1B848887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08D2-B68F-4D45-A953-199F02440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02FF-FA4E-4DB6-B454-BCC826F32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CEC6-BA4F-43BF-9C7A-361667783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CA93-6B34-4A94-94AE-7126CB2FC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9EF7-4A58-491E-B3D0-0B7B06704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2A2F-CB1F-40DE-9471-3CF3B1F1B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0BDF-813F-47A4-94E7-D5519E46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9D2F-7CB3-4094-A81F-8854AF667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79A9-AC6D-48EA-BA64-25908D7CE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AE76-C404-436C-A600-1D0E64A2A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B324-5D3D-42CA-8DC2-011100F7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C215-37AF-4D09-8E56-11C20770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FE65-1F19-4BA5-8B2D-141148968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974D-06F8-4CA4-96AB-D7602753C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0E55-B4AE-4139-9F09-223BE8943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DDE3-3AD8-428D-A811-FC2D98ABE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A0E-154F-4D46-8FB1-BB49429F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BA3-BBEE-465F-80A2-F647FC6A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6DD-827C-43A2-BE08-A41F1581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A86-3D8E-413F-AEE2-8F3C7DFF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8B8-52C3-45BB-B2C8-A3F8595F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6338-C912-4DB6-A864-8834B042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92A-C00D-4F5D-9675-517DE6FE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E30-5AAD-4CCD-9D27-9345FE3A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9E58-1520-4E2D-ABA0-E3D6407A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572-99F7-4EFB-9FA2-6839C7D8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CCA-8EAF-413A-A781-E69F289D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C5A-5B1E-4424-B052-A12282BA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5276-781C-43D4-A0F1-D239FDBC1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il 2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30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ractions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a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o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/or/er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er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r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Soon the new boy will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find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 our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Most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 rooms in the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building 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are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cold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Jake has a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mild 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rash on his ar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Do you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mind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 if I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fold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 this pap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29680" y="3049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rea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tangChe"/>
                <a:ea typeface="BatangChe"/>
              </a:rPr>
              <a:t>Think Lo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I will wind the jack-in-the-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Did you bind th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How many eggs did you fi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The kid was very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Do not grind your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ink Long 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id the worm dirt have mold on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id you hold that worm in your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id you eat those yummy ro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as that ocean water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e waves fold over at the c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lphabet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152388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hel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boo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o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5195160" y="152280"/>
            <a:ext cx="38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sequence and arrange words in alphabetical or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lphabet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47560" y="152388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gupp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sn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23920" y="1523520"/>
            <a:ext cx="40388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176800" y="152280"/>
            <a:ext cx="383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sequence and arrange words in alphabetical or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noth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rea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fro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2880" y="99072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Let’s 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Frog and Toad Togeth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When called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our first ro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4" descr="MCj03053010000[1]"/>
          <p:cNvPicPr/>
          <p:nvPr/>
        </p:nvPicPr>
        <p:blipFill>
          <a:blip r:embed="rId1"/>
          <a:stretch/>
        </p:blipFill>
        <p:spPr>
          <a:xfrm>
            <a:off x="914400" y="1676520"/>
            <a:ext cx="441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makes you ha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am happy when I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e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mend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300816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AbcBulletin"/>
              </a:rPr>
              <a:t>seized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iz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mething, you grabbed it in a sudden strong w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sports9"/>
          <p:cNvPicPr/>
          <p:nvPr/>
        </p:nvPicPr>
        <p:blipFill>
          <a:blip r:embed="rId1"/>
          <a:stretch/>
        </p:blipFill>
        <p:spPr>
          <a:xfrm>
            <a:off x="3429000" y="1066680"/>
            <a:ext cx="5553000" cy="4162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3505320" y="53341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e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were in a hurry to get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gg, what do you thing would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194520" y="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tiresome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something is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 tiresome,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t is bor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MPj04395240000[1]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273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371600" y="6095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dy is having a tiresom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tire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 me how your face looks after you have done something that i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reso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6256800" y="228600"/>
            <a:ext cx="2721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bcBulletin"/>
              </a:rPr>
              <a:t>tremendous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429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something i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remendous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very large and gr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Tremendous pain"/>
          <p:cNvPicPr/>
          <p:nvPr/>
        </p:nvPicPr>
        <p:blipFill>
          <a:blip r:embed="rId1"/>
          <a:stretch/>
        </p:blipFill>
        <p:spPr>
          <a:xfrm>
            <a:off x="3657600" y="773280"/>
            <a:ext cx="5000760" cy="47574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3657600" y="5562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 is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emend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tremend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240" y="17524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ame something </a:t>
            </a:r>
            <a:r>
              <a:rPr b="0" lang="en-US" sz="3400" spc="-1" strike="noStrike">
                <a:solidFill>
                  <a:srgbClr val="ff0000"/>
                </a:solidFill>
                <a:latin typeface="Comic Sans MS"/>
              </a:rPr>
              <a:t>tremendous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at you might see at Six Fla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f an animal made a </a:t>
            </a:r>
            <a:r>
              <a:rPr b="0" lang="en-US" sz="3400" spc="-1" strike="noStrike">
                <a:solidFill>
                  <a:srgbClr val="ff0000"/>
                </a:solidFill>
                <a:latin typeface="Comic Sans MS"/>
              </a:rPr>
              <a:t>tremendous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noise, would it be loud or sof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6180840" y="152280"/>
            <a:ext cx="2721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use of go and w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52280" y="609480"/>
            <a:ext cx="899172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“go” or “wen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ight, I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week, I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now, I _____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6"/>
          <p:cNvSpPr/>
          <p:nvPr/>
        </p:nvSpPr>
        <p:spPr>
          <a:xfrm>
            <a:off x="304920" y="152280"/>
            <a:ext cx="883908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spond to a po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ontentment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8" descr="MPj04385400000[1]"/>
          <p:cNvPicPr/>
          <p:nvPr/>
        </p:nvPicPr>
        <p:blipFill>
          <a:blip r:embed="rId1"/>
          <a:stretch/>
        </p:blipFill>
        <p:spPr>
          <a:xfrm>
            <a:off x="1654200" y="1905120"/>
            <a:ext cx="5835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62120" y="914400"/>
          <a:ext cx="7848360" cy="57150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ve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6327000" y="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 - To read high frequency word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egment phone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3" descr="j0281904"/>
          <p:cNvPicPr/>
          <p:nvPr/>
        </p:nvPicPr>
        <p:blipFill>
          <a:blip r:embed="rId1"/>
          <a:stretch/>
        </p:blipFill>
        <p:spPr>
          <a:xfrm>
            <a:off x="4392720" y="1523880"/>
            <a:ext cx="4321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114800" y="1143000"/>
            <a:ext cx="533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2767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4800600" y="11430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038480" y="11430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4191120" y="198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4419720" y="19810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6"/>
          <p:cNvSpPr/>
          <p:nvPr/>
        </p:nvSpPr>
        <p:spPr>
          <a:xfrm>
            <a:off x="4876920" y="1981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365760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4038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1"/>
          <p:cNvSpPr/>
          <p:nvPr/>
        </p:nvSpPr>
        <p:spPr>
          <a:xfrm>
            <a:off x="4495680" y="281952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4"/>
          <p:cNvSpPr/>
          <p:nvPr/>
        </p:nvSpPr>
        <p:spPr>
          <a:xfrm>
            <a:off x="4724280" y="281952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5"/>
          <p:cNvSpPr/>
          <p:nvPr/>
        </p:nvSpPr>
        <p:spPr>
          <a:xfrm>
            <a:off x="36576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6"/>
          <p:cNvSpPr/>
          <p:nvPr/>
        </p:nvSpPr>
        <p:spPr>
          <a:xfrm>
            <a:off x="41148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7"/>
          <p:cNvSpPr/>
          <p:nvPr/>
        </p:nvSpPr>
        <p:spPr>
          <a:xfrm>
            <a:off x="45720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48006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657600" y="1295280"/>
            <a:ext cx="762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267080" y="1295280"/>
            <a:ext cx="1295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0384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5181480" y="13716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88620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32767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114800" y="21337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49568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276720" y="3048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33526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3886200" y="3048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4038480" y="3048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4267080" y="3048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3733920" y="3886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41148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43434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327672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358128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403848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426708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3200400" y="5486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388620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34340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480060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f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m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mi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f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891320" y="1905120"/>
            <a:ext cx="227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m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so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n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bo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buil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janice</cp:lastModifiedBy>
  <dcterms:modified xsi:type="dcterms:W3CDTF">2009-04-29T01:26:28Z</dcterms:modified>
  <cp:revision>240</cp:revision>
  <dc:subject/>
  <dc:title>Slide 1</dc:title>
</cp:coreProperties>
</file>