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B967-8437-4ABA-A3A7-1DF0839B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DC9-A8F2-44DB-83B9-3947F3DD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B4A-4FCD-4955-8029-B6D2498E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441F-3CD4-4E47-8B73-B74AA9FBA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4A45-18A1-4C71-802D-A4D8F5495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193-1DA3-463C-9F3D-1B1A8158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D47-E6E5-4FF4-8EE8-33A3473EE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BFA1-31FD-495C-9FCB-4448D7295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F5C8-EEC5-44B5-A331-6C7C052CB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748-5ACD-4D7C-813A-0496BEAF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5519-4451-4623-97B2-98C7E5BB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90E-2A9A-4E0A-AFD7-ED566DFA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53B-6C5E-4906-8610-16A911DDE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88F-A955-458D-834E-5AFFD064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4B7-2A47-4960-996E-C5CFD2D2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22C8-C8D7-4E89-B29E-6D25E845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13F1-7924-4FE7-BE96-15B649AD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9DBE-BAD6-4509-9251-8E9BF880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9781-68EB-49C9-BED1-2AC9AFF8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6CF-9A5A-408C-B30A-A0546C191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139-CFC1-4B78-B909-2D90F46BA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B0DD-CD2D-4D1A-A745-51792637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042B-2A22-45A0-8676-33B51F8A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D0F8-4B03-478C-A2AB-A3E658182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6AC7-ACD8-4FC0-A878-D1C444E23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338-AE6B-4AFE-A7D3-A583319F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AE0-CA28-4447-BA8E-36FD178A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7018-1B3F-4CB4-8F87-D5922352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31DA-A82F-4EAA-A4B6-7A95C0F64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994-86E8-44C3-B6A4-59565EF9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4F97-FF42-46B7-98A7-7542EEC2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A98-FEE0-4D1C-8966-77D5F780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898-DB1A-4A3F-B006-5BC3411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C54-47EA-4CA7-B6C2-E70DF193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F54-307A-4150-B83E-CAA085B7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A05-9BEB-4602-8AC2-C2E901AE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DBB-B664-48B4-A0F2-D0E2787E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1D9-B000-43CE-8CA9-AAB01582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E5C-C19A-4DA3-B28C-03B0555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71C-25DA-426F-8471-A66D11D6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D9D-76A5-4AFA-9761-93CEAC3F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370-93AD-49D3-8528-2C05615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751-C6E9-44D7-8C9B-19177FD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6E11-F5E3-4BB0-8082-5C11C10D2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ril 2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30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ractions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oul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av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a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a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o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r/or/er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4760" y="1066320"/>
            <a:ext cx="5562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o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e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ger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Soon the new boy will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our cla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ost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rooms in th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building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c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Jake has a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ld 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rash on his ar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Do you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min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if I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fold</a:t>
            </a:r>
            <a:r>
              <a:rPr b="0" lang="en-US" sz="4400" spc="-1" strike="noStrike">
                <a:solidFill>
                  <a:srgbClr val="002060"/>
                </a:solidFill>
                <a:latin typeface="Constantia"/>
              </a:rPr>
              <a:t> this pap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29680" y="3049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rea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atangChe"/>
                <a:ea typeface="BatangChe"/>
              </a:rPr>
              <a:t>Think Lo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 will wind the jack-in-the-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id you bind th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How many eggs did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kid was very k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Do not grind your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ink Long 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the worm dirt have mold o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hold that worm in your h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id you eat those yummy ro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as that ocean water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e waves fold over at the co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hel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boo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195160" y="152280"/>
            <a:ext cx="38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Alphabet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4756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w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gupp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Comic Sans MS"/>
              </a:rPr>
              <a:t>sn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3920" y="1523520"/>
            <a:ext cx="40388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176800" y="152280"/>
            <a:ext cx="383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sequence and arrange words in alphabetical ord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noth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re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fro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99072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Let’s 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Frog and Toad Togeth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When called go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our first rot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roup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4" descr="MCj03053010000[1]"/>
          <p:cNvPicPr/>
          <p:nvPr/>
        </p:nvPicPr>
        <p:blipFill>
          <a:blip r:embed="rId1"/>
          <a:stretch/>
        </p:blipFill>
        <p:spPr>
          <a:xfrm>
            <a:off x="914400" y="1676520"/>
            <a:ext cx="4410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makes you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happy when I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summariz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drawingml/2006/table">
            <a:tbl>
              <a:tblPr/>
              <a:tblGrid>
                <a:gridCol w="2894040"/>
                <a:gridCol w="2813040"/>
                <a:gridCol w="305604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3008160" cy="19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bcBulletin"/>
              </a:rPr>
              <a:t>seize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mething, you grabbed it in a sudden strong w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sports9"/>
          <p:cNvPicPr/>
          <p:nvPr/>
        </p:nvPicPr>
        <p:blipFill>
          <a:blip r:embed="rId1"/>
          <a:stretch/>
        </p:blipFill>
        <p:spPr>
          <a:xfrm>
            <a:off x="3429000" y="1066680"/>
            <a:ext cx="5553000" cy="4162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3505320" y="53341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se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ere in a hurry to get to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gg, what do you thing would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194520" y="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bcBulletin"/>
              </a:rPr>
              <a:t>tiresome</a:t>
            </a:r>
            <a:br>
              <a:rPr sz="40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something is</a:t>
            </a:r>
            <a:r>
              <a:rPr b="0" lang="en-US" sz="2900" spc="-1" strike="noStrike">
                <a:solidFill>
                  <a:srgbClr val="ff0000"/>
                </a:solidFill>
                <a:latin typeface="Arial"/>
              </a:rPr>
              <a:t> tiresome,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is bor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MPj04395240000[1]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27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371600" y="6095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dy is having a tiresome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ires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me how your face looks after you have done something that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ireso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256800" y="228600"/>
            <a:ext cx="2721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429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something i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remendous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very large and gr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Tremendous pain"/>
          <p:cNvPicPr/>
          <p:nvPr/>
        </p:nvPicPr>
        <p:blipFill>
          <a:blip r:embed="rId1"/>
          <a:stretch/>
        </p:blipFill>
        <p:spPr>
          <a:xfrm>
            <a:off x="3657600" y="773280"/>
            <a:ext cx="5000760" cy="4757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365760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 is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emend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tremend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240" y="17524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Name something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at you might see at Six Fla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If an animal made a </a:t>
            </a:r>
            <a:r>
              <a:rPr b="0" lang="en-US" sz="3400" spc="-1" strike="noStrike">
                <a:solidFill>
                  <a:srgbClr val="ff0000"/>
                </a:solidFill>
                <a:latin typeface="Comic Sans MS"/>
              </a:rPr>
              <a:t>tremendous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noise, would it be loud or soft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6180840" y="152280"/>
            <a:ext cx="2721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: To develop robust vocabular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by discussing ideas and situa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0" y="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use of go and w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152280" y="609480"/>
            <a:ext cx="899172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“go” or “wen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I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night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I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now, I _____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07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304920" y="152280"/>
            <a:ext cx="883908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209680" y="0"/>
            <a:ext cx="4800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ontentment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8" descr="MPj04385400000[1]"/>
          <p:cNvPicPr/>
          <p:nvPr/>
        </p:nvPicPr>
        <p:blipFill>
          <a:blip r:embed="rId1"/>
          <a:stretch/>
        </p:blipFill>
        <p:spPr>
          <a:xfrm>
            <a:off x="1654200" y="1905120"/>
            <a:ext cx="5835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914400"/>
          <a:ext cx="7848360" cy="57150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ve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327000" y="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</a:rPr>
              <a:t>Objective - To read high frequency word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segment phone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28960" y="12189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3" descr="j0281904"/>
          <p:cNvPicPr/>
          <p:nvPr/>
        </p:nvPicPr>
        <p:blipFill>
          <a:blip r:embed="rId1"/>
          <a:stretch/>
        </p:blipFill>
        <p:spPr>
          <a:xfrm>
            <a:off x="4392720" y="1523880"/>
            <a:ext cx="432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80920" y="1143000"/>
            <a:ext cx="838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4114800" y="1143000"/>
            <a:ext cx="533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76720" y="19810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4800600" y="114300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038480" y="11430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4191120" y="198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4419720" y="198108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6"/>
          <p:cNvSpPr/>
          <p:nvPr/>
        </p:nvSpPr>
        <p:spPr>
          <a:xfrm>
            <a:off x="4876920" y="198108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36576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4038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4956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4"/>
          <p:cNvSpPr/>
          <p:nvPr/>
        </p:nvSpPr>
        <p:spPr>
          <a:xfrm>
            <a:off x="4724280" y="2819520"/>
            <a:ext cx="15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5"/>
          <p:cNvSpPr/>
          <p:nvPr/>
        </p:nvSpPr>
        <p:spPr>
          <a:xfrm>
            <a:off x="3657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6"/>
          <p:cNvSpPr/>
          <p:nvPr/>
        </p:nvSpPr>
        <p:spPr>
          <a:xfrm>
            <a:off x="41148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7"/>
          <p:cNvSpPr/>
          <p:nvPr/>
        </p:nvSpPr>
        <p:spPr>
          <a:xfrm>
            <a:off x="45720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4800600" y="3581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22100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i/ and /o/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57600" y="1295280"/>
            <a:ext cx="762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267080" y="1295280"/>
            <a:ext cx="1295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038480" y="1295280"/>
            <a:ext cx="762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172200" y="34290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5181480" y="137160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886200" y="21337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276720" y="21337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114800" y="2133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4495680" y="2133720"/>
            <a:ext cx="160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276720" y="30481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3526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388620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4038480" y="30481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4267080" y="3048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7"/>
          <p:cNvSpPr/>
          <p:nvPr/>
        </p:nvSpPr>
        <p:spPr>
          <a:xfrm>
            <a:off x="3733920" y="388620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41148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4343400" y="38862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327672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35812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40384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4267080" y="47242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3200400" y="5486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38862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3434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800600" y="5486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mi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fo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891320" y="1905120"/>
            <a:ext cx="2279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m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so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n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o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d8a"/>
                </a:solidFill>
                <a:latin typeface="Arial"/>
              </a:rPr>
              <a:t>bui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Janice Wagnon</dc:creator>
  <dc:description/>
  <dc:language>en-US</dc:language>
  <cp:lastModifiedBy>janice</cp:lastModifiedBy>
  <dcterms:modified xsi:type="dcterms:W3CDTF">2009-04-29T01:26:28Z</dcterms:modified>
  <cp:revision>240</cp:revision>
  <dc:subject/>
  <dc:title>Slide 1</dc:title>
</cp:coreProperties>
</file>