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977-34E8-45BC-8442-7B4CE6AE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4918-D542-46BC-89ED-A38C771A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43D-AF8E-415E-B88F-200E7B34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3A8-9B58-413F-A931-21B73A32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FF2-ED88-435F-9637-5D6C7207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4F5-9CD3-44D1-917C-E375EC7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8C0-E7A0-4C6F-9142-B53F54A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7FB7-04B3-41CA-8C2F-7F4803E5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C1F-5C70-47B0-A7F1-A7B08491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39E-6AC8-49CC-8AE9-BC8937C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69A-50C5-4D31-8DD5-966F15BD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4BE-0088-40F3-9293-80EE403E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32A2-6DB9-4DFA-A86D-32603C5E9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30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30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ne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e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n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i/ i, /o/ 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i/ i, /o/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143000"/>
            <a:ext cx="876312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en i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ld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 big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lik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t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of all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took her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il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i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pulls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near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ol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en does not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She pulls on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day to fly a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5944680" y="64771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arrange words in alphabetical or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betize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85800"/>
            <a:ext cx="89917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Listing words in alphabetical order makes it easier to find specific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*In a glossary, where would you look for the word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table?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With words beginning with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or words beginning with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048120"/>
            <a:ext cx="3353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5909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in alphabetical ord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429000"/>
            <a:ext cx="3886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8600"/>
            <a:ext cx="701028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ugust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ere shall we g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shall we pl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shall we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 a hot summer 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e’ll sit in a s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Go low. Go hi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 drink lemon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ill the glass is d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e straw for y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e straw for 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n the cool green s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f the walnut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905120"/>
            <a:ext cx="2743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at do the people in the poem want to do on the August aftern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at rhyming words do you h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au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g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exhausted, you are so tired you can hardly m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haus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ttle boy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ha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143000"/>
            <a:ext cx="8763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nswer in one voice.. Which would make you feel more exhausted:  writing a long story or climbing a rock w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what you would do if you felt exhaus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If I was exhausted, I would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wo words would you use to describe yourself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am special because I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utrag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outrageous, it is different in a shocking wa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rageo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 purple flower had one red and yellow pe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6096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Do you think it would be outrageous to dress your dog up in your cloth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something outrageous you might s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omething outrageous I might see is 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patient, you put up with things without compl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ti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562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n was ver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t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waiting to catch a f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990720"/>
            <a:ext cx="8763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Is it harder for you to be patient to open a birthday present or go to a special place with your family?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Turn and talk with your partner about a time when you had to be patient at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I had to be patient when _________.</a:t>
            </a: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go and went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37160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, we ______ to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, we _______ to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lass ______to art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can ________ to the nurse to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go and w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Using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go</a:t>
            </a: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Ben _____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my dog will _____ for a long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_____ to the vet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we all ____ to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y and Kim will ____ to the beach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 ______ to the seashore last summ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go and went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6197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25780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1905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43600" y="1905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2362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334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04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066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Write sentences to describe a room in your home. Use words that describe size, color, and dire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a poem through movement; to identify rhyming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981080" y="-152280"/>
            <a:ext cx="52578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onstantia"/>
              </a:rPr>
              <a:t>Conten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wise,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strong,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flex mus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right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nod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never be wrong.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shake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t since none of 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 likely to b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’m really quite happy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smi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 be only me.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sel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228600"/>
            <a:ext cx="5181480" cy="77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r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l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ending phonemes from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914400"/>
            <a:ext cx="30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17524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429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42900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i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b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30T03:04:22Z</dcterms:modified>
  <cp:revision>155</cp:revision>
  <dc:subject/>
  <dc:title>Slide 1</dc:title>
</cp:coreProperties>
</file>