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759-94B1-40C4-A6EF-C2709FDB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BA5-BBCE-4DCB-8DA5-2FC0C54F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2B5-867B-457C-AFFA-474DC356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AF9-9911-473B-9AE1-7212849C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B33D-BE46-43C7-ABE5-2372DA29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577-1240-404E-B070-03ED993D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8CC-CFB5-46A4-A2DD-0B7B9273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3C6-3897-49A8-B648-A7CE0B18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7CD-CB1A-48FF-91AF-EB6A39F5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262-B62C-4783-8CD2-2C0104A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1176-354E-4C49-8F97-DD571D6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1B7-F841-4A14-A3D7-3B2EF8F5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4E2C-98F0-4F8F-B078-9DB9B7377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bruary 17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22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09680" y="990720"/>
            <a:ext cx="5943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urs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April 30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Lesson 30, Day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ne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e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n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e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w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96080" y="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words with /i/ i, /o/ 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Long Vowel /i/ i, /o/ 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143000"/>
            <a:ext cx="876312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en is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lding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 big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lik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it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of all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he took her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hom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wil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wi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pulls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near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pol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Jen does not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in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 She pulls on the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lin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day to fly a 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ki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ll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286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common vowel spelling patterns to read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219320"/>
            <a:ext cx="3429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m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371600"/>
            <a:ext cx="327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7. 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8. n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9. b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0. 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192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fr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no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o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-frequency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9933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gh-Frequency Word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9933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6"/>
          <p:cNvSpPr/>
          <p:nvPr/>
        </p:nvSpPr>
        <p:spPr>
          <a:xfrm>
            <a:off x="5944680" y="6477120"/>
            <a:ext cx="304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arrange words in alphabetical or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22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phabetize-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85800"/>
            <a:ext cx="899172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Listing words in alphabetical order makes it easier to find specific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*In a glossary, where would you look for the word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table?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With words beginning with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or words beginning with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048120"/>
            <a:ext cx="3353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k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5909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t in alphabetical ord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429000"/>
            <a:ext cx="38862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listen to teacher read aloud and answer questions for compreh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28600"/>
            <a:ext cx="701028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August Aftern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ere shall we g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at shall we pl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at shall we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n a hot summer d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e’ll sit in a sw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Go low. Go hig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nd drink lemon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ill the glass is d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ne straw for y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ne straw for m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In the cool green sh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Of the walnut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905120"/>
            <a:ext cx="27432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hat do the people in the poem want to do on the August aftern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What rhyming words do you he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28440" y="1143000"/>
            <a:ext cx="5181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called go to your first rota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au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ag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exhausted, you are so tired you can hardly mo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bbe0e3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haus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ttle boy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hau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1143000"/>
            <a:ext cx="87631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nswer in one voice.. Which would make you feel more exhausted:  writing a long story or climbing a rock wa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Turn and talk with your partner about what you would do if you felt exhaus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ff"/>
                </a:solidFill>
                <a:latin typeface="Arial"/>
              </a:rPr>
              <a:t>*If I was exhausted, I would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two words would you use to describe yourself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am special because I 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utrageous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outrageous, it is different in a shocking wa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utrageou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the purple flower had one red and yellow pe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26096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Do you think it would be outrageous to dress your dog up in your cloth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Turn and talk with your partner about something outrageous you might s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Something outrageous I might see is _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patient, you put up with things without complai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ti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562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n was ver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t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waiting to catch a fi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990720"/>
            <a:ext cx="8763120" cy="42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33cc33"/>
                </a:solidFill>
                <a:latin typeface="Arial"/>
              </a:rPr>
              <a:t>Is it harder for you to be patient to open a birthday present or go to a special place with your family?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Turn and talk with your partner about a time when you had to be patient at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Arial"/>
              </a:rPr>
              <a:t>I had to be patient when _________.</a:t>
            </a:r>
            <a:r>
              <a:rPr b="0" lang="en-US" sz="30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5520" y="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go and went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371600"/>
            <a:ext cx="7620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, we ______ to 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, we _______ to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lass ______to art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can ________ to the nurse tod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- Using go and w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Using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go</a:t>
            </a:r>
            <a:r>
              <a:rPr b="1" lang="en-US" sz="3600" spc="-1" strike="noStrike">
                <a:solidFill>
                  <a:srgbClr val="993366"/>
                </a:solidFill>
                <a:latin typeface="Arial"/>
              </a:rPr>
              <a:t> and </a:t>
            </a:r>
            <a:r>
              <a:rPr b="1" i="1" lang="en-US" sz="3600" spc="-1" strike="noStrike">
                <a:solidFill>
                  <a:srgbClr val="993366"/>
                </a:solidFill>
                <a:latin typeface="Arial"/>
              </a:rPr>
              <a:t>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week, Ben _____ to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my dog will _____ for a long w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t _____ to the vet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we all ____ to the play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ly and Kim will ____ to the beach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 ______ to the seashore last summ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0"/>
            <a:ext cx="3048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sentences using go and went. To use correct subject-verb agreement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52280"/>
            <a:ext cx="88390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character and a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pl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685800"/>
            <a:ext cx="35053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0968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657600"/>
            <a:ext cx="761976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257800"/>
            <a:ext cx="7620120" cy="121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09680" y="1905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943600" y="1905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838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2362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809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5334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30492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0666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Write sentences to describe a room in your home. Use words that describe size, color, and direc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7086600" y="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spond to a poem through movement; to identify rhyming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981080" y="-152280"/>
            <a:ext cx="525780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Constantia"/>
              </a:rPr>
              <a:t>Conten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600200"/>
            <a:ext cx="853452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would like to be wise,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point to he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would like to be strong,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flex muscl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 would like to be right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nod he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d never be wrong.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shake hea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ut since none of th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 likely to be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’m really quite happy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point to smil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o be only me. </a:t>
            </a:r>
            <a:r>
              <a:rPr b="0" i="1" lang="en-US" sz="2500" spc="-1" strike="noStrike">
                <a:solidFill>
                  <a:srgbClr val="800080"/>
                </a:solidFill>
                <a:latin typeface="Arial"/>
              </a:rPr>
              <a:t>(point to self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228600"/>
            <a:ext cx="5181480" cy="77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r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lco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7086600" y="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delete ending phonemes from wor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143000"/>
            <a:ext cx="777240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onemic Awaren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95280" y="3200400"/>
            <a:ext cx="63248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honeme Deletion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914400"/>
            <a:ext cx="30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7524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1752480"/>
            <a:ext cx="30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4290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42900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34290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752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i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o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ubb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ho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Federated Group</cp:lastModifiedBy>
  <dcterms:modified xsi:type="dcterms:W3CDTF">2009-04-30T03:04:22Z</dcterms:modified>
  <cp:revision>155</cp:revision>
  <dc:subject/>
  <dc:title>Slide 1</dc:title>
</cp:coreProperties>
</file>