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12090-69A6-4074-BB9E-067B393559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EDFBF-D3EC-4E62-9592-4FFDD51A2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6D026-0CF2-4A95-A16B-E6ABBCE43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95D9E-8A9D-4A05-811E-334753F9C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7A58E-88D7-4D5F-916A-DDB13E151D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9237D-570A-4B04-916C-2FAFDEE01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C34A-00C4-4888-89B0-E975F78BE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40C0-034B-4D27-9AED-14A0CAE9A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77FD-D84A-403C-88A4-EF7BDF5D9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BB97-4F52-4B02-9CDA-2986B22E3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10998-DF03-47D6-9FCF-C600AFF7C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2002B-D7E5-4AFF-A6C1-1D4BB0D10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1AB66-F742-45FB-9A25-05B28FD48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31754-E2FE-4EB5-8B27-7E4277DB4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16630-E675-484D-8990-6CCEBA335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B8D2D-2E51-416F-921C-B1D9058C0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CE2B0-D881-4D50-B4DC-23008187A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EC54-B63C-4A64-8FDA-26048354E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1ACC2-613F-4E4F-B8A3-C1F69F9F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7CC9A-DF6A-433B-A156-93D0C9278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48620-C1E1-4563-9326-A80DED33B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D1F6B-C20F-4461-A97A-32E86D290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0D480-284E-431F-9C43-10CDC1A9D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64D7D-3B9C-431B-A49D-EA50D548B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131B9-D657-4946-A62C-EC5ADD5E4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AA435-DFD8-43A5-8E39-9E2617AE1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7D45D-68C0-468D-969B-E8C806363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F2963-C21D-4150-B01C-50E7C3D73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C776-9B6B-4E1E-BA0C-50920DAF8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D6174-C497-444D-8C45-F7B1C274B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E316A-4ED2-4967-A23C-7BEE0DC9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D4A23-BA4F-4FEE-A3CB-58E318926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B4559-799F-4035-883E-0107CA9E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4B5C3-B138-43F3-A42B-C613133E4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6F25C-DB58-41BA-B18A-B49DF5214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155C4-B3C2-4045-9F6D-BA45D40D1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8B88-5F86-45F3-8FBD-97673125C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EF5F-79FE-45F7-A800-19E43DF4A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8EBD-8F01-4019-918C-6FE056922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7564-B56A-4FE1-8C8B-F5E6803D9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B5A2-97C8-4E90-A0A5-89F17DDD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0BCC-A661-4A72-9BE3-52406CBA9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A2235-F918-4BD0-9B95-C131C107C7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72EDD-E983-44F6-B518-F1D1DCE056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5D6C6-AEC6-4034-80F0-F180550D64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Rectangle 3" descr=""/>
          <p:cNvPicPr/>
          <p:nvPr/>
        </p:nvPicPr>
        <p:blipFill>
          <a:blip r:embed="rId1"/>
          <a:stretch/>
        </p:blipFill>
        <p:spPr>
          <a:xfrm>
            <a:off x="146160" y="-201600"/>
            <a:ext cx="8851680" cy="63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1f497d"/>
                </a:solidFill>
                <a:latin typeface="Arial"/>
              </a:rPr>
              <a:t>-ed Revi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1905120" y="1066680"/>
            <a:ext cx="556236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030a0"/>
                </a:solidFill>
                <a:latin typeface="Arial"/>
              </a:rPr>
              <a:t>flippe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030a0"/>
                </a:solidFill>
                <a:latin typeface="Arial"/>
              </a:rPr>
              <a:t>rope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030a0"/>
                </a:solidFill>
                <a:latin typeface="Arial"/>
              </a:rPr>
              <a:t>rubbe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030a0"/>
                </a:solidFill>
                <a:latin typeface="Arial"/>
              </a:rPr>
              <a:t>shoppe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lik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rak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fail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sha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3"/>
          <p:cNvSpPr/>
          <p:nvPr/>
        </p:nvSpPr>
        <p:spPr>
          <a:xfrm>
            <a:off x="6217200" y="6119640"/>
            <a:ext cx="292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Arial"/>
              </a:rPr>
              <a:t>Objective: To build and blend words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Arial"/>
              </a:rPr>
              <a:t>-ed and other known l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Arial"/>
              </a:rPr>
              <a:t>sou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3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3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3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3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3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3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3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3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3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3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3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3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3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3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3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3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1f497d"/>
                </a:solidFill>
                <a:latin typeface="Arial"/>
              </a:rPr>
              <a:t>-ing Revi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1905120" y="1066680"/>
            <a:ext cx="556236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b050"/>
                </a:solidFill>
                <a:latin typeface="Arial"/>
              </a:rPr>
              <a:t>sneak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b050"/>
                </a:solidFill>
                <a:latin typeface="Arial"/>
              </a:rPr>
              <a:t>peek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b050"/>
                </a:solidFill>
                <a:latin typeface="Arial"/>
              </a:rPr>
              <a:t>train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b050"/>
                </a:solidFill>
                <a:latin typeface="Arial"/>
              </a:rPr>
              <a:t>try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b050"/>
                </a:solidFill>
                <a:latin typeface="Arial"/>
              </a:rPr>
              <a:t>snor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b050"/>
                </a:solidFill>
                <a:latin typeface="Arial"/>
              </a:rPr>
              <a:t>lay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b050"/>
                </a:solidFill>
                <a:latin typeface="Arial"/>
              </a:rPr>
              <a:t>stepp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b050"/>
                </a:solidFill>
                <a:latin typeface="Arial"/>
              </a:rPr>
              <a:t>cook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b050"/>
                </a:solidFill>
                <a:latin typeface="Arial"/>
              </a:rPr>
              <a:t>sweep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3"/>
          <p:cNvSpPr/>
          <p:nvPr/>
        </p:nvSpPr>
        <p:spPr>
          <a:xfrm>
            <a:off x="6217200" y="5943600"/>
            <a:ext cx="292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Arial"/>
              </a:rPr>
              <a:t>Objective: To build and blend words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Arial"/>
              </a:rPr>
              <a:t>-ing  and other known l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Arial"/>
              </a:rPr>
              <a:t>sou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3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3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3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3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3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3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3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3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3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3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3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3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3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3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3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3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300" fill="hold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300" fill="hold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Calibri"/>
              </a:rPr>
              <a:t>Word Blending</a:t>
            </a:r>
            <a:r>
              <a:rPr b="0" lang="en-US" sz="3600" spc="-1" strike="noStrike">
                <a:solidFill>
                  <a:srgbClr val="0066ff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7315200" y="0"/>
            <a:ext cx="1981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504d"/>
                </a:solidFill>
                <a:latin typeface="Arial"/>
              </a:rPr>
              <a:t>Objective: To use /oo/ oo, ew and /o/ow, oa and other known letter-sounds to decode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2"/>
          <p:cNvSpPr/>
          <p:nvPr/>
        </p:nvSpPr>
        <p:spPr>
          <a:xfrm>
            <a:off x="3048120" y="91440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54"/>
          <p:cNvSpPr/>
          <p:nvPr/>
        </p:nvSpPr>
        <p:spPr>
          <a:xfrm>
            <a:off x="3733920" y="914400"/>
            <a:ext cx="304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4"/>
          <p:cNvSpPr/>
          <p:nvPr/>
        </p:nvSpPr>
        <p:spPr>
          <a:xfrm>
            <a:off x="2895480" y="25909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6"/>
          <p:cNvSpPr/>
          <p:nvPr/>
        </p:nvSpPr>
        <p:spPr>
          <a:xfrm>
            <a:off x="3505320" y="25909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9"/>
          <p:cNvSpPr/>
          <p:nvPr/>
        </p:nvSpPr>
        <p:spPr>
          <a:xfrm>
            <a:off x="4038480" y="2590920"/>
            <a:ext cx="381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93"/>
          <p:cNvSpPr/>
          <p:nvPr/>
        </p:nvSpPr>
        <p:spPr>
          <a:xfrm>
            <a:off x="4038480" y="9144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94"/>
          <p:cNvSpPr/>
          <p:nvPr/>
        </p:nvSpPr>
        <p:spPr>
          <a:xfrm>
            <a:off x="3124080" y="17524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95"/>
          <p:cNvSpPr/>
          <p:nvPr/>
        </p:nvSpPr>
        <p:spPr>
          <a:xfrm>
            <a:off x="3657600" y="1752480"/>
            <a:ext cx="380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96"/>
          <p:cNvSpPr/>
          <p:nvPr/>
        </p:nvSpPr>
        <p:spPr>
          <a:xfrm>
            <a:off x="3886200" y="1752480"/>
            <a:ext cx="304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97"/>
          <p:cNvSpPr/>
          <p:nvPr/>
        </p:nvSpPr>
        <p:spPr>
          <a:xfrm>
            <a:off x="2666880" y="3429000"/>
            <a:ext cx="83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98"/>
          <p:cNvSpPr/>
          <p:nvPr/>
        </p:nvSpPr>
        <p:spPr>
          <a:xfrm>
            <a:off x="3276720" y="34290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00"/>
          <p:cNvSpPr/>
          <p:nvPr/>
        </p:nvSpPr>
        <p:spPr>
          <a:xfrm>
            <a:off x="3733920" y="3429000"/>
            <a:ext cx="380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14"/>
          <p:cNvSpPr/>
          <p:nvPr/>
        </p:nvSpPr>
        <p:spPr>
          <a:xfrm>
            <a:off x="4572000" y="9144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15"/>
          <p:cNvSpPr/>
          <p:nvPr/>
        </p:nvSpPr>
        <p:spPr>
          <a:xfrm>
            <a:off x="4114800" y="17524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16"/>
          <p:cNvSpPr/>
          <p:nvPr/>
        </p:nvSpPr>
        <p:spPr>
          <a:xfrm>
            <a:off x="4343400" y="25909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17"/>
          <p:cNvSpPr/>
          <p:nvPr/>
        </p:nvSpPr>
        <p:spPr>
          <a:xfrm>
            <a:off x="4038480" y="34290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75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75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75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75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75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75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75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75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75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75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75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75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75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75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75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75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75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75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75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75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75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75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75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75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75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75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75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75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75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75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75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75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30492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Arial"/>
              </a:rPr>
              <a:t>Word Blending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7162920" y="0"/>
            <a:ext cx="1981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504d"/>
                </a:solidFill>
                <a:latin typeface="Arial"/>
              </a:rPr>
              <a:t>Objective: To use /oo/ oo, ew and /o/ow, oa and other known letter-sounds to decode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2819520" y="91440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3352680" y="9144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2895480" y="259092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3352680" y="2590920"/>
            <a:ext cx="381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3581280" y="259092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2819520" y="17524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3276720" y="17524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2"/>
          <p:cNvSpPr/>
          <p:nvPr/>
        </p:nvSpPr>
        <p:spPr>
          <a:xfrm>
            <a:off x="3809880" y="175248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2"/>
          <p:cNvSpPr/>
          <p:nvPr/>
        </p:nvSpPr>
        <p:spPr>
          <a:xfrm>
            <a:off x="2895480" y="350532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3"/>
          <p:cNvSpPr/>
          <p:nvPr/>
        </p:nvSpPr>
        <p:spPr>
          <a:xfrm>
            <a:off x="3352680" y="3505320"/>
            <a:ext cx="381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4"/>
          <p:cNvSpPr/>
          <p:nvPr/>
        </p:nvSpPr>
        <p:spPr>
          <a:xfrm>
            <a:off x="3581280" y="35053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5"/>
          <p:cNvSpPr/>
          <p:nvPr/>
        </p:nvSpPr>
        <p:spPr>
          <a:xfrm>
            <a:off x="4038480" y="35053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6"/>
          <p:cNvSpPr/>
          <p:nvPr/>
        </p:nvSpPr>
        <p:spPr>
          <a:xfrm>
            <a:off x="4343400" y="91440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7"/>
          <p:cNvSpPr/>
          <p:nvPr/>
        </p:nvSpPr>
        <p:spPr>
          <a:xfrm>
            <a:off x="3886200" y="9144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8"/>
          <p:cNvSpPr/>
          <p:nvPr/>
        </p:nvSpPr>
        <p:spPr>
          <a:xfrm>
            <a:off x="4114800" y="17524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0"/>
          <p:cNvSpPr/>
          <p:nvPr/>
        </p:nvSpPr>
        <p:spPr>
          <a:xfrm>
            <a:off x="4038480" y="2590920"/>
            <a:ext cx="83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75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75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75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75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75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75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75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75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75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75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75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75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75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75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75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75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75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75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75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75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75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75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75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75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75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75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75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75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75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75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75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75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Rectangle 1" descr=""/>
          <p:cNvPicPr/>
          <p:nvPr/>
        </p:nvPicPr>
        <p:blipFill>
          <a:blip r:embed="rId1"/>
          <a:stretch/>
        </p:blipFill>
        <p:spPr>
          <a:xfrm>
            <a:off x="225360" y="146160"/>
            <a:ext cx="8852040" cy="57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Box 1"/>
          <p:cNvSpPr/>
          <p:nvPr/>
        </p:nvSpPr>
        <p:spPr>
          <a:xfrm>
            <a:off x="152280" y="2286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Objective: To add phonemes to make new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2"/>
          <p:cNvSpPr/>
          <p:nvPr/>
        </p:nvSpPr>
        <p:spPr>
          <a:xfrm>
            <a:off x="304920" y="609480"/>
            <a:ext cx="84582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Let’s add some sounds to make new w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alibri"/>
              </a:rPr>
              <a:t>Add /s/ to park and the new word is sp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alibri"/>
              </a:rPr>
              <a:t>Add /b/ to red and the new word is b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alibri"/>
              </a:rPr>
              <a:t>Add /s/ to top and the new word is s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alibri"/>
              </a:rPr>
              <a:t>Add /g/ to rip and the new word is gr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alibri"/>
              </a:rPr>
              <a:t>Add /d/ to the end of car and the new word is c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alibri"/>
              </a:rPr>
              <a:t>Add/t/ to the end of bus and the new word is b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alibri"/>
              </a:rPr>
              <a:t>Add /ch/ to the end of bee and the new word is b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alibri"/>
              </a:rPr>
              <a:t>Add /p/ to the end of lamb and the new word is la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alibri"/>
              </a:rPr>
              <a:t>Add /p/ to lay and the new word is p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alibri"/>
              </a:rPr>
              <a:t>Add /hw/ to eat and the new word is wh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alibri"/>
              </a:rPr>
              <a:t>Add /s/ to mile and the new word is sm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alibri"/>
              </a:rPr>
              <a:t>Add /c/ to lap and the new word is cl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684" dur="2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0" dur="2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2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2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9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800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0" dur="8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8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8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5" dur="1000"/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0" fill="hold"/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0" fill="hold"/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0" fill="hold"/>
                                        <p:tgtEl>
                                          <p:spTgt spid="1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0" fill="hold"/>
                                        <p:tgtEl>
                                          <p:spTgt spid="1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1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" dur="1000"/>
                                        <p:tgtEl>
                                          <p:spTgt spid="1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Rectangle 1" descr=""/>
          <p:cNvPicPr/>
          <p:nvPr/>
        </p:nvPicPr>
        <p:blipFill>
          <a:blip r:embed="rId1"/>
          <a:stretch/>
        </p:blipFill>
        <p:spPr>
          <a:xfrm>
            <a:off x="146160" y="146160"/>
            <a:ext cx="885168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Box 1"/>
          <p:cNvSpPr/>
          <p:nvPr/>
        </p:nvSpPr>
        <p:spPr>
          <a:xfrm>
            <a:off x="152280" y="22860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Calibri"/>
              </a:rPr>
              <a:t>Objective: To substitute sounds in the initial position to make new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2"/>
          <p:cNvSpPr/>
          <p:nvPr/>
        </p:nvSpPr>
        <p:spPr>
          <a:xfrm>
            <a:off x="228600" y="685800"/>
            <a:ext cx="8534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Calibri"/>
              </a:rPr>
              <a:t>Let’s change some letters to make new wo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Change /c/ in care to a /b/ and the new word is b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Change /b/ in boat to a /k/ and the new word is co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Change /m/ in moon to a /t/ and the new word is t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Change /s/ in sink to a /p/ and the new word is p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Change /b/ in boy to a /t/ and the new word is to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Change /y/ in yawn to a /l/ and the new word is la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Change /l/ in lake to a /m/ and the new word is 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Change /m/ in might to a /l/ and the new word is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Change /r/ in rock to a /n/ and the new word is kn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Change /m/ in man to a /p/ and the new word is 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Change /m/ in mouse to a /h/ and the new word is 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Change /c/ in clock to a /f/ and the new word is f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80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1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6" dur="4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4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6" dur="100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800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2" dur="8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8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8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1" dur="2000"/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6" dur="1000"/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1" dur="1000"/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8" dur="2000"/>
                                        <p:tgtEl>
                                          <p:spTgt spid="1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Box 1"/>
          <p:cNvSpPr/>
          <p:nvPr/>
        </p:nvSpPr>
        <p:spPr>
          <a:xfrm>
            <a:off x="228600" y="228600"/>
            <a:ext cx="868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Objective: To discriminate  between words with different patterns; to use common letter patterns to read w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2"/>
          <p:cNvSpPr/>
          <p:nvPr/>
        </p:nvSpPr>
        <p:spPr>
          <a:xfrm>
            <a:off x="228600" y="1371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b0f0"/>
                </a:solidFill>
                <a:latin typeface="Arial"/>
              </a:rPr>
              <a:t>Phonogram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04920" y="3657600"/>
            <a:ext cx="8534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emember that a phonogram is a word that has the same ending as another word.  Today we are going to work on words ending with  -ind, –ild, and -old. Phonograms are also rhyming wo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3" dur="8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4" dur="8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5" dur="8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2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7" dur="1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8" dur="4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4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152280" y="228600"/>
          <a:ext cx="8686800" cy="6583320"/>
        </p:xfrm>
        <a:graphic>
          <a:graphicData uri="http://schemas.openxmlformats.org/drawingml/2006/table">
            <a:tbl>
              <a:tblPr/>
              <a:tblGrid>
                <a:gridCol w="4343400"/>
                <a:gridCol w="4343400"/>
              </a:tblGrid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letter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ending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ind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ild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k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ind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u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ild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ind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w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ild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l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ind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0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Rectangle 1" descr=""/>
          <p:cNvPicPr/>
          <p:nvPr/>
        </p:nvPicPr>
        <p:blipFill>
          <a:blip r:embed="rId1"/>
          <a:stretch/>
        </p:blipFill>
        <p:spPr>
          <a:xfrm>
            <a:off x="146160" y="457200"/>
            <a:ext cx="9004320" cy="6456240"/>
          </a:xfrm>
          <a:prstGeom prst="rect">
            <a:avLst/>
          </a:prstGeom>
          <a:ln w="0">
            <a:noFill/>
          </a:ln>
        </p:spPr>
      </p:pic>
      <p:sp>
        <p:nvSpPr>
          <p:cNvPr id="132" name="TextBox 2"/>
          <p:cNvSpPr/>
          <p:nvPr/>
        </p:nvSpPr>
        <p:spPr>
          <a:xfrm>
            <a:off x="152280" y="228600"/>
            <a:ext cx="883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Objective: To listen attentively and respond appropriately to oral communication; to read aloud with fluency in a manner that sounds like normal spee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"/>
          <p:cNvGraphicFramePr/>
          <p:nvPr/>
        </p:nvGraphicFramePr>
        <p:xfrm>
          <a:off x="0" y="304920"/>
          <a:ext cx="9144000" cy="655308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letter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ending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3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c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old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h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old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old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f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old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s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old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m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old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Box 1"/>
          <p:cNvSpPr/>
          <p:nvPr/>
        </p:nvSpPr>
        <p:spPr>
          <a:xfrm>
            <a:off x="228600" y="533520"/>
            <a:ext cx="8686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70c0"/>
                </a:solidFill>
                <a:latin typeface="Arial"/>
              </a:rPr>
              <a:t>Where is the clock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70c0"/>
                </a:solidFill>
                <a:latin typeface="Arial"/>
              </a:rPr>
              <a:t>The 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kind</a:t>
            </a:r>
            <a:r>
              <a:rPr b="0" lang="en-US" sz="6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child</a:t>
            </a:r>
            <a:r>
              <a:rPr b="0" lang="en-US" sz="6000" spc="-1" strike="noStrike">
                <a:solidFill>
                  <a:srgbClr val="0070c0"/>
                </a:solidFill>
                <a:latin typeface="Arial"/>
              </a:rPr>
              <a:t> will 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find</a:t>
            </a:r>
            <a:r>
              <a:rPr b="0" lang="en-US" sz="6000" spc="-1" strike="noStrike">
                <a:solidFill>
                  <a:srgbClr val="0070c0"/>
                </a:solidFill>
                <a:latin typeface="Arial"/>
              </a:rPr>
              <a:t> it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70c0"/>
                </a:solidFill>
                <a:latin typeface="Arial"/>
              </a:rPr>
              <a:t>Do you 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mind</a:t>
            </a:r>
            <a:r>
              <a:rPr b="0" lang="en-US" sz="6000" spc="-1" strike="noStrike">
                <a:solidFill>
                  <a:srgbClr val="0070c0"/>
                </a:solidFill>
                <a:latin typeface="Arial"/>
              </a:rPr>
              <a:t> if I 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wind</a:t>
            </a:r>
            <a:r>
              <a:rPr b="0" lang="en-US" sz="6000" spc="-1" strike="noStrike">
                <a:solidFill>
                  <a:srgbClr val="0070c0"/>
                </a:solidFill>
                <a:latin typeface="Arial"/>
              </a:rPr>
              <a:t> it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70c0"/>
                </a:solidFill>
                <a:latin typeface="Arial"/>
              </a:rPr>
              <a:t>The bird in the clock is going 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wild</a:t>
            </a:r>
            <a:r>
              <a:rPr b="0" lang="en-US" sz="6000" spc="-1" strike="noStrike">
                <a:solidFill>
                  <a:srgbClr val="0070c0"/>
                </a:solidFill>
                <a:latin typeface="Arial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70c0"/>
                </a:solidFill>
                <a:latin typeface="Arial"/>
              </a:rPr>
              <a:t>Tick, tock! Tick, tock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"/>
          <p:cNvSpPr/>
          <p:nvPr/>
        </p:nvSpPr>
        <p:spPr>
          <a:xfrm>
            <a:off x="152280" y="304920"/>
            <a:ext cx="57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Read the words i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3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4" dur="1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5" dur="4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4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1" dur="2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2" dur="2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2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15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5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Box 1"/>
          <p:cNvSpPr/>
          <p:nvPr/>
        </p:nvSpPr>
        <p:spPr>
          <a:xfrm>
            <a:off x="76320" y="228600"/>
            <a:ext cx="88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bjective: To spell and write known high frequenc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Rectangle 2" descr=""/>
          <p:cNvPicPr/>
          <p:nvPr/>
        </p:nvPicPr>
        <p:blipFill>
          <a:blip r:embed="rId1"/>
          <a:stretch/>
        </p:blipFill>
        <p:spPr>
          <a:xfrm>
            <a:off x="146160" y="438120"/>
            <a:ext cx="8851680" cy="1098720"/>
          </a:xfrm>
          <a:prstGeom prst="rect">
            <a:avLst/>
          </a:prstGeom>
          <a:ln w="0">
            <a:noFill/>
          </a:ln>
        </p:spPr>
      </p:pic>
      <p:sp>
        <p:nvSpPr>
          <p:cNvPr id="202" name="TextBox 3"/>
          <p:cNvSpPr/>
          <p:nvPr/>
        </p:nvSpPr>
        <p:spPr>
          <a:xfrm>
            <a:off x="152280" y="1523880"/>
            <a:ext cx="88394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i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o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uil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8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3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8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9" dur="8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8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8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8" dur="20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9" dur="2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2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87" dur="10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2" dur="20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0" dur="10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7" dur="5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4" dur="500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39" dur="2000"/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Box 2"/>
          <p:cNvSpPr/>
          <p:nvPr/>
        </p:nvSpPr>
        <p:spPr>
          <a:xfrm>
            <a:off x="228600" y="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Objective: To read high frequenc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Rectangle 3" descr=""/>
          <p:cNvPicPr/>
          <p:nvPr/>
        </p:nvPicPr>
        <p:blipFill>
          <a:blip r:embed="rId1"/>
          <a:stretch/>
        </p:blipFill>
        <p:spPr>
          <a:xfrm>
            <a:off x="-6480" y="133200"/>
            <a:ext cx="9156960" cy="1098720"/>
          </a:xfrm>
          <a:prstGeom prst="rect">
            <a:avLst/>
          </a:prstGeom>
          <a:ln w="0">
            <a:noFill/>
          </a:ln>
        </p:spPr>
      </p:pic>
      <p:sp>
        <p:nvSpPr>
          <p:cNvPr id="205" name="TextBox 4"/>
          <p:cNvSpPr/>
          <p:nvPr/>
        </p:nvSpPr>
        <p:spPr>
          <a:xfrm>
            <a:off x="0" y="1143000"/>
            <a:ext cx="88390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answ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climb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fr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hur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n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pret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rea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s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sor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0" dur="indefinite" restart="never" nodeType="tmRoot">
          <p:childTnLst>
            <p:seq>
              <p:cTn id="1041" dur="indefinite" nodeType="mainSeq">
                <p:childTnLst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48" dur="1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053" dur="2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8" dur="2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9" dur="2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2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9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4" dur="1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6" dur="10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0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15000" fill="hold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5000" fill="hold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5" dur="2000"/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130" dur="2000"/>
                                        <p:tgtEl>
                                          <p:spTgt spid="2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5" dur="2000"/>
                                        <p:tgtEl>
                                          <p:spTgt spid="2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Box 1"/>
          <p:cNvSpPr/>
          <p:nvPr/>
        </p:nvSpPr>
        <p:spPr>
          <a:xfrm>
            <a:off x="228600" y="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bjective: To place words from a story in alphabetical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2"/>
          <p:cNvSpPr/>
          <p:nvPr/>
        </p:nvSpPr>
        <p:spPr>
          <a:xfrm>
            <a:off x="0" y="380880"/>
            <a:ext cx="8991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Let’s see if we can put these words in alphabetical or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ba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wo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p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bu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c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3"/>
          <p:cNvSpPr/>
          <p:nvPr/>
        </p:nvSpPr>
        <p:spPr>
          <a:xfrm>
            <a:off x="380880" y="4038480"/>
            <a:ext cx="8534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ba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bu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c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p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wo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6" dur="indefinite" restart="never" nodeType="tmRoot">
          <p:childTnLst>
            <p:seq>
              <p:cTn id="1137" dur="indefinite" nodeType="mainSeq">
                <p:childTnLst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2" dur="2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7" dur="2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8" dur="2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2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0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63" dur="5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10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8" dur="10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1" dur="2000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100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5" dur="400" fill="hold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400" fill="hold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81" dur="2000"/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4" dur="100"/>
                                        <p:tgtEl>
                                          <p:spTgt spid="2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5" dur="400" fill="hold"/>
                                        <p:tgtEl>
                                          <p:spTgt spid="2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400" fill="hold"/>
                                        <p:tgtEl>
                                          <p:spTgt spid="2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3" dur="8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4" dur="8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5" dur="8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0" dur="10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1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7" dur="150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150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3" dur="10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10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10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6" dur="100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1" dur="10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10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3" dur="100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8" dur="2000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9" dur="20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20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504d"/>
                </a:solidFill>
                <a:latin typeface="Calibri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70c0"/>
                </a:solidFill>
                <a:uFillTx/>
                <a:latin typeface="Calibri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exhaus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outrageo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pati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1" dur="indefinite" restart="never" nodeType="tmRoot">
          <p:childTnLst>
            <p:seq>
              <p:cTn id="1242" dur="indefinite" nodeType="mainSeq">
                <p:childTnLst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9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9" dur="20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0" dur="20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20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5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257800" y="1523520"/>
            <a:ext cx="373392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f you are exhausted, you are so tired you can hardly move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AutoShape 3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gradFill rotWithShape="0">
            <a:gsLst>
              <a:gs pos="0">
                <a:srgbClr val="4f81bd"/>
              </a:gs>
              <a:gs pos="100000">
                <a:srgbClr val="00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exhausted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3"/>
          <p:cNvSpPr/>
          <p:nvPr/>
        </p:nvSpPr>
        <p:spPr>
          <a:xfrm>
            <a:off x="609480" y="563868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ittle boy wa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xhaus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35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6" descr=""/>
          <p:cNvPicPr/>
          <p:nvPr/>
        </p:nvPicPr>
        <p:blipFill>
          <a:blip r:embed="rId2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0" descr=""/>
          <p:cNvPicPr/>
          <p:nvPr/>
        </p:nvPicPr>
        <p:blipFill>
          <a:blip r:embed="rId3"/>
          <a:stretch/>
        </p:blipFill>
        <p:spPr>
          <a:xfrm>
            <a:off x="380880" y="1981080"/>
            <a:ext cx="4762800" cy="31719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Box 1"/>
          <p:cNvSpPr/>
          <p:nvPr/>
        </p:nvSpPr>
        <p:spPr>
          <a:xfrm>
            <a:off x="0" y="0"/>
            <a:ext cx="91440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Arial"/>
              </a:rPr>
              <a:t>I will name some activities.  If the activity would make someone exhausted  I want you to close your eyes like you are sleeping.  If the activity would not make you exhausted, then open your eyes very wide like your awa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unning a marath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wimming l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limbing stai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atching tele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igging deep h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eading a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8" dur="indefinite" restart="never" nodeType="tmRoot">
          <p:childTnLst>
            <p:seq>
              <p:cTn id="1269" dur="indefinite" nodeType="mainSeq">
                <p:childTnLst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2" dur="10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3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9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6" dur="10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7" dur="10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9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10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10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6" dur="10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5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5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5" dur="500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0" dur="10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10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2" dur="1000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AutoShape 2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gradFill rotWithShape="0">
            <a:gsLst>
              <a:gs pos="0">
                <a:srgbClr val="800000"/>
              </a:gs>
              <a:gs pos="100000">
                <a:srgbClr val="ff0000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outrageous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5638680" y="1981080"/>
            <a:ext cx="3256200" cy="42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f something is outrageous, it is different in a shocking way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5"/>
          <p:cNvSpPr/>
          <p:nvPr/>
        </p:nvSpPr>
        <p:spPr>
          <a:xfrm>
            <a:off x="914400" y="54864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wa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utrageou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the purple flower had one red and yellow pet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39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2609640" cy="3809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Box 1"/>
          <p:cNvSpPr/>
          <p:nvPr/>
        </p:nvSpPr>
        <p:spPr>
          <a:xfrm>
            <a:off x="0" y="0"/>
            <a:ext cx="9144000" cy="75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Arial"/>
              </a:rPr>
              <a:t>I will name some things that might look outrageous.  If I name something that looks outrageous I want you to say “WOW!”  If not say nothing at a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Arial"/>
              </a:rPr>
              <a:t>clowns at sch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Arial"/>
              </a:rPr>
              <a:t>zebras in a shoe st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Arial"/>
              </a:rPr>
              <a:t>a queen at a post off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Arial"/>
              </a:rPr>
              <a:t>dogs at a pa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Arial"/>
              </a:rPr>
              <a:t>children at a restaur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Arial"/>
              </a:rPr>
              <a:t>bunnies in a pet st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3" dur="indefinite" restart="never" nodeType="tmRoot">
          <p:childTnLst>
            <p:seq>
              <p:cTn id="1324" dur="indefinite" nodeType="mainSeq">
                <p:childTnLst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35" dur="10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0" dur="77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41" dur="77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43" dur="77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45" dur="77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9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7" dur="1000" fill="hold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1000" fill="hold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9" dur="1000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4" dur="2000"/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1"/>
          <p:cNvSpPr/>
          <p:nvPr/>
        </p:nvSpPr>
        <p:spPr>
          <a:xfrm>
            <a:off x="0" y="457200"/>
            <a:ext cx="89917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How can you tell when it is a windy day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70c0"/>
                </a:solidFill>
                <a:latin typeface="Calibri"/>
              </a:rPr>
              <a:t>On my signal, turn and talk with your partner to complete the following stem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The wind blows _____________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5105520" y="1905120"/>
            <a:ext cx="37954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f you are patient, you put up with things without complaining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3"/>
          <p:cNvSpPr/>
          <p:nvPr/>
        </p:nvSpPr>
        <p:spPr>
          <a:xfrm>
            <a:off x="1600200" y="228600"/>
            <a:ext cx="6172200" cy="1276200"/>
          </a:xfrm>
          <a:prstGeom prst="roundRect">
            <a:avLst>
              <a:gd name="adj" fmla="val 10486"/>
            </a:avLst>
          </a:prstGeom>
          <a:gradFill rotWithShape="0">
            <a:gsLst>
              <a:gs pos="0">
                <a:srgbClr val="106624"/>
              </a:gs>
              <a:gs pos="100000">
                <a:srgbClr val="800080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1828800" y="304920"/>
            <a:ext cx="57150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patient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2"/>
          <p:cNvSpPr/>
          <p:nvPr/>
        </p:nvSpPr>
        <p:spPr>
          <a:xfrm>
            <a:off x="762120" y="556272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n was very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ati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hile waiting to catch a fis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37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4762440" cy="31719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1"/>
          <p:cNvSpPr/>
          <p:nvPr/>
        </p:nvSpPr>
        <p:spPr>
          <a:xfrm>
            <a:off x="0" y="0"/>
            <a:ext cx="914400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I will name some places.  Why do you think a person would have to be patient at each one of these plac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Arial"/>
              </a:rPr>
              <a:t>a swimming po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Arial"/>
              </a:rPr>
              <a:t>a grocery sto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Arial"/>
              </a:rPr>
              <a:t>a clothing sto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Arial"/>
              </a:rPr>
              <a:t>a scho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Arial"/>
              </a:rPr>
              <a:t>a playgrou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Arial"/>
              </a:rPr>
              <a:t>a soccer ga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5" dur="indefinite" restart="never" nodeType="tmRoot">
          <p:childTnLst>
            <p:seq>
              <p:cTn id="1376" dur="indefinite" nodeType="mainSeq">
                <p:childTnLst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6" dur="20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01" dur="5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6" dur="5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1" dur="20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2" dur="2000" fill="hold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2000" fill="hold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fill="hold">
                      <p:stCondLst>
                        <p:cond delay="indefinite"/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Box 1"/>
          <p:cNvSpPr/>
          <p:nvPr/>
        </p:nvSpPr>
        <p:spPr>
          <a:xfrm>
            <a:off x="0" y="0"/>
            <a:ext cx="914400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Answer in one voi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If you had to stand in line for two hours to get a free ice cream cone, would you be patient or exhaus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T and 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What would be an outrageous name for a tremendous superhero that you might create and dra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T and 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Name something that would be tiresome if your job was to seize it over and over ag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hysical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You feel a tremendous shaking coming from the ground.  Show how you might wal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3" dur="indefinite" restart="never" nodeType="tmRoot">
          <p:childTnLst>
            <p:seq>
              <p:cTn id="1424" dur="indefinite" nodeType="mainSeq">
                <p:childTnLst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9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1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6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8" dur="1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3" dur="2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4" dur="2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2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2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1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fill="hold">
                      <p:stCondLst>
                        <p:cond delay="indefinite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7" dur="80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8" dur="80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9" dur="80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0" fill="hold">
                      <p:stCondLst>
                        <p:cond delay="indefinite"/>
                      </p:stCondLst>
                      <p:childTnLst>
                        <p:par>
                          <p:cTn id="1461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4" dur="5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5" dur="5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5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7" dur="500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fill="hold">
                      <p:stCondLst>
                        <p:cond delay="indefinite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2" dur="2000"/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fill="hold">
                      <p:stCondLst>
                        <p:cond delay="indefinite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7" dur="2000"/>
                                        <p:tgtEl>
                                          <p:spTgt spid="2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8" dur="2000" fill="hold"/>
                                        <p:tgtEl>
                                          <p:spTgt spid="2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2000" fill="hold"/>
                                        <p:tgtEl>
                                          <p:spTgt spid="2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Box 1"/>
          <p:cNvSpPr/>
          <p:nvPr/>
        </p:nvSpPr>
        <p:spPr>
          <a:xfrm>
            <a:off x="152280" y="0"/>
            <a:ext cx="883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bjective: To use go and went correctly in sentences to describe actions in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2"/>
          <p:cNvSpPr/>
          <p:nvPr/>
        </p:nvSpPr>
        <p:spPr>
          <a:xfrm>
            <a:off x="0" y="762120"/>
            <a:ext cx="9144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Use 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go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 or 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w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Did Frog and Toad _____________ near the boo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No, Frog and Toad _____________near the coa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Now, we ___________to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Last night, Dan ___________ to the mov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We __________to the park yester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We __________ to the art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0" dur="indefinite" restart="never" nodeType="tmRoot">
          <p:childTnLst>
            <p:seq>
              <p:cTn id="1481" dur="indefinite" nodeType="mainSeq">
                <p:childTnLst>
                  <p:par>
                    <p:cTn id="1482" fill="hold">
                      <p:stCondLst>
                        <p:cond delay="indefinite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6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9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5" dur="150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150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7" fill="hold">
                      <p:stCondLst>
                        <p:cond delay="indefinite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1" dur="10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10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3" dur="10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fill="hold">
                      <p:stCondLst>
                        <p:cond delay="indefinite"/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18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9" fill="hold">
                      <p:stCondLst>
                        <p:cond delay="indefinite"/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2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8" fill="hold">
                      <p:stCondLst>
                        <p:cond delay="indefinite"/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2" dur="500" fill="hold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500" fill="hold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500" fill="hold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500" fill="hold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6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1"/>
          <p:cNvSpPr/>
          <p:nvPr/>
        </p:nvSpPr>
        <p:spPr>
          <a:xfrm>
            <a:off x="0" y="152280"/>
            <a:ext cx="8839080" cy="59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ff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It has a tit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ff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It has a character and a sett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ff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It has a beginning, middle, and e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ff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It has a plo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4"/>
          <p:cNvSpPr/>
          <p:nvPr/>
        </p:nvSpPr>
        <p:spPr>
          <a:xfrm>
            <a:off x="6398280" y="152280"/>
            <a:ext cx="238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jective:  Recognizing story structu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7" dur="indefinite" restart="never" nodeType="tmRoot">
          <p:childTnLst>
            <p:seq>
              <p:cTn id="1538" dur="indefinite" nodeType="mainSeq">
                <p:childTnLst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3" dur="77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44" dur="77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46" dur="77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48" dur="77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5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2" dur="1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3" dur="1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1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8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0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1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64" dur="20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7" dur="10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8" dur="10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10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1"/>
          <p:cNvSpPr/>
          <p:nvPr/>
        </p:nvSpPr>
        <p:spPr>
          <a:xfrm>
            <a:off x="228600" y="380880"/>
            <a:ext cx="85345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What does the wind sound lik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On my signal, turn and talk with your partner to complete the following stem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Calibri"/>
              </a:rPr>
              <a:t>The wind sounds like __________________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1"/>
          <p:cNvSpPr/>
          <p:nvPr/>
        </p:nvSpPr>
        <p:spPr>
          <a:xfrm>
            <a:off x="228600" y="3049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Objective: To identify similarities between texts; to participate in a choral reading of a po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2"/>
          <p:cNvSpPr/>
          <p:nvPr/>
        </p:nvSpPr>
        <p:spPr>
          <a:xfrm>
            <a:off x="152280" y="1447920"/>
            <a:ext cx="89917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Today we are going to read a poem called  “Wind.”  As I read the poem I want you to listen and see if you hear any words that describe the wind.  On the second time I would like for you and I to read the poem togeth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1"/>
          <p:cNvSpPr/>
          <p:nvPr/>
        </p:nvSpPr>
        <p:spPr>
          <a:xfrm>
            <a:off x="0" y="0"/>
            <a:ext cx="914400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Calibri"/>
              </a:rPr>
              <a:t>W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Calibri"/>
              </a:rPr>
              <a:t>The wind has lots of nois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Calibri"/>
              </a:rPr>
              <a:t>it sniff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Calibri"/>
              </a:rPr>
              <a:t>it puff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Calibri"/>
              </a:rPr>
              <a:t>it wh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Calibri"/>
              </a:rPr>
              <a:t>it rumbles like an oc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Calibri"/>
              </a:rPr>
              <a:t>through junipers and pin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Calibri"/>
              </a:rPr>
              <a:t>it whispers in the window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Calibri"/>
              </a:rPr>
              <a:t>it howl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Calibri"/>
              </a:rPr>
              <a:t>it s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Calibri"/>
              </a:rPr>
              <a:t>it hum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Calibri"/>
              </a:rPr>
              <a:t>it tells you VERY PLAI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Calibri"/>
              </a:rPr>
              <a:t>every time it c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77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" dur="77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8" dur="77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0" dur="77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0" dur="200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1"/>
          <p:cNvSpPr/>
          <p:nvPr/>
        </p:nvSpPr>
        <p:spPr>
          <a:xfrm>
            <a:off x="228600" y="380880"/>
            <a:ext cx="86868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What words did you hear that described the win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alibri"/>
              </a:rPr>
              <a:t>sniff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alibri"/>
              </a:rPr>
              <a:t>puff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alibri"/>
              </a:rPr>
              <a:t>wh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alibri"/>
              </a:rPr>
              <a:t>rum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alibri"/>
              </a:rPr>
              <a:t>whisp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alibri"/>
              </a:rPr>
              <a:t>how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alibri"/>
              </a:rPr>
              <a:t>s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alibri"/>
              </a:rPr>
              <a:t>hu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77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7" dur="77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9" dur="77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1" dur="77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9" dur="20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4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4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1"/>
          <p:cNvSpPr/>
          <p:nvPr/>
        </p:nvSpPr>
        <p:spPr>
          <a:xfrm>
            <a:off x="152280" y="152280"/>
            <a:ext cx="89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alibri"/>
              </a:rPr>
              <a:t>Objective: To read high frequenc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Rectangle 3" descr=""/>
          <p:cNvPicPr/>
          <p:nvPr/>
        </p:nvPicPr>
        <p:blipFill>
          <a:blip r:embed="rId1"/>
          <a:stretch/>
        </p:blipFill>
        <p:spPr>
          <a:xfrm>
            <a:off x="73080" y="420840"/>
            <a:ext cx="9077400" cy="774720"/>
          </a:xfrm>
          <a:prstGeom prst="rect">
            <a:avLst/>
          </a:prstGeom>
          <a:ln w="0">
            <a:noFill/>
          </a:ln>
        </p:spPr>
      </p:pic>
      <p:sp>
        <p:nvSpPr>
          <p:cNvPr id="141" name="TextBox 4"/>
          <p:cNvSpPr/>
          <p:nvPr/>
        </p:nvSpPr>
        <p:spPr>
          <a:xfrm>
            <a:off x="76320" y="1143000"/>
            <a:ext cx="899136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arou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fro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rea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walk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an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noth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po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war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64" dur="2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view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457200" y="914400"/>
            <a:ext cx="830592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bec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be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bec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d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a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t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tr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o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t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7467480" y="0"/>
            <a:ext cx="16765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504d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3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3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3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3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3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3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3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3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3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3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3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3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3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3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3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3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3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300" fill="hold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300" fill="hold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8T01:27:45Z</dcterms:created>
  <dc:creator>lara colleen mangham</dc:creator>
  <dc:description/>
  <dc:language>en-US</dc:language>
  <cp:lastModifiedBy>lara colleen mangham</cp:lastModifiedBy>
  <dcterms:modified xsi:type="dcterms:W3CDTF">2009-05-01T02:25:28Z</dcterms:modified>
  <cp:revision>14</cp:revision>
  <dc:subject/>
  <dc:title>Slide 1</dc:title>
</cp:coreProperties>
</file>