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135B-342D-49F4-A88E-DEC86DEED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9C8D-72F0-446E-AA58-E04E37338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E58F-8D08-46D4-AE34-B2093A60F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7E82-E1AF-4928-B06E-DADF63119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AD0D-8FFE-499E-ABBD-144F07565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5B98-6143-4810-B419-870AC080A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7FB-176A-4C32-A004-4DE98FD5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90A6-342D-48AA-A020-2DA876CA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843-9C2A-4968-9037-68340AE9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40A-53E0-4DF2-A5F9-CD305985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03E1-3252-4C7A-A15F-71580558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BB28-24C2-4948-B14D-78D558FC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421F-A1AB-42C6-AC74-E09754E2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6E66-46D8-4303-BB57-9538A454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A323-8486-4DD2-9F9E-F94C2FE9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B42A-C4BB-4AFE-B1FA-88DA981D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257A-8EC4-4869-A6DC-FFF95B9F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9DA-3201-48FD-AAA9-5EB6558E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FBEC-2376-4255-B7FE-DC37BB51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5B83-8762-44E1-981B-843AF60B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4862-44A4-4CE3-9B2D-D4C4D33F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4E74-2AD4-4401-AC4E-EDEE49BC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D42E-206A-4154-9B5B-21F6818E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15A57-84F1-4F46-8BF5-B999E67C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6954D-D0B4-4904-ADF2-A4EBD66B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8E1A7-DB60-4BBA-84C2-58F91081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FB40C-085D-439A-B8E3-233AFCE6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19390-22C2-4DCC-B29E-D93AF978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47A0-A410-4D21-81E1-6E684FA5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CB0AE-B75C-47CD-98E2-1FA4C129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BFCBD-A5B9-49DF-95C6-24028774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C670B-866E-4913-9B5F-E2CDAE38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1088D-43D3-4FC3-85B4-EE92DDAD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29627-C763-4B51-865A-877F9582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56CF4-9989-4A0E-A1EA-6D3895E1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6C9CC-63D0-491D-91F3-22C8DDD7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8EC-FDE7-484E-AF2F-8D66A4E8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EBD-9B28-4C9E-B8CC-8B6669D0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11B6-8C74-41B1-9587-1173F0C0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2CCA-63B9-4976-8077-ACEF6599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D67-E99A-4D8B-B204-75A875E3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AF3-82C7-4A42-8B47-6E848C6F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8EE2-8A88-445F-B345-FEEA78027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8C22-7427-4171-B3B0-374C9463E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89C5-8A49-4B61-95AA-A221EF7B1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3" descr=""/>
          <p:cNvPicPr/>
          <p:nvPr/>
        </p:nvPicPr>
        <p:blipFill>
          <a:blip r:embed="rId1"/>
          <a:stretch/>
        </p:blipFill>
        <p:spPr>
          <a:xfrm>
            <a:off x="146160" y="-201600"/>
            <a:ext cx="885168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497d"/>
                </a:solidFill>
                <a:latin typeface="Arial"/>
              </a:rPr>
              <a:t>-ed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Arial"/>
              </a:rPr>
              <a:t>flip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Arial"/>
              </a:rPr>
              <a:t>ro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Arial"/>
              </a:rPr>
              <a:t>rubb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Arial"/>
              </a:rPr>
              <a:t>shopp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li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ra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fai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sha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6217200" y="611964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-ed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3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3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3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3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3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497d"/>
                </a:solidFill>
                <a:latin typeface="Arial"/>
              </a:rPr>
              <a:t>-ing Re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905120" y="1066680"/>
            <a:ext cx="55623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snea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pee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train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try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snor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lay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step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cook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b050"/>
                </a:solidFill>
                <a:latin typeface="Arial"/>
              </a:rPr>
              <a:t>sweep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6217200" y="5943600"/>
            <a:ext cx="292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Objective: To build and blend words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-ing  and other known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3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3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3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3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3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3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3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Calibri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2"/>
          <p:cNvSpPr/>
          <p:nvPr/>
        </p:nvSpPr>
        <p:spPr>
          <a:xfrm>
            <a:off x="3048120" y="914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4"/>
          <p:cNvSpPr/>
          <p:nvPr/>
        </p:nvSpPr>
        <p:spPr>
          <a:xfrm>
            <a:off x="3733920" y="914400"/>
            <a:ext cx="30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4"/>
          <p:cNvSpPr/>
          <p:nvPr/>
        </p:nvSpPr>
        <p:spPr>
          <a:xfrm>
            <a:off x="2895480" y="2590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6"/>
          <p:cNvSpPr/>
          <p:nvPr/>
        </p:nvSpPr>
        <p:spPr>
          <a:xfrm>
            <a:off x="350532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9"/>
          <p:cNvSpPr/>
          <p:nvPr/>
        </p:nvSpPr>
        <p:spPr>
          <a:xfrm>
            <a:off x="4038480" y="25909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3"/>
          <p:cNvSpPr/>
          <p:nvPr/>
        </p:nvSpPr>
        <p:spPr>
          <a:xfrm>
            <a:off x="4038480" y="914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4"/>
          <p:cNvSpPr/>
          <p:nvPr/>
        </p:nvSpPr>
        <p:spPr>
          <a:xfrm>
            <a:off x="3124080" y="17524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5"/>
          <p:cNvSpPr/>
          <p:nvPr/>
        </p:nvSpPr>
        <p:spPr>
          <a:xfrm>
            <a:off x="3657600" y="1752480"/>
            <a:ext cx="3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6"/>
          <p:cNvSpPr/>
          <p:nvPr/>
        </p:nvSpPr>
        <p:spPr>
          <a:xfrm>
            <a:off x="3886200" y="1752480"/>
            <a:ext cx="30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7"/>
          <p:cNvSpPr/>
          <p:nvPr/>
        </p:nvSpPr>
        <p:spPr>
          <a:xfrm>
            <a:off x="2666880" y="34290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8"/>
          <p:cNvSpPr/>
          <p:nvPr/>
        </p:nvSpPr>
        <p:spPr>
          <a:xfrm>
            <a:off x="3276720" y="3429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0"/>
          <p:cNvSpPr/>
          <p:nvPr/>
        </p:nvSpPr>
        <p:spPr>
          <a:xfrm>
            <a:off x="3733920" y="3429000"/>
            <a:ext cx="3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4"/>
          <p:cNvSpPr/>
          <p:nvPr/>
        </p:nvSpPr>
        <p:spPr>
          <a:xfrm>
            <a:off x="457200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5"/>
          <p:cNvSpPr/>
          <p:nvPr/>
        </p:nvSpPr>
        <p:spPr>
          <a:xfrm>
            <a:off x="41148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6"/>
          <p:cNvSpPr/>
          <p:nvPr/>
        </p:nvSpPr>
        <p:spPr>
          <a:xfrm>
            <a:off x="4343400" y="2590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7"/>
          <p:cNvSpPr/>
          <p:nvPr/>
        </p:nvSpPr>
        <p:spPr>
          <a:xfrm>
            <a:off x="4038480" y="34290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75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75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7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7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75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75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049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Word Blendin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716292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Arial"/>
              </a:rPr>
              <a:t>Objective: To use /oo/ oo, ew and /o/ow, oa and other known letter-sounds to decod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81952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352680" y="914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895480" y="2590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352680" y="25909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581280" y="2590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819520" y="17524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327672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3809880" y="17524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2895480" y="35053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3352680" y="35053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3581280" y="35053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4038480" y="3505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4343400" y="9144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3886200" y="914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4114800" y="1752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038480" y="25909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75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75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75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75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75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75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75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75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75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75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75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75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75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75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75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75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75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75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75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75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75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75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75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75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75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Rectangle 1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85204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15228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bjective: To add phonemes to make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"/>
          <p:cNvSpPr/>
          <p:nvPr/>
        </p:nvSpPr>
        <p:spPr>
          <a:xfrm>
            <a:off x="304920" y="609480"/>
            <a:ext cx="8458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et’s add some sounds to make new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s/ to park and the new word is s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b/ to red and the new word is b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s/ to top and the new word is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g/ to rip and the new word is g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d/ to the end of car and the new word is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/t/ to the end of bus and the new word is b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ch/ to the end of bee and the new word is b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p/ to the end of lamb and the new word is l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p/ to lay and the new word is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hw/ to eat and the new word is w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s/ to mile and the new word is s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dd /c/ to lap and the new word is c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6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8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8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4" dur="2000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900" fill="hold"/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Rectangle 1" descr=""/>
          <p:cNvPicPr/>
          <p:nvPr/>
        </p:nvPicPr>
        <p:blipFill>
          <a:blip r:embed="rId1"/>
          <a:stretch/>
        </p:blipFill>
        <p:spPr>
          <a:xfrm>
            <a:off x="146160" y="146160"/>
            <a:ext cx="88516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152280" y="22860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Calibri"/>
              </a:rPr>
              <a:t>Objective: To substitute sounds in the initial position to make new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228600" y="685800"/>
            <a:ext cx="8534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Let’s change some letters to make new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c/ in care to a /b/ and the new word is b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b/ in boat to a /k/ and the new word is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m/ in moon to a /t/ and the new word is t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s/ in sink to a /p/ and the new word is p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b/ in boy to a /t/ and the new word is t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y/ in yawn to a /l/ and the new word is la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l/ in lake to a /m/ and the new word is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m/ in might to a /l/ and the new word is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r/ in rock to a /n/ and the new word is kn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m/ in man to a /p/ and the new word is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m/ in mouse to a /h/ and the new word is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ange /c/ in clock to a /f/ and the new word is f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51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8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8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9" dur="20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228600" y="22860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bjective: To discriminate  between words with different patterns; to use common letter patterns to read 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228600" y="1371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b0f0"/>
                </a:solidFill>
                <a:latin typeface="Arial"/>
              </a:rPr>
              <a:t>Phonogram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04920" y="3657600"/>
            <a:ext cx="853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member that a phonogram is a word that has the same ending as another word.  Today we are going to work on words ending with  -ind, –ild, and -old. Phonograms are also rhyming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38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152280" y="228600"/>
          <a:ext cx="8686800" cy="658332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ette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ndin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u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9004320" cy="64562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152280" y="2286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bjective: To listen attentively and respond appropriately to oral communication; to read aloud with fluency in a manner that sounds like normal spe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0" y="304920"/>
          <a:ext cx="9144000" cy="6553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lette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endin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c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o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o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o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f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o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o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m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ol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228600" y="53352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Where is the clock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The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kind</a:t>
            </a: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child</a:t>
            </a: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 will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find</a:t>
            </a: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 i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Do you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mind</a:t>
            </a: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 if I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wind</a:t>
            </a: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The bird in the clock is going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wild</a:t>
            </a: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Tick, tock! Tick, to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152280" y="3049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Read the words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2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76320" y="2286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Rectangle 2" descr=""/>
          <p:cNvPicPr/>
          <p:nvPr/>
        </p:nvPicPr>
        <p:blipFill>
          <a:blip r:embed="rId1"/>
          <a:stretch/>
        </p:blipFill>
        <p:spPr>
          <a:xfrm>
            <a:off x="146160" y="438120"/>
            <a:ext cx="8851680" cy="10987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152280" y="1523880"/>
            <a:ext cx="8839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77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2" dur="77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4" dur="77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6" dur="77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2"/>
          <p:cNvSpPr/>
          <p:nvPr/>
        </p:nvSpPr>
        <p:spPr>
          <a:xfrm>
            <a:off x="22860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Rectangle 3" descr=""/>
          <p:cNvPicPr/>
          <p:nvPr/>
        </p:nvPicPr>
        <p:blipFill>
          <a:blip r:embed="rId1"/>
          <a:stretch/>
        </p:blipFill>
        <p:spPr>
          <a:xfrm>
            <a:off x="-6480" y="133200"/>
            <a:ext cx="9156960" cy="10987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4"/>
          <p:cNvSpPr/>
          <p:nvPr/>
        </p:nvSpPr>
        <p:spPr>
          <a:xfrm>
            <a:off x="0" y="1143000"/>
            <a:ext cx="883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clim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hu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pret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so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1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4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400" fill="hold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400" fill="hold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400" fill="hold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1"/>
          <p:cNvSpPr/>
          <p:nvPr/>
        </p:nvSpPr>
        <p:spPr>
          <a:xfrm>
            <a:off x="228600" y="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ctive: To place words from a story in alphabetical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"/>
          <p:cNvSpPr/>
          <p:nvPr/>
        </p:nvSpPr>
        <p:spPr>
          <a:xfrm>
            <a:off x="0" y="380880"/>
            <a:ext cx="8991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Let’s see if we can put these words in alphabetical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b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w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p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b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380880" y="403848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b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b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p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w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8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8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8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8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6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1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3" dur="2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70c0"/>
                </a:solidFill>
                <a:uFillTx/>
                <a:latin typeface="Calibri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exhau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outrage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pat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77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9" dur="77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1" dur="77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3" dur="77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257800" y="1523520"/>
            <a:ext cx="3733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exhausted, you are so tired you can hardly move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4f81bd"/>
              </a:gs>
              <a:gs pos="100000">
                <a:srgbClr val="00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haust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3"/>
          <p:cNvSpPr/>
          <p:nvPr/>
        </p:nvSpPr>
        <p:spPr>
          <a:xfrm>
            <a:off x="609480" y="5638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ttle boy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hau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0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4762800" cy="317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I will name some activities.  If the activity would make someone exhausted  I want you to close your eyes like you are sleeping.  If the activity would not make you exhausted, then open your eyes very wide like your aw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unning a mara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wimming l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mbing st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tching 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gging deep h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ading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8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5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62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77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8" dur="77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0" dur="77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2" dur="77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20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800000"/>
              </a:gs>
              <a:gs pos="100000">
                <a:srgbClr val="ff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rIns="356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outrageous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638680" y="19810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something is outrageous, it is different in a shocking wa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5"/>
          <p:cNvSpPr/>
          <p:nvPr/>
        </p:nvSpPr>
        <p:spPr>
          <a:xfrm>
            <a:off x="914400" y="54864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wa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utrageo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the purple flower had one red and yellow pet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9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260964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0" y="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I will name some things that might look outrageous.  If I name something that looks outrageous I want you to say “WOW!”  If not say nothing at 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clowns at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zebras in a shoe s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a queen at a post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dogs at a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children at a restau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bunnies in a pet s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9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3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4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4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07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77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2" dur="77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4" dur="77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6" dur="77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2" dur="5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0" y="457200"/>
            <a:ext cx="899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How can you tell when it is a windy da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Calibri"/>
              </a:rPr>
              <a:t>On my signal, turn and talk with your partner to complete the following st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The wind blows ______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5105520" y="1905120"/>
            <a:ext cx="3795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are patient, you put up with things without complain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gradFill rotWithShape="0">
            <a:gsLst>
              <a:gs pos="0">
                <a:srgbClr val="106624"/>
              </a:gs>
              <a:gs pos="100000">
                <a:srgbClr val="80008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ti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2"/>
          <p:cNvSpPr/>
          <p:nvPr/>
        </p:nvSpPr>
        <p:spPr>
          <a:xfrm>
            <a:off x="762120" y="55627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n was very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t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le waiting to catch a fis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7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0" y="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I will name some places.  Why do you think a person would have to be patient at each one of these pla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 swimming p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 grocery st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 clothing st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 play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a soccer g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63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0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Answer in one vo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If you had to stand in line for two hours to get a free ice cream cone, would you be patient or exhau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T and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What would be an outrageous name for a tremendous superhero that you might create and dra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T and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Name something that would be tiresome if your job was to seize it over and over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ys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 feel a tremendous shaking coming from the ground.  Show how you might w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8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9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0" dur="8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4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2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8" dur="20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20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152280" y="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use go and went correctly in sentences to describe actions in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0" y="76212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Use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go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or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w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Did Frog and Toad _____________ near the boo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No, Frog and Toad _____________near the co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Now, we ___________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Last night, Dan ___________ to the mov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We __________to the park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We __________ to the art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5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7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2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1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0" y="152280"/>
            <a:ext cx="883908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has a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has a character and a set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has a beginning, middle, and 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It has a pl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4"/>
          <p:cNvSpPr/>
          <p:nvPr/>
        </p:nvSpPr>
        <p:spPr>
          <a:xfrm>
            <a:off x="6398280" y="152280"/>
            <a:ext cx="238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Recognizing story struct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4" dur="indefinite" restart="never" nodeType="tmRoot">
          <p:childTnLst>
            <p:seq>
              <p:cTn id="1495" dur="indefinite" nodeType="mainSeq">
                <p:childTnLst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6" dur="8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7" dur="8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8" dur="8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228600" y="380880"/>
            <a:ext cx="8534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What does the wind sound lik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my signal, turn and talk with your partner to complete the following st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The wind sounds like ___________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Objective: To identify similarities between texts; to participate in a choral reading of a p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152280" y="1447920"/>
            <a:ext cx="8991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Today we are going to read a poem called  “Wind.”  As I read the poem I want you to listen and see if you hear any words that describe the wind.  On the second time I would like for you and I to read the poem toge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The wind has lots of noi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sniff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puff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wh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rumbles like an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through junipers and pin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whispers in the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how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s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hum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it tells you VERY PLAI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every time it 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228600" y="38088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hat words did you hear that described the wi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snif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puf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w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rum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whis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how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s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h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152280" y="152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Rectangle 3" descr=""/>
          <p:cNvPicPr/>
          <p:nvPr/>
        </p:nvPicPr>
        <p:blipFill>
          <a:blip r:embed="rId1"/>
          <a:stretch/>
        </p:blipFill>
        <p:spPr>
          <a:xfrm>
            <a:off x="73080" y="420840"/>
            <a:ext cx="9077400" cy="7747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76320" y="1143000"/>
            <a:ext cx="8991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a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fro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rea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alk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a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no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p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5" dur="2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view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5720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bec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be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d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t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7467480" y="0"/>
            <a:ext cx="167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1:27:45Z</dcterms:created>
  <dc:creator>lara colleen mangham</dc:creator>
  <dc:description/>
  <dc:language>en-US</dc:language>
  <cp:lastModifiedBy>lara colleen mangham</cp:lastModifiedBy>
  <dcterms:modified xsi:type="dcterms:W3CDTF">2009-05-01T02:25:28Z</dcterms:modified>
  <cp:revision>14</cp:revision>
  <dc:subject/>
  <dc:title>Slide 1</dc:title>
</cp:coreProperties>
</file>