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46A-CD10-4448-BE48-445291D1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75E-9D61-470D-8032-2B2A92DD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7BA-CB6C-4A08-AA41-316C3D1D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364-A33C-45F2-928A-FF73AABA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B596-E884-485B-B494-BAF85B7A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320D-3EB8-4093-89B8-372B2B75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0FD7-C5D3-41F4-AC31-725F29F2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AB79-0C51-4127-B40C-279BFD81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DD60-A2D8-4E67-B5B2-FA4683AF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06D7-8691-457A-84BF-381448DB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1975-D4BD-4157-ACD5-32C99960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F99-02A1-40C8-AD46-5046E6C5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E1C7-2A27-4036-8600-B20A0B07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E2F0-C769-4018-8BCC-A2E484A6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3A16-E238-4517-BD86-14C238E0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EA88-1DA2-4821-9DBC-CC557FB3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FED4-5792-44F3-9103-18055812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3A97-678C-4858-AE43-098FEB6A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47D3-44F4-4608-B829-9F30AB55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253-A81A-48F2-89EC-A018B4BB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97B-898D-4633-889A-3386B5AD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D35D-B56F-4459-93C4-6D378B83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AB6E-D9B3-4B3A-AFE1-D340174E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7EF-8062-4C8A-B7A5-13723FE3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794B-02AE-43D6-863D-43FA85FA97D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18A6-8C35-4BB9-8282-91BA223F740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n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ptember 1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esson 4, Day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70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Jack has a sa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ack will pick a sa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7620120" y="585324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o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’s Read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ck a Sack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called go 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first rotation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83364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68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7391520" y="612792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219320"/>
            <a:ext cx="807732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0120" y="603576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understand characteristics of fanta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ook! Book! Book!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80384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Content Placeholder 3" descr="ambled.bmp"/>
          <p:cNvPicPr/>
          <p:nvPr/>
        </p:nvPicPr>
        <p:blipFill>
          <a:blip r:embed="rId1"/>
          <a:stretch/>
        </p:blipFill>
        <p:spPr>
          <a:xfrm>
            <a:off x="4344840" y="817560"/>
            <a:ext cx="3571920" cy="47624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mbl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you  walked in a slow and relaxed mann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41520" y="1952640"/>
            <a:ext cx="598464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lowly the pi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mbl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to the libra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might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m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when you take a walk or when you are in a rac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politely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ct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you show that you have good manners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Content Placeholder 3" descr="manners-1.gif"/>
          <p:cNvPicPr/>
          <p:nvPr/>
        </p:nvPicPr>
        <p:blipFill>
          <a:blip r:embed="rId1"/>
          <a:stretch/>
        </p:blipFill>
        <p:spPr>
          <a:xfrm>
            <a:off x="1066680" y="3200400"/>
            <a:ext cx="708660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might you see on a farm?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You might see ______ on a far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541520" y="2013120"/>
            <a:ext cx="5984640" cy="30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of the animals used good manner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ked the librarian for something to 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want or need something, how do you ask for i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pouted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2900" spc="-1" strike="noStrike">
                <a:solidFill>
                  <a:srgbClr val="ff0000"/>
                </a:solidFill>
                <a:latin typeface="Comic Sans MS"/>
              </a:rPr>
              <a:t>pouted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, you showed you were not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appy by making a face. 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Content Placeholder 5" descr="childPOUTING.gif"/>
          <p:cNvPicPr/>
          <p:nvPr/>
        </p:nvPicPr>
        <p:blipFill>
          <a:blip r:embed="rId1"/>
          <a:stretch/>
        </p:blipFill>
        <p:spPr>
          <a:xfrm>
            <a:off x="2209680" y="2514600"/>
            <a:ext cx="46926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541520" y="1952640"/>
            <a:ext cx="598464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i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she had nothing to 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might cause a young child to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getting a new toy or having to take a nap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91520" y="5867280"/>
            <a:ext cx="228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entify telli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ts of senten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0"/>
            <a:ext cx="8991720" cy="90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librarian could not understand the animal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librarian scratche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r hea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91520" y="5867280"/>
            <a:ext cx="228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entify telli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ts of senten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0"/>
            <a:ext cx="8991720" cy="69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Bill likes music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Bill is in a ba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859040" y="0"/>
            <a:ext cx="5425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467480" y="586728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understand that sentences are used as ca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68656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listen to a story read alou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8915400" cy="47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There’s A Billy Goat in the G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81080" y="2246400"/>
            <a:ext cx="5029200" cy="46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o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bjective: To identify initial sounds in word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la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391520" y="603576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nderstand that 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k together stand for one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iagraph /k/ ck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1143000"/>
            <a:ext cx="281916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 say a word that ends with /k/, give me a thumbs up. When I say a word that does not have a /k/ at the end, put your hands in your 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302724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591516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k/ ck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114300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19810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1430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198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198108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2819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28195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35812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586728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k/ ck and other known letter-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1295280"/>
            <a:ext cx="762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1295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137160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2133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2133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3048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3048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0481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38862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38862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47242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54864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5486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5486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591516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8-21T02:58:28Z</dcterms:modified>
  <cp:revision>202</cp:revision>
  <dc:subject/>
  <dc:title>Slide 1</dc:title>
</cp:coreProperties>
</file>