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CC2-F3C2-40A1-A8DD-46512003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EBE4-4965-4052-9816-CF6A538D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668-5A86-4B4B-8D55-FE187BD9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E74-C723-429E-B7E7-19D50311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BF4B-6D13-4492-9065-8B94B009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C6FA-D9AE-4BDD-96BA-66BF3BFC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29EC-DE61-40D8-B55D-A57FAC2C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037C-AFFD-4F7A-9805-0CB7DFC3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31D8-BA39-4951-B2EC-810B9B2C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D566-E030-43ED-A7C3-3C3A4CAF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FDC7-AD3E-4D36-92B2-55D50337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A55-1F07-44C4-AA47-03D8D137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BFB8-8AF6-4FEA-8A71-52122E35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25C2-BB1A-42E6-A097-0C24D3B9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2F54-20E9-4FF5-A9CA-9C1406B5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4AB8-8EDB-45EA-A73C-4DF39213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FF85-285E-47A5-8915-5381F72A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A4F-9255-448B-8AAB-63802598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86F-15CD-42C1-BC23-0445D1FB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CBE-5443-4FA1-8B8C-BDDE66F8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7574-FF86-4FCE-B704-3DE81487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746-BC53-4EC1-AC60-13AE73F3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F0E-3B14-41B2-9B2A-C6238852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3712-4538-412D-A733-A1785729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990B-8A4F-428F-82FB-B409311B4A0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D91E-C403-4FA7-B70E-0634ACBCC8E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nd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eptember 1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esson 4, Day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870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Jack has a sac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ack will pick a sac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7620120" y="585324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o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hav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2880" y="114300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t’s Read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ick a Sack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called go 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 first rotation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oup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oup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oup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383364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8" dur="2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2000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68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7391520" y="612792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219320"/>
            <a:ext cx="807732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0120" y="603576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understand characteristics of fanta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ook! Book! Book!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80384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0" y="5989680"/>
            <a:ext cx="22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lit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u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0" y="5989680"/>
            <a:ext cx="22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lit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u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Content Placeholder 3" descr="ambled.bmp"/>
          <p:cNvPicPr/>
          <p:nvPr/>
        </p:nvPicPr>
        <p:blipFill>
          <a:blip r:embed="rId1"/>
          <a:stretch/>
        </p:blipFill>
        <p:spPr>
          <a:xfrm>
            <a:off x="4344840" y="817560"/>
            <a:ext cx="3571920" cy="47624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mbl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you  walked in a slow and relaxed mann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541520" y="1952640"/>
            <a:ext cx="598464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lowly the pig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mbl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to the libra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might you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m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when you take a walk or when you are in a rac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politely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act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olitel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you show that you have good manners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Content Placeholder 3" descr="manners-1.gif"/>
          <p:cNvPicPr/>
          <p:nvPr/>
        </p:nvPicPr>
        <p:blipFill>
          <a:blip r:embed="rId1"/>
          <a:stretch/>
        </p:blipFill>
        <p:spPr>
          <a:xfrm>
            <a:off x="1066680" y="3200400"/>
            <a:ext cx="708660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at might you see on a farm?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You might see ______ on a far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olit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541520" y="2013120"/>
            <a:ext cx="5984640" cy="30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of the animals used good manner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lite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ked the librarian for something to d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you want or need something, how do you ask for i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lite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pouted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2900" spc="-1" strike="noStrike">
                <a:solidFill>
                  <a:srgbClr val="ff0000"/>
                </a:solidFill>
                <a:latin typeface="Comic Sans MS"/>
              </a:rPr>
              <a:t>pouted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, you showed you were not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appy by making a face.  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Content Placeholder 5" descr="childPOUTING.gif"/>
          <p:cNvPicPr/>
          <p:nvPr/>
        </p:nvPicPr>
        <p:blipFill>
          <a:blip r:embed="rId1"/>
          <a:stretch/>
        </p:blipFill>
        <p:spPr>
          <a:xfrm>
            <a:off x="2209680" y="2514600"/>
            <a:ext cx="46926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ou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541520" y="1952640"/>
            <a:ext cx="598464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ig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u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cause she had nothing to d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might cause a young child to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getting a new toy or having to take a nap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391520" y="5867280"/>
            <a:ext cx="2286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entify telling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rts of sentenc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0"/>
            <a:ext cx="8991720" cy="90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librarian could not understand the animal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librarian scratched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r hea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391520" y="5867280"/>
            <a:ext cx="2286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entify telling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rts of sentenc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0"/>
            <a:ext cx="8991720" cy="69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Bill likes music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Bill is in a ban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859040" y="0"/>
            <a:ext cx="5425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467480" y="586728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understand that sentences are used as ca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68656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listen to a story read alou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8915400" cy="47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There’s A Billy Goat in the Ga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81080" y="2246400"/>
            <a:ext cx="5029200" cy="46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av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o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bjective: To identify initial sounds in word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latio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391520" y="603576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understand that 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k together stand for one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iagraph /k/ ck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1143000"/>
            <a:ext cx="281916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 say a word that ends with /k/, give me a thumbs up. When I say a word that does not have a /k/ at the end, put your hands in your 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302724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80920" y="1143000"/>
            <a:ext cx="838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7162920" y="591516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k/ ck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1143000"/>
            <a:ext cx="68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19810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11430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198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198108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7600" y="2819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28195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35812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26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221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586728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k/ ck and other known letter-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1295280"/>
            <a:ext cx="762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1295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137160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21337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213372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21337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30481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3048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30481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38862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38862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47242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54864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5486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54864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591516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8-21T02:58:28Z</dcterms:modified>
  <cp:revision>202</cp:revision>
  <dc:subject/>
  <dc:title>Slide 1</dc:title>
</cp:coreProperties>
</file>