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B7D4-6A27-4D5B-9BB2-705A9FA1B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BBA2-E7C2-42D8-9546-53F05762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0625-35F6-4966-A27C-E6414295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766F-6234-4085-B9CC-F58A1FF2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4E3-05B5-42AE-89AF-60D8F37FA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2AF7-B7A3-4223-A8F9-80FD8D60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0F11-2564-48F6-AA3E-01119D25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17B3-16C1-4F8F-8BA7-B7E55CB2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D5C5-8A25-43EE-B221-3FDAB727B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873E-0D22-4170-A84C-5D268BEB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8D7-97F3-40B6-9972-0BEC5E9B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D192-6265-4495-8460-0F39FD2E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533-E4F3-4440-A628-64CD6791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59A-7FB4-432B-A93F-50922D1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CB9-59EC-43A0-A5D4-DD826658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EF9-F7CA-4D2C-8814-7E32E42C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E980-D20F-4825-B311-4825A0FC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4E3-8C31-478E-BFB5-4983F697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99F0-00BA-4004-85CB-FA14C534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B5E0-CAC2-4C08-8B08-48D3BAD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4A0E-323B-4AD8-A4C9-6226B70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11C0-8F90-43E1-BC45-324B765D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305-2405-47B7-B157-298A9F6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493-1EAB-43E9-B973-D9120DD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B35-0F49-4A11-A431-D536B42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8774-9B8F-4146-8B91-A615B5A6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D64C-51CE-40DC-ACD1-7651888E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A51C-7C7D-4913-A0BF-CAA6885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6BB-AA8D-46E3-B571-11DF25FD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C63-8FF0-4CEE-A5BB-77BD903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CE5-5CE7-4313-A9D7-7811A7D2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231-EFB6-496B-A9B5-4685D2F2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281-E12C-427D-B085-94DC726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6B4-912E-49AA-90E5-5DE0CE9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FF0-6C57-4513-80E6-99F11C3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36E-0AC0-4636-825A-41E83DFF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6E0B-9C4B-4785-94B7-7B8482C08F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687-184F-4A03-AC0D-317C84EA04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no!  It is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he sick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ll he get up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he wil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 Up Rick!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rcRect l="1022" t="16870" r="24874" b="28868"/>
          <a:stretch/>
        </p:blipFill>
        <p:spPr>
          <a:xfrm>
            <a:off x="0" y="2128680"/>
            <a:ext cx="86104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41520" y="2260080"/>
            <a:ext cx="5984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 time when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something.  Why di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How did other people react to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 activity that would turn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ace into a smiling f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told you that you won a contest, woul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 to the stage to receive your priz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some places where you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ead of walk fast or r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o or what wakes you up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wake up when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is it a good idea to speak and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an example of a time when you acte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What did you do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feel if someone does not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 you?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52280" y="609480"/>
            <a:ext cx="899172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pig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cow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horses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goat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appreciate the rhythm and rhyme of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fin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09880" y="12952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2767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6576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36576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4191120" y="47242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3657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3886200" y="54864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no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up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n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om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m c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gifts in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a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get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8-21T03:04:01Z</dcterms:modified>
  <cp:revision>244</cp:revision>
  <dc:subject/>
  <dc:title>Slide 1</dc:title>
</cp:coreProperties>
</file>