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B664-781A-4110-B080-54D36F3BA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ECB0-A1E8-465B-98A9-4C0B1F5D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D79B-C261-4C15-BEBC-A1AAEF99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0671-3F52-4602-8B2B-0E96472DC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93BE-36FC-4B80-B0D7-1B41B6B48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E1D8-05DD-43BE-B9AD-66A18572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5E5-2C2D-4CDC-B07A-09249C557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DCDC-2E1F-496E-A0B2-0455FA37F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6FDB-E250-44C0-8D84-289E8A2E4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AD0F-FEED-4503-847C-F63310E82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A714-500D-4C5B-B2CA-A14A9DF9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5FBE-45F7-47CD-8DC2-1812495AC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484-A5F2-4DDF-AF92-D23D9824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62E-5D4A-44AF-8A62-E9788469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BFD-5B8C-432E-848F-921FB9CE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8A4-7372-43CA-A13E-99ADDB09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EDA1-1685-4050-8ABF-AF1FF166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ACB1-08FC-4842-8DAF-C6E606AF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27B3-A342-477A-B201-255A0F73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7195-9A48-4520-A84E-33263F2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B85F-C56C-45E3-94D4-9BFFEF02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1DC0-D16F-42F1-B88B-97335B4A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3FCA-7EE9-4264-A5EE-DB407B67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FDC-7295-42B9-A59E-16A38993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2369-53FA-41D5-93AE-83FE9F6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0ECA-0A97-423F-A140-033A198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E531-6C14-47C6-928A-19E3FEF1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AB4C-ED01-4B11-8190-2264008F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0DDD-E71C-4148-BD83-6A0D5E13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901-B29C-4B28-9D46-AC95E69D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0CA-12FC-47B8-83C9-44AC1E8B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773-D6EC-4CB9-8517-35DA981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659-55D5-41EC-8826-008F16E1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073-F97A-4D6C-9C08-E55A1067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A95-4B02-4449-8935-8C62CBA7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5A2-B647-4C6A-BC77-2B155A0C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441D-CD01-4BF0-AF9E-57FBE0BAE0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8E8-B7A5-4C7F-905C-EAD7D8F159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ptember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sson 4, Day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, no!  It is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he sick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ll he get up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, he will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t Up Rick!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rcRect l="1022" t="16870" r="24874" b="28868"/>
          <a:stretch/>
        </p:blipFill>
        <p:spPr>
          <a:xfrm>
            <a:off x="0" y="2128680"/>
            <a:ext cx="86104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uted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29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, you showed you were not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appy by making a face. 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Content Placeholder 5" descr="childPOUTING.gif"/>
          <p:cNvPicPr/>
          <p:nvPr/>
        </p:nvPicPr>
        <p:blipFill>
          <a:blip r:embed="rId1"/>
          <a:stretch/>
        </p:blipFill>
        <p:spPr>
          <a:xfrm>
            <a:off x="2209680" y="2514600"/>
            <a:ext cx="4692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41520" y="2260080"/>
            <a:ext cx="598464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 time when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something.  Why did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How did other people react to you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n activity that would turn you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ace into a smiling f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Content Placeholder 3" descr="ambled.bmp"/>
          <p:cNvPicPr/>
          <p:nvPr/>
        </p:nvPicPr>
        <p:blipFill>
          <a:blip r:embed="rId1"/>
          <a:stretch/>
        </p:blipFill>
        <p:spPr>
          <a:xfrm>
            <a:off x="4344840" y="8175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mbl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 walked in a slow and relaxed man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541520" y="1952640"/>
            <a:ext cx="59846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someone told you that you won a contest, would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p to the stage to receive your priz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some places where you woul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ead of walk fast or ru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litely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ct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show that you have good manners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Content Placeholder 3" descr="manners-1.gif"/>
          <p:cNvPicPr/>
          <p:nvPr/>
        </p:nvPicPr>
        <p:blipFill>
          <a:blip r:embed="rId1"/>
          <a:stretch/>
        </p:blipFill>
        <p:spPr>
          <a:xfrm>
            <a:off x="1066680" y="3200400"/>
            <a:ext cx="70866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o or what wakes you up in the mornin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 wake up when 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is it a good idea to speak and ac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an example of a time when you acte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What did you do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you feel if someone does not ac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ward you?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152280" y="609480"/>
            <a:ext cx="899172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pigs 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cows 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horses _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goat _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appreciate the rhythm and rhyme of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at Kisses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724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identify final sounds in wor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162920" y="603576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k/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657600" y="12952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09880" y="12952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5181480" y="1371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73392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2767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419112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27672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2767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65760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4038480" y="3048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41148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327672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36576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4191120" y="47242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3200400" y="5486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36576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3886200" y="54864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not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up th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n will com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om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m c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gifts in th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ac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d will get th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i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839480" y="1905120"/>
            <a:ext cx="14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8-21T03:04:01Z</dcterms:modified>
  <cp:revision>244</cp:revision>
  <dc:subject/>
  <dc:title>Slide 1</dc:title>
</cp:coreProperties>
</file>