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23C0-8DC0-429B-9F49-67251DD3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4261-F839-48BC-A543-075AA59F9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9E17-A715-4EF9-B9C8-8AE84AE9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E9F-F8B3-4F6C-8B2D-8F0B7B97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34C5-2BCE-4815-8088-29BB058C4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60AB-8141-497B-AFEB-B28356B7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EDE-43DA-4CDC-A8E4-77237E4B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848-05CC-4456-ABE4-6FAEF622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9FED-7712-4EC2-8058-4C1FA663B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FB31-7445-420B-9C4D-238CABFD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E077-55F3-48C8-81F9-4E0E5CB16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74F-DFD7-40CD-AED4-984895EF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05A-1A65-4FEE-80CF-E5B234D5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B9C-8F42-4068-9CA7-4B864B60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9EC-8C2E-44E2-9AB0-8F55CA43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252-A5FB-422B-AFA0-D9CD5174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9987-8838-45E3-BFE0-D52E9ACF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F1A7-001A-4F66-8259-CA2AB232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E308-2A23-4126-9929-1B21C0B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95DC-43D3-464D-A602-EB907518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3DE1-AB2A-4F01-A45C-1BABEB46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BC42-4824-459F-84CC-77B4BC70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0CC0-64B9-4788-BB6A-978102D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F34-4F4F-4543-9C9A-1A6485E4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FFD0-4355-42D1-BE1C-2A32F713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16AC-0A2A-4032-B91C-C2F8BC6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9258-5A9D-4CCA-B6BF-C61DED7C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1A00-108B-4879-91A3-F4B9FE82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6D24-B3DB-4D55-9399-34D08BD2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589-B2EE-4900-B3D6-B6406BB2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6D4-5182-4221-9134-42FAB07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030-BA58-4245-9DA3-8F04559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052-B9AA-4057-9FCE-586086EC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048-246C-41AF-8A2E-57704DB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515-30D0-4269-9313-4DBCEB47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AFA-73BE-49E7-9CB1-913BA22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0B3B-14EB-4AAE-A7B0-ABC75B6A72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5EE-692F-42F4-B498-993E9F125C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Fluenc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no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R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Rick s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 Rick is fast asle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up, Rick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Content Placeholder 3" descr="considerate.jpg"/>
          <p:cNvPicPr/>
          <p:nvPr/>
        </p:nvPicPr>
        <p:blipFill>
          <a:blip r:embed="rId1"/>
          <a:stretch/>
        </p:blipFill>
        <p:spPr>
          <a:xfrm>
            <a:off x="4267080" y="1143000"/>
            <a:ext cx="4110120" cy="5029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son thinks about the feelings of oth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imal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Rick when they give him a clo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a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thers, I do nice things for them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bee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someone lately?  What did you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rout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Content Placeholder 3" descr="skincare-routine.jpg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rm animals have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very morning.  They expect Rick to crow and wake them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ollow the sam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days I come to school.  What kind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 you follow on school day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ometh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ppens, it will be a surpr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Content Placeholder 5" descr="surprise_kitten_attack.jpg"/>
          <p:cNvPicPr/>
          <p:nvPr/>
        </p:nvPicPr>
        <p:blipFill>
          <a:blip r:embed="rId1"/>
          <a:stretch/>
        </p:blipFill>
        <p:spPr>
          <a:xfrm>
            <a:off x="1905120" y="243828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41520" y="2075040"/>
            <a:ext cx="59846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orning, Rick does not crow.  Everyone is late.  The animals are surprised because this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me to sleep late.  Would that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you?  Why or why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are some words you would use to describe ca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ats are 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ats like to 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-380880" y="0"/>
            <a:ext cx="89913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Arial"/>
              </a:rPr>
              <a:t>On Our Way to Schoo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Shared Writing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understand the characteristics of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at Kisses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724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medial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733920" y="129528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038480" y="21337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6576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19112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581280" y="2971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19720" y="2971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9625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4191120" y="29718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3352680" y="38098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3962520" y="3809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41148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43434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27672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581280" y="4648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962520" y="46483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733920" y="129528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7339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73392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45720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1480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495680" y="21337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191120" y="2971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32767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38098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457200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3124080" y="3733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73392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41148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449568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go to camp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J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help him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com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d will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ick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m up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07T04:49:51Z</dcterms:modified>
  <cp:revision>252</cp:revision>
  <dc:subject/>
  <dc:title>Slide 1</dc:title>
</cp:coreProperties>
</file>