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D37B-B75F-4D27-9EFE-63301C332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7E3F-8F8A-4179-8255-FA4223BF1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0E4B-5688-4CE4-A480-949748E20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2288-AB1C-43A1-96F3-80A19FD1D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9650-B963-403C-A321-6BF33F8DB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5DD1-CB86-4E94-B5DF-009FF5685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CA8A-3E86-4DD3-93F7-5B417790B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EEDA-2E05-4F7D-97CC-9E4B4C42A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404C-19B0-4D82-9DF0-20A4E246D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864E-38CF-4062-9E2C-0A9E81BE7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F2E1-D1C7-41EC-87D0-EF98A99A9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B239-DCF1-4DED-B50D-0701F984E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A71D-8B16-4923-8265-6874D788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5ABF-AA33-4935-A062-C40F8090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E21E-64CD-4F51-91F0-FC29E8FB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0070-99C6-48F6-9282-B33BD8F6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695B-D944-461C-AA65-0960137F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CBD4-01AE-4DD8-BCF8-DE615F6E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FC93-C2B1-4D20-9B22-F0EC3D76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2286-C8F8-4CEE-A6A0-1A1B6E42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AECE-1EF4-499A-8E8C-948E345E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A9D6-4C23-483C-B5A2-ED56552F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6422-15EF-443A-8EB1-41661AFE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E098-2EF9-4502-8C45-31887D86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AFC0-1FFD-41DC-9F9D-2E7F37F4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BCDA-F6B8-440A-8F4F-195975D2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5377-032F-411B-ACBC-C6A88688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ABCB-9BA5-45CF-9DCB-32D1C407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7881-50E6-412E-B8F8-E8A5C409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04B5-DC8C-4AD2-992B-FA12B92A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C499-FB7A-4B42-8C72-3CAE3FBC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0831-0007-4B68-A8D2-BC8C5647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B330-3ECA-4D42-848F-336A9930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AB91-DA18-4B66-A366-83860184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E6C2-3F6B-4853-95D5-438AE445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3821-4F96-46B5-9B42-D51E31CC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5E06-EAF3-464B-B909-56403F58C7E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F686-27E7-471F-B622-CA5AF3397E9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MPj04394500000[1]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2362320" y="457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ednesda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ptember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esson 4, Day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Comic Sans MS"/>
              </a:rPr>
              <a:t>Words to Know</a:t>
            </a:r>
            <a:endParaRPr b="0" lang="en-US" sz="5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oh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lat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y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-305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Comic Sans MS"/>
              </a:rPr>
              <a:t>Fluenc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h, no!  It is lat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is Rick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Rick sick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!  Rick is fast aslee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t up, Rick!  It is lat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28600" y="1523880"/>
          <a:ext cx="8763120" cy="4800600"/>
        </p:xfrm>
        <a:graphic>
          <a:graphicData uri="http://schemas.openxmlformats.org/drawingml/2006/table">
            <a:tbl>
              <a:tblPr/>
              <a:tblGrid>
                <a:gridCol w="2894040"/>
                <a:gridCol w="2813040"/>
                <a:gridCol w="305604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ginn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dd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d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38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0" y="5989680"/>
            <a:ext cx="2286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der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ut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consider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Content Placeholder 3" descr="considerate.jpg"/>
          <p:cNvPicPr/>
          <p:nvPr/>
        </p:nvPicPr>
        <p:blipFill>
          <a:blip r:embed="rId1"/>
          <a:stretch/>
        </p:blipFill>
        <p:spPr>
          <a:xfrm>
            <a:off x="4267080" y="1143000"/>
            <a:ext cx="4110120" cy="50292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nsider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erson thinks about the feelings of others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consider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nimals ar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sidera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Rick when they give him a cloc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 am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sidera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others, I do nice things for them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e you bee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sidera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someone lately?  What did you d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routine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follow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out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you do the same things every 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8" name="Content Placeholder 3" descr="skincare-routine.jpg"/>
          <p:cNvPicPr/>
          <p:nvPr/>
        </p:nvPicPr>
        <p:blipFill>
          <a:blip r:embed="rId1"/>
          <a:stretch/>
        </p:blipFill>
        <p:spPr>
          <a:xfrm>
            <a:off x="1752480" y="2666880"/>
            <a:ext cx="571500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rout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arm animals have 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very morning.  They expect Rick to crow and wake them u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follow the sam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n the days I come to school.  What kind of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o you follow on school day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unexpected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something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nexpec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ppens, it will be a surpri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" name="Content Placeholder 5" descr="surprise_kitten_attack.jpg"/>
          <p:cNvPicPr/>
          <p:nvPr/>
        </p:nvPicPr>
        <p:blipFill>
          <a:blip r:embed="rId1"/>
          <a:stretch/>
        </p:blipFill>
        <p:spPr>
          <a:xfrm>
            <a:off x="1905120" y="2438280"/>
            <a:ext cx="52862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un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541520" y="2075040"/>
            <a:ext cx="598464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morning, Rick does not crow.  Everyone is late.  The animals are surprised because this i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unexpec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would b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unexpec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me to sleep late.  Would that b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unexpec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you?  Why or why no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hat are some words you would use to describe cat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Cats are ____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Cats like to __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0" y="632448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compose sentences with telling par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19"/>
          <p:cNvSpPr/>
          <p:nvPr/>
        </p:nvSpPr>
        <p:spPr>
          <a:xfrm>
            <a:off x="-380880" y="0"/>
            <a:ext cx="8991360" cy="22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 u="sng">
                <a:solidFill>
                  <a:srgbClr val="000000"/>
                </a:solidFill>
                <a:uFillTx/>
                <a:latin typeface="Arial"/>
              </a:rPr>
              <a:t>On Our Way to School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-305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Comic Sans MS"/>
              </a:rPr>
              <a:t>Shared Writing</a:t>
            </a:r>
            <a:endParaRPr b="0" lang="en-US" sz="5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86240" y="6019560"/>
            <a:ext cx="2057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ective: To understand the characteristics of 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209680" y="0"/>
            <a:ext cx="4800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at Kisses”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7242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67120" y="621792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 –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read high frequency word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a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l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0" dur="2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identify medial sounds in word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876920" y="1295280"/>
            <a:ext cx="3427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66520" y="1294920"/>
            <a:ext cx="22100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162920" y="603576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/k/ck and other known letter-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3733920" y="1295280"/>
            <a:ext cx="761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886200" y="12952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6172200" y="34290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4038480" y="2133720"/>
            <a:ext cx="152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657600" y="213372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191120" y="21337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3581280" y="29718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4419720" y="29718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3"/>
          <p:cNvSpPr/>
          <p:nvPr/>
        </p:nvSpPr>
        <p:spPr>
          <a:xfrm>
            <a:off x="3962520" y="29718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4191120" y="29718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3352680" y="38098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0"/>
          <p:cNvSpPr/>
          <p:nvPr/>
        </p:nvSpPr>
        <p:spPr>
          <a:xfrm>
            <a:off x="3962520" y="38098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2"/>
          <p:cNvSpPr/>
          <p:nvPr/>
        </p:nvSpPr>
        <p:spPr>
          <a:xfrm>
            <a:off x="41148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4"/>
          <p:cNvSpPr/>
          <p:nvPr/>
        </p:nvSpPr>
        <p:spPr>
          <a:xfrm>
            <a:off x="43434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5"/>
          <p:cNvSpPr/>
          <p:nvPr/>
        </p:nvSpPr>
        <p:spPr>
          <a:xfrm>
            <a:off x="3276720" y="4648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7"/>
          <p:cNvSpPr/>
          <p:nvPr/>
        </p:nvSpPr>
        <p:spPr>
          <a:xfrm>
            <a:off x="3581280" y="46483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9"/>
          <p:cNvSpPr/>
          <p:nvPr/>
        </p:nvSpPr>
        <p:spPr>
          <a:xfrm>
            <a:off x="3962520" y="46483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66520" y="1294920"/>
            <a:ext cx="22100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7162920" y="603576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/k/ck and other known letter-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3733920" y="1295280"/>
            <a:ext cx="761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733920" y="12952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6172200" y="34290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3733920" y="213372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4572000" y="12952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4114800" y="21337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4495680" y="21337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4191120" y="29718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3"/>
          <p:cNvSpPr/>
          <p:nvPr/>
        </p:nvSpPr>
        <p:spPr>
          <a:xfrm>
            <a:off x="3276720" y="29718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4"/>
          <p:cNvSpPr/>
          <p:nvPr/>
        </p:nvSpPr>
        <p:spPr>
          <a:xfrm>
            <a:off x="3809880" y="29718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7"/>
          <p:cNvSpPr/>
          <p:nvPr/>
        </p:nvSpPr>
        <p:spPr>
          <a:xfrm>
            <a:off x="4572000" y="29718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3124080" y="37339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2"/>
          <p:cNvSpPr/>
          <p:nvPr/>
        </p:nvSpPr>
        <p:spPr>
          <a:xfrm>
            <a:off x="3733920" y="3733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4"/>
          <p:cNvSpPr/>
          <p:nvPr/>
        </p:nvSpPr>
        <p:spPr>
          <a:xfrm>
            <a:off x="4114800" y="3733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5"/>
          <p:cNvSpPr/>
          <p:nvPr/>
        </p:nvSpPr>
        <p:spPr>
          <a:xfrm>
            <a:off x="4495680" y="3733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ead Words in Contex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848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i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will go to camp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Ja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will help him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a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i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will come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ba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ad will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ick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im up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i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i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4839480" y="1905120"/>
            <a:ext cx="1458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bi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h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Janice Wagnon</dc:creator>
  <dc:description/>
  <dc:language>en-US</dc:language>
  <cp:lastModifiedBy> </cp:lastModifiedBy>
  <dcterms:modified xsi:type="dcterms:W3CDTF">2009-09-07T04:49:51Z</dcterms:modified>
  <cp:revision>252</cp:revision>
  <dc:subject/>
  <dc:title>Slide 1</dc:title>
</cp:coreProperties>
</file>