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7AB3-5A3B-4CB2-9444-9E3ED4E85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E143-B1C1-4429-86A6-392785FCD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BC95-FB12-4A64-AC44-793394DCD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B26E-1089-4604-9FEC-911AC3E81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57BC-DCAD-4190-922B-C03C0538F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5D54-9114-43B4-9334-02FFE4BB3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FBE4-BC8D-4AE4-971A-B70D93C01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A3E7-5EA8-4C4A-8E2C-84C51283D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28BD-3A80-4A39-9FEF-58D1A09B1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85BE-A11A-4718-B7CD-50CA68029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59BB-6A98-4387-BA93-743450281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1F05-93EB-4247-B395-DBE3D233B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E485-276C-4F51-B90B-13B8B7701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5985-4C36-471C-AFD7-91E206EB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958-FDE7-442F-B98C-0E15031E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058C-9F23-4D9D-B308-D00F4834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C3E5-F84A-4311-927B-98A29EAF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D73C-DF0B-4665-82B4-71A3BF43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3D96-D49F-47AC-B0FA-8DDC4E39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F8EE-F5E1-4D95-9B1E-DE3F6F3E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A62E-806E-4866-80B0-DC02979F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857A-5DD8-4154-BA3E-EF208415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5239-DFCA-433C-B366-87377E80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651A-0070-45F6-9E7F-0C6BAAFC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7FFD-A79D-4D0A-82A4-C63C5851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06C6-6E6E-43B2-9F7C-BCA03D19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894F-94DD-4EA5-8944-9283BC9D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8FCC-DAF7-4B71-925B-0088E904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6F49-25B0-4D32-892B-7C9062D5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3E5D-478B-4330-855B-75A1E32D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5E24-3632-4D89-A673-F8CA2DE9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9EF-F558-4E75-A039-ECB27F05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72AB-BC3A-4250-8D32-614CE554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A77E-0984-43B8-8D37-D5F2E6F2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973A-9161-4D80-948C-B848CF66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0834-839B-4E69-B4E6-2F981520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1FB1-7356-4640-BA26-F4CEDC73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86A2-9FE5-439A-BEE5-54E0247F9A2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BB65-800D-4811-BDCE-65149931F2D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MPj04394500000[1]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362320" y="45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ursda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ptember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esson 4, Day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omic Sans MS"/>
              </a:rPr>
              <a:t>Words to Know</a:t>
            </a:r>
            <a:endParaRPr b="0" lang="en-US" sz="5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oh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at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-5338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omic Sans MS"/>
              </a:rPr>
              <a:t>Fluenc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90920" y="3733920"/>
            <a:ext cx="4952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h, no!  It is lat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is Ric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Rick sic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!  Rick is fast asle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 up, Rick!  It is lat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106668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en I read, I pay attention to capital letters so I know where a sentence begins.  I also pay attention to commas and end marks.  When I see a comma, I pause.  When I see an exclamation point, I make my voice sound excited.  When I see a question mark, I sound as if I am asking a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28600" y="1523880"/>
          <a:ext cx="8763120" cy="4800600"/>
        </p:xfrm>
        <a:graphic>
          <a:graphicData uri="http://schemas.openxmlformats.org/drawingml/2006/table">
            <a:tbl>
              <a:tblPr/>
              <a:tblGrid>
                <a:gridCol w="2894040"/>
                <a:gridCol w="2813040"/>
                <a:gridCol w="30560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ginn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dd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d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38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 rot="21016200">
            <a:off x="228240" y="304920"/>
            <a:ext cx="304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200"/>
                </a:solidFill>
                <a:latin typeface="Comic Sans MS"/>
              </a:rPr>
              <a:t>Let’s fill in the chart on the story </a:t>
            </a:r>
            <a:r>
              <a:rPr b="0" i="1" lang="en-US" sz="1600" spc="-1" strike="noStrike">
                <a:solidFill>
                  <a:srgbClr val="00b200"/>
                </a:solidFill>
                <a:latin typeface="Comic Sans MS"/>
              </a:rPr>
              <a:t>There’s a Billy Goat in the Ga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0" y="5989680"/>
            <a:ext cx="2286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der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ut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consider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Content Placeholder 3" descr="considerate.jpg"/>
          <p:cNvPicPr/>
          <p:nvPr/>
        </p:nvPicPr>
        <p:blipFill>
          <a:blip r:embed="rId1"/>
          <a:stretch/>
        </p:blipFill>
        <p:spPr>
          <a:xfrm>
            <a:off x="4267080" y="1143000"/>
            <a:ext cx="4110120" cy="50292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nsider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erson thinks about the feelings of others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der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77724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304920" y="121932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nimals ar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sider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Rick when th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 him a clo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ate means – to think about the feelings of oth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y the wor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I am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sider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others, I do nice things for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es ‘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sider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63" dur="2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der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I say something that is consider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“That’s considerate!!”  If it isn’t s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h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2666880"/>
            <a:ext cx="853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Say p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Give a f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Make a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Grab a t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Share a cook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Make lots of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routine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follow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out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you do the same things every 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Content Placeholder 3" descr="skincare-routine.jpg"/>
          <p:cNvPicPr/>
          <p:nvPr/>
        </p:nvPicPr>
        <p:blipFill>
          <a:blip r:embed="rId1"/>
          <a:stretch/>
        </p:blipFill>
        <p:spPr>
          <a:xfrm>
            <a:off x="1752480" y="2666880"/>
            <a:ext cx="571500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ut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77724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304920" y="1219320"/>
            <a:ext cx="868680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arm animals have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outi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very morning.  They expect Rick to crow and wake them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ine means – to do the same thing every 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y the wor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ou follow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outi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you do the same things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es ‘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outi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53" dur="2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ut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I say something that is part of your routine at night say “Good night!!”  If it isn’t say noth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2666880"/>
            <a:ext cx="853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Brush 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Read a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Finger p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Eat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Run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Change clot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4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4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2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at if roosters could talk?  What might a rooster say instead of “cock-a-doodle-doo”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rooster might say, “ __________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unexpected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something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nexpec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ppens, it will be a surpri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Content Placeholder 5" descr="surprise_kitten_attack.jpg"/>
          <p:cNvPicPr/>
          <p:nvPr/>
        </p:nvPicPr>
        <p:blipFill>
          <a:blip r:embed="rId1"/>
          <a:stretch/>
        </p:blipFill>
        <p:spPr>
          <a:xfrm>
            <a:off x="1905120" y="2438280"/>
            <a:ext cx="52862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77724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304920" y="1219320"/>
            <a:ext cx="868680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morning, Rick does not crow.  Everyone is late.  The animals are surprised because this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nexpec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expected means – that you were surprised when something happ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y the wor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es ‘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nexpec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I say something that is surpris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“That’s unexpected!!”  If it isn’t s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h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2666880"/>
            <a:ext cx="853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See snow in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Go to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See a rabbit f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Find ten dol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Eat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Hear a pet 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0" y="632448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compose sentences with telling par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9"/>
          <p:cNvSpPr/>
          <p:nvPr/>
        </p:nvSpPr>
        <p:spPr>
          <a:xfrm>
            <a:off x="0" y="228600"/>
            <a:ext cx="89917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s have a naming         part and a telling par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or what is this sentence about?  Something is missing!  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Arial"/>
              </a:rPr>
              <a:t>My sister</a:t>
            </a:r>
            <a:r>
              <a:rPr b="0" lang="en-US" sz="2400" spc="-1" strike="noStrike">
                <a:solidFill>
                  <a:srgbClr val="00b2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344080" cy="3368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62120" y="4572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Match the naming part to the telling part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86240" y="6019560"/>
            <a:ext cx="2057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ective: To recognize a poet’s purp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209680" y="0"/>
            <a:ext cx="4800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hanticleer”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67120" y="621792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 –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read high frequency word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ord Wall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s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identify beginning and ending sounds in word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876920" y="1295280"/>
            <a:ext cx="3427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 u="sng">
                <a:solidFill>
                  <a:srgbClr val="000000"/>
                </a:solidFill>
                <a:uFillTx/>
                <a:latin typeface="Comic Sans MS"/>
              </a:rPr>
              <a:t>Phonograms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438280" y="76212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ick   -   pi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nk   -   rin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 rot="19929000">
            <a:off x="152280" y="22824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Underline the rime in each sent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219320" y="2057400"/>
          <a:ext cx="6629400" cy="3767040"/>
        </p:xfrm>
        <a:graphic>
          <a:graphicData uri="http://schemas.openxmlformats.org/drawingml/2006/table">
            <a:tbl>
              <a:tblPr/>
              <a:tblGrid>
                <a:gridCol w="3314520"/>
                <a:gridCol w="3314880"/>
              </a:tblGrid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c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ead Words in Contex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848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e wants to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helps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ick k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ick lick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ick winks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t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ic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omic Sans MS"/>
              </a:rPr>
              <a:t>Build Words</a:t>
            </a:r>
            <a:endParaRPr b="0" lang="en-US" sz="5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90560" y="1980720"/>
            <a:ext cx="4267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ic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2590920" y="1295280"/>
            <a:ext cx="4267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59092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327672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388620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4495680"/>
            <a:ext cx="4267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i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i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4839480" y="1905120"/>
            <a:ext cx="1458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bi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h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 </cp:lastModifiedBy>
  <dcterms:modified xsi:type="dcterms:W3CDTF">2009-09-17T01:53:29Z</dcterms:modified>
  <cp:revision>260</cp:revision>
  <dc:subject/>
  <dc:title>Slide 1</dc:title>
</cp:coreProperties>
</file>