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9E80-041E-4558-A831-1C21B01A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0E9-08E5-4A39-8607-0EED5E27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4F0-6D62-423C-94BD-7F230ACA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7EA-A562-4626-92D3-D81814B0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F7C6-B270-448D-A3EB-1DDE05A8B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BE40-5E3F-4CCB-9366-DFD059D3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E2F7-D0C9-478B-8774-18260AD9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F7B-8F5E-4926-8566-AA89C06A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3010-7E5A-4EDE-AE77-4E78707C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564E-CE64-4396-9955-23078623F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CF84-E266-464B-8E70-0CF4F3B9B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08A8-D125-4F35-9D2E-36707B319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F265-28A2-44A4-A124-260D4419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4ED-59CF-4E4E-B846-C6C92C29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E72-73AB-4D4D-8975-3F91E76A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600-59EE-4D3A-8B84-124BBCCE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0C5-96C9-4AEF-9838-073C468E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3008-431C-4F43-8C52-45373349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1C86-2F37-45A9-BEF8-B7CA7945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846C-EF1F-4356-A831-98AB28E3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62D9-0F28-4C65-B5D6-F6D9648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113D-ACB2-436F-A05B-657A1037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B02A-D6CA-4C0B-A6F9-1C7A5811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A11C-6165-4F80-AF7D-2C25E84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77C-DD51-44C0-B6B8-8F147407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C1D-2A83-409F-B484-220C054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E605-EED5-4706-B4BF-3CD177A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0675-4689-4F9A-9053-500548D0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10C-179B-4DF6-9326-D0FCB14D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4A7D-F5DB-4718-A60D-9C506EDD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90C-A064-4C65-A62E-092076DB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2CB-89B4-4B32-8CA0-0DB90E7C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D5D-AEBA-4105-BB99-0F37EEF6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ED9-2E83-419D-BE5D-34606FF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25F-E861-4AD8-8995-14AA035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B4F-8980-4B2E-89FF-A3C78EF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C56-EFFA-4BB0-934B-E89C379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0F18-36F8-4FA5-8339-D490D0D3E4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ABC-2CA5-4243-A976-FD85BDDB44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Fluenc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3733920"/>
            <a:ext cx="4952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no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R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Rick s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 Rick is fast asle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up, Rick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I read, I pay attention to capital letters so I know where a sentence begins.  I also pay attention to commas and end marks.  When I see a comma, I pause.  When I see an exclamation point, I make my voice sound excited.  When I see a question mark, I sound as if I am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rot="21016200">
            <a:off x="228240" y="3049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Let’s fill in the chart on the story </a:t>
            </a:r>
            <a:r>
              <a:rPr b="0" i="1" lang="en-US" sz="1600" spc="-1" strike="noStrike">
                <a:solidFill>
                  <a:srgbClr val="00b200"/>
                </a:solidFill>
                <a:latin typeface="Comic Sans MS"/>
              </a:rPr>
              <a:t>There’s a Billy Goat in the Ga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Content Placeholder 3" descr="considerate.jpg"/>
          <p:cNvPicPr/>
          <p:nvPr/>
        </p:nvPicPr>
        <p:blipFill>
          <a:blip r:embed="rId1"/>
          <a:stretch/>
        </p:blipFill>
        <p:spPr>
          <a:xfrm>
            <a:off x="4267080" y="1143000"/>
            <a:ext cx="4110120" cy="5029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son thinks about the feelings of oth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30492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nimal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Rick when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him a cl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e means – to think about the feelings of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am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others, I do nice things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“That’s considerate!!”  If it isn’t s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ay 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ive a 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ke 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rab a 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hare a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ke lots of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rout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Content Placeholder 3" descr="skincare-routine.jpg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304920" y="1219320"/>
            <a:ext cx="86868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arm animals have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ry morning.  They expect Rick to crow and wake them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e means – to do the same thing every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part of your routine at night say “Good night!!”  If it isn’t say 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Brus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Finger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Ea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un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hange 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if roosters could talk?  What might a rooster say instead of “cock-a-doodle-doo”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rooster might say, “ __________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ometh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ppens, it will be a surpr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Content Placeholder 5" descr="surprise_kitten_attack.jpg"/>
          <p:cNvPicPr/>
          <p:nvPr/>
        </p:nvPicPr>
        <p:blipFill>
          <a:blip r:embed="rId1"/>
          <a:stretch/>
        </p:blipFill>
        <p:spPr>
          <a:xfrm>
            <a:off x="1905120" y="243828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04920" y="1219320"/>
            <a:ext cx="86868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morning, Rick does not crow.  Everyone is late.  The animals are surprised because this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xpected means – that you were surprised when something hap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surpr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“That’s unexpected!!”  If it isn’t s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 snow in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o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 a rabbit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Find te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Ea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ar a pet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0" y="228600"/>
            <a:ext cx="8991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have a naming         part and a telling pa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r what is this sentence about?  Something is missing! 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My sister</a:t>
            </a: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44080" cy="3368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57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tch the naming part to the telling par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recognize a poet’s purp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hanticleer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beginning and ending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Phonograms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762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ck   -   p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k   -   r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19929000">
            <a:off x="152280" y="22824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nderline the rime in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2057400"/>
          <a:ext cx="6629400" cy="3767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 wants to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elp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 k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 lick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 wink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Build Words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12952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5909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2767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88620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44956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17T01:53:29Z</dcterms:modified>
  <cp:revision>260</cp:revision>
  <dc:subject/>
  <dc:title>Slide 1</dc:title>
</cp:coreProperties>
</file>