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17894-E1A8-430F-8F2C-01674D62CE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14A3A-551D-4C09-9B6B-1E4ACF349E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CCDBC-7D84-4E6E-9339-80902641A6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213E4-3D71-4D74-82BC-9DF183CD3B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B360D-4AED-40AC-AFEB-4BD2A098A3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B434F-6EDC-4FC7-A358-8517804595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D8FF3-DE76-43A9-A99C-B78252AEA3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4A5BB-6033-4F0E-ADDD-3ABB967DAE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9C6D8-D131-4646-9B6C-2A07CD91D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3F800-7639-472C-8373-5F1624929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1AC6B-D44A-4296-9DD7-5B08B8A24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A674E-1745-4070-81D8-D9F18FB45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21306-FAAA-45F0-942E-DC79EB014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DD0D0-1CBB-44E1-83FF-0A4F8C165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691B3-F4D6-493D-80D2-BBDB217D5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39E8D-3060-4CC2-A37D-40094A84A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2163C-D114-47D5-9F10-60BC52956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0E383-7EA3-4DB3-9075-4A32EDF16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9DCCC-8FF0-4B67-8A39-2063F0E55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9F66D-2099-4E47-9A21-2215B2FC3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BD213-A868-4AF5-9D67-0FD672764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C8700-8370-46C0-A306-546FA9733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DF3FE-D1F8-4CF3-AAF2-52700FDEA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0A215-8075-46F6-A1FD-84FC23D71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785A6-9012-463F-B27C-8A3C0FBF9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79B88-0CD9-44B3-934D-84D5486FE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86AC0-201E-45D9-AA5F-77EEB2940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10DE1-9A43-46CD-8781-B76594697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E5D60-0738-46F6-A665-33337FAAD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07F64-3C80-4C8F-A44F-AC1712913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CC887-0850-41A1-A93F-92B960FC5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84E1B-F6CF-4ACE-AB15-93B941115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72AF0-7478-4585-8231-1AD9B23013F5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81A5E-70F8-4510-938E-FB33F1FFC3C2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4" descr="MPj04394500000[1]"/>
          <p:cNvPicPr/>
          <p:nvPr/>
        </p:nvPicPr>
        <p:blipFill>
          <a:blip r:embed="rId1"/>
          <a:stretch/>
        </p:blipFill>
        <p:spPr>
          <a:xfrm>
            <a:off x="0" y="47520"/>
            <a:ext cx="9144000" cy="681048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2362320" y="457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Frida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September 18</a:t>
            </a:r>
            <a:r>
              <a:rPr b="0" lang="en-US" sz="4400" spc="-1" strike="noStrike" baseline="30000">
                <a:solidFill>
                  <a:srgbClr val="ffffff"/>
                </a:solidFill>
                <a:latin typeface="Comic Sans MS"/>
              </a:rPr>
              <a:t>th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         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Lesson 4, Day 5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0" y="5989680"/>
            <a:ext cx="2286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Objective: To develop robust vocabulary by discussing ideas and situations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837720"/>
            <a:ext cx="838188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000000"/>
                </a:solidFill>
                <a:uFillTx/>
                <a:latin typeface="Comic Sans MS"/>
              </a:rPr>
              <a:t>Robust Vocabulary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mbl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olitel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out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siderat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out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nexpect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609120" y="151920"/>
            <a:ext cx="769644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f someone was considerate enough t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uy you a present, how would you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spond politely?  Explain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family member has made a list of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outine chores for you to do 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aturday morning. What chore woul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ke you pout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You just received an unexpected visit from your favorite TV star.  Would this cause you to amble about or jump up and down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0" y="228240"/>
            <a:ext cx="81532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ould this make you pout or smile?  If it would make you pout show me a pouting face, if not, smil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broken to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aiting in a long lin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oing to the par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aying good-by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new to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riends not sharing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4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4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770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1" dur="77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3" dur="77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5" dur="77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770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2" dur="77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4" dur="77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66" dur="77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6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800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800" fill="hold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800" fill="hold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800" fill="hold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8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0" y="228240"/>
            <a:ext cx="81532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 will name some places.  If you think that you would amble there then walk slowly in place.  If not, stand still.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pretty par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block from the bus stop where the bus is leaving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nish line of a rac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street with many window display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0" dur="8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1" dur="8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2" dur="8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900" fill="hold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0" y="6324480"/>
            <a:ext cx="22860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Objective: To compose sentences with telling parts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Text Box 19"/>
          <p:cNvSpPr/>
          <p:nvPr/>
        </p:nvSpPr>
        <p:spPr>
          <a:xfrm>
            <a:off x="0" y="228600"/>
            <a:ext cx="8991720" cy="58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ntences have a naming         part and a telling part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o or what is this sentence about?  Something is missing!  What is i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200"/>
                </a:solidFill>
                <a:latin typeface="Arial"/>
              </a:rPr>
              <a:t>Rick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307"/>
          <p:cNvSpPr/>
          <p:nvPr/>
        </p:nvSpPr>
        <p:spPr>
          <a:xfrm>
            <a:off x="0" y="6399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009920" y="5790960"/>
            <a:ext cx="2133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Objective: To listen and respond appropriately to oral communication.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0" y="609120"/>
            <a:ext cx="914400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Question of the Day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What is your favorite farm animal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Why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When I give you the signal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turn and talk with your partner using the stem below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My favorite farm animal is ______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 like ______ because ______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086240" y="6019560"/>
            <a:ext cx="2057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Objective: To recognize a poet’s purpos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Text Box 9"/>
          <p:cNvSpPr/>
          <p:nvPr/>
        </p:nvSpPr>
        <p:spPr>
          <a:xfrm>
            <a:off x="2209680" y="0"/>
            <a:ext cx="48006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Constantia"/>
              </a:rPr>
              <a:t>Read Alou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nstantia"/>
              </a:rPr>
              <a:t>“</a:t>
            </a:r>
            <a:r>
              <a:rPr b="1" lang="en-US" sz="4800" spc="-1" strike="noStrike">
                <a:solidFill>
                  <a:srgbClr val="000000"/>
                </a:solidFill>
                <a:latin typeface="Constantia"/>
              </a:rPr>
              <a:t>Chanticleer”</a:t>
            </a:r>
            <a:r>
              <a:rPr b="1" lang="en-US" sz="4400" spc="-1" strike="noStrike">
                <a:solidFill>
                  <a:srgbClr val="000000"/>
                </a:solidFill>
                <a:latin typeface="Constantia"/>
              </a:rPr>
              <a:t>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1752480" y="2133720"/>
            <a:ext cx="5791320" cy="38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467120" y="6217920"/>
            <a:ext cx="167652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Objective –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read high frequency words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33160" y="0"/>
            <a:ext cx="8305560" cy="693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Word Wall: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ge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oh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so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n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lat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s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hes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hom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hem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wher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her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he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" dur="10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4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4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1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1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1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6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6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6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6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6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6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086240" y="5943600"/>
            <a:ext cx="2057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Objective: To identify medial sounds in word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-609840" y="914040"/>
            <a:ext cx="5181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Comic Sans MS"/>
              </a:rPr>
              <a:t>Phonemic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Comic Sans MS"/>
              </a:rPr>
              <a:t>Awareness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honem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sol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3581280" y="1219320"/>
            <a:ext cx="4572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6870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 u="sng">
                <a:solidFill>
                  <a:srgbClr val="000000"/>
                </a:solidFill>
                <a:uFillTx/>
                <a:latin typeface="Comic Sans MS"/>
              </a:rPr>
              <a:t>Phonograms</a:t>
            </a:r>
            <a:endParaRPr b="0" lang="en-US" sz="5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438280" y="76212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ill   -   pil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it  -   si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"/>
          <p:cNvSpPr/>
          <p:nvPr/>
        </p:nvSpPr>
        <p:spPr>
          <a:xfrm rot="19929000">
            <a:off x="216360" y="212400"/>
            <a:ext cx="1676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Write the initial sound in each rhy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1052640" y="1962000"/>
          <a:ext cx="6372000" cy="3679920"/>
        </p:xfrm>
        <a:graphic>
          <a:graphicData uri="http://schemas.openxmlformats.org/drawingml/2006/table">
            <a:tbl>
              <a:tblPr/>
              <a:tblGrid>
                <a:gridCol w="3186000"/>
                <a:gridCol w="3186000"/>
              </a:tblGrid>
              <a:tr h="581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ll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t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8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_il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_il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_il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_il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_il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_il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_i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_i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_i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_i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_i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_i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6870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Spelling Test Time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8763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Penmanship Print"/>
              </a:rPr>
              <a:t>Name_____________Date______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Penmanship Print"/>
              </a:rPr>
              <a:t>1.___________9.____________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Penmanship Print"/>
              </a:rPr>
              <a:t>2.___________10.___________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Penmanship Print"/>
              </a:rPr>
              <a:t>3._________________________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Penmanship Print"/>
              </a:rPr>
              <a:t>4._________________________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Penmanship Print"/>
              </a:rPr>
              <a:t>5._________________________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Penmanship Print"/>
              </a:rPr>
              <a:t>6._________________________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Penmanship Print"/>
              </a:rPr>
              <a:t>7._________________________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Penmanship Print"/>
              </a:rPr>
              <a:t>8._________________________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 u="sng">
                <a:solidFill>
                  <a:srgbClr val="000000"/>
                </a:solidFill>
                <a:uFillTx/>
                <a:latin typeface="Comic Sans MS"/>
              </a:rPr>
              <a:t>Words to Know</a:t>
            </a:r>
            <a:endParaRPr b="0" lang="en-US" sz="5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no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oh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get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soo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let’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ye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now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lat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hom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Rectangle 4"/>
          <p:cNvSpPr/>
          <p:nvPr/>
        </p:nvSpPr>
        <p:spPr>
          <a:xfrm>
            <a:off x="7620120" y="0"/>
            <a:ext cx="152388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: To read high-frequency words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" dur="5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" dur="5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5" dur="5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0" dur="5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5" dur="500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0" dur="500"/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5" dur="500"/>
                                        <p:tgtEl>
                                          <p:spTgt spid="1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0" dur="500"/>
                                        <p:tgtEl>
                                          <p:spTgt spid="1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5" dur="500"/>
                                        <p:tgtEl>
                                          <p:spTgt spid="1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7" name=""/>
          <p:cNvGraphicFramePr/>
          <p:nvPr/>
        </p:nvGraphicFramePr>
        <p:xfrm>
          <a:off x="609480" y="380880"/>
          <a:ext cx="7696440" cy="5581800"/>
        </p:xfrm>
        <a:graphic>
          <a:graphicData uri="http://schemas.openxmlformats.org/drawingml/2006/table">
            <a:tbl>
              <a:tblPr/>
              <a:tblGrid>
                <a:gridCol w="1828800"/>
                <a:gridCol w="2019600"/>
                <a:gridCol w="1923840"/>
                <a:gridCol w="1924200"/>
              </a:tblGrid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ook! Book! Book!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et Up, Rick!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here’s A Billy Goat in the Gard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78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eginn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4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idd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4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nd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3T01:35:05Z</dcterms:created>
  <dc:creator>Janice Wagnon</dc:creator>
  <dc:description/>
  <dc:language>en-US</dc:language>
  <cp:lastModifiedBy> </cp:lastModifiedBy>
  <dcterms:modified xsi:type="dcterms:W3CDTF">2009-09-17T02:35:42Z</dcterms:modified>
  <cp:revision>264</cp:revision>
  <dc:subject/>
  <dc:title>Slide 1</dc:title>
</cp:coreProperties>
</file>