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3882-F8DC-4875-8700-F3E3A21D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7CA4-C3CD-405F-B5B6-95C498F5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B773-5099-4F91-B6F1-133E2E3F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B7D-01E9-494B-AA3D-6A4A55CD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0C9-B5B0-46FF-B323-C9CB5F407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4034-334D-4C5E-9F7A-C9EFF2C4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B4C8-8AD3-4123-A48B-B1A92182A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56AA-DFB6-441A-88D0-3171944B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A40-FF96-4A64-9720-7B940ECC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5FC-82FE-4860-9E62-82198BF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397-4502-4C29-BB92-91A328AC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337-E101-4DFD-BF68-095F0A20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E05D-5ABA-49D2-901F-0A1EFC60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1AA2-73E2-4A91-A0B4-85BBB90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7631-0C92-4589-A2E7-55BAC6C1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A7EB-60F1-4413-9101-791C9DC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FEDC-F5BB-4B33-B9C1-7BB48831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FA63-2924-4815-9B37-C50E1841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050F-D4FD-491D-B6D6-07CDDDB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E8F-E629-4400-B937-0FE5C944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FB18-D31F-45B8-B4F6-E7762F3B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E74-998A-48D2-9862-8AFE2801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F0E-225E-4798-A6EF-5CE86F3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4FA9-C19B-432F-9DAA-EBF08292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645B-1912-4BE4-A0A8-237D68F4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3BF-C113-43F6-9E1B-A7BAAA0D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698-C911-4A22-ADC6-71BF5F4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244-5407-4754-9B0E-51603D66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A79-EE68-4631-BC9E-7403DD2F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99A-CE16-4911-A29E-3E249D8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2DB-BC95-4C24-9418-FC7054B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637-B8EB-45F3-B62D-50380AD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E6A-DE3C-407A-A014-2113ED6CC1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69EA-45D2-46DB-AAF7-BFC8C27BDB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120" y="151920"/>
            <a:ext cx="7696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was considerate enough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y you a present, how would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 politely?  Expl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amily member has made a lis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e chores for you to d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urday morning. What chore wou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you pou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just received an unexpected visit from your favorite TV star.  Would this cause you to amble about or jump up and 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this make you pout or smile?  If it would make you pout show me a pouting face, if not, smi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roken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ing in a long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 to the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ing good-by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ew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ends not sh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name some places.  If you think that you would amble there then walk slowly in place.  If not, stand still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tty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ock from the bus stop where the bus is leav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line of a 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treet with many window displ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0" y="228600"/>
            <a:ext cx="8991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i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s your favorite farm anim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farm animal is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ke ______ because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0"/>
            <a:ext cx="830556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609840" y="9140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  -   p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t  -   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216360" y="2124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rite the initial sound in each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52640" y="1962000"/>
          <a:ext cx="6372000" cy="3679920"/>
        </p:xfrm>
        <a:graphic>
          <a:graphicData uri="http://schemas.openxmlformats.org/drawingml/2006/table">
            <a:tbl>
              <a:tblPr/>
              <a:tblGrid>
                <a:gridCol w="3186000"/>
                <a:gridCol w="318600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elling Test Ti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Name_____________Date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1.___________9.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2.___________10.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3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4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5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6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7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8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609480" y="380880"/>
          <a:ext cx="7696440" cy="5581800"/>
        </p:xfrm>
        <a:graphic>
          <a:graphicData uri="http://schemas.openxmlformats.org/drawingml/2006/table">
            <a:tbl>
              <a:tblPr/>
              <a:tblGrid>
                <a:gridCol w="1828800"/>
                <a:gridCol w="2019600"/>
                <a:gridCol w="1923840"/>
                <a:gridCol w="1924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! Book! Boo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 Up, Ric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Billy Goat in the G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2:35:42Z</dcterms:modified>
  <cp:revision>264</cp:revision>
  <dc:subject/>
  <dc:title>Slide 1</dc:title>
</cp:coreProperties>
</file>