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3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9373-5FF0-4C3A-A420-48EFF5CC9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5AD4-FA02-40FB-9622-AA9608D5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BEF0-6D7F-4A03-B4B3-5C05078A8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E6D2-D459-4605-976F-7260ADCA8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199F-B79B-4646-BC18-E8CD4A16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11E4-4B23-4888-8584-676D0AD4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08AE-46EA-4C1C-ABAF-E8D4FD27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9913-9F6E-4041-A1DE-0139A726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4A5A-5B81-4A45-9712-D38A548C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C145-7A85-49CB-9E63-6709E241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372D-4EFA-4EE2-9319-51B0801E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50D9-BD4D-436B-93F1-E86604A0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064D-F938-435D-8BD8-2A2EF27F0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ptember 21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5, Da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81320" y="-360"/>
            <a:ext cx="21337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characters in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94240" y="1332000"/>
            <a:ext cx="3521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143000"/>
            <a:ext cx="9144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om and Dad have job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Roz wants a job, to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933960" y="228240"/>
            <a:ext cx="2057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05360" y="274320"/>
            <a:ext cx="19810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retelling a stor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28600" y="1295280"/>
          <a:ext cx="8686440" cy="4724280"/>
        </p:xfrm>
        <a:graphic>
          <a:graphicData uri="http://schemas.openxmlformats.org/drawingml/2006/table">
            <a:tbl>
              <a:tblPr/>
              <a:tblGrid>
                <a:gridCol w="2895480"/>
                <a:gridCol w="2895480"/>
                <a:gridCol w="2895480"/>
              </a:tblGrid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ing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6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Yoshi’s Fea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ktales are very old stories that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told over and over again.  Folk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e from all over the worl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520" y="2971800"/>
            <a:ext cx="8001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bcBulletin"/>
              </a:rPr>
              <a:t>horrible</a:t>
            </a:r>
            <a:br>
              <a:rPr sz="4000"/>
            </a:br>
            <a:br>
              <a:rPr sz="40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omething </a:t>
            </a:r>
            <a:r>
              <a:rPr b="0" lang="en-US" sz="2900" spc="-1" strike="noStrike">
                <a:solidFill>
                  <a:srgbClr val="ff0000"/>
                </a:solidFill>
                <a:latin typeface="Arial"/>
              </a:rPr>
              <a:t>horribl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is really bad and awful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rcRect l="4688" t="40625" r="43528" b="22938"/>
          <a:stretch/>
        </p:blipFill>
        <p:spPr>
          <a:xfrm>
            <a:off x="990720" y="2743200"/>
            <a:ext cx="7086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horr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182844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k cooked the “stinky” fish.  The fish smelle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orri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don’t like potato chips.  I think they tast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orri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aste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orri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380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bcBulletin"/>
              </a:rPr>
              <a:t>invigor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Content Placeholder 3" descr="invigorated.jpg"/>
          <p:cNvPicPr/>
          <p:nvPr/>
        </p:nvPicPr>
        <p:blipFill>
          <a:blip r:embed="rId1"/>
          <a:stretch/>
        </p:blipFill>
        <p:spPr>
          <a:xfrm>
            <a:off x="4797360" y="1341360"/>
            <a:ext cx="3355920" cy="46753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a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vigor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you are full of ener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invigor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licious smells of breakfas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vigor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 hot day, going swimming makes me feel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vigor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vigor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presented</a:t>
            </a:r>
            <a:br>
              <a:rPr sz="4400"/>
            </a:br>
            <a:br>
              <a:rPr sz="44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f you </a:t>
            </a:r>
            <a:r>
              <a:rPr b="0" lang="en-US" sz="2900" spc="-1" strike="noStrike">
                <a:solidFill>
                  <a:srgbClr val="ff0000"/>
                </a:solidFill>
                <a:latin typeface="Arial"/>
              </a:rPr>
              <a:t>presented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something to a friend,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you gave it to her or him.</a:t>
            </a:r>
            <a:br>
              <a:rPr sz="40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Content Placeholder 5" descr="presented.jpg"/>
          <p:cNvPicPr/>
          <p:nvPr/>
        </p:nvPicPr>
        <p:blipFill>
          <a:blip r:embed="rId1"/>
          <a:srcRect l="0" t="0" r="-224" b="16911"/>
          <a:stretch/>
        </p:blipFill>
        <p:spPr>
          <a:xfrm>
            <a:off x="1828800" y="2590920"/>
            <a:ext cx="547380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presen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esen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is friend with a gift on his birth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in a contest, would you b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esen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a priz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is sentence:  I’d like to b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esen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a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hink about gardens you have se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hat might you see in a gard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 might see a ___________ in the ga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ling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bu and Yoshi live near each 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bu cooks on his hibach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shi likes the smell of broiled e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ling Sent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n jo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s like to na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66880" y="0"/>
            <a:ext cx="5610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8629560" cy="36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068560" y="0"/>
            <a:ext cx="500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listen to a story read alo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8915400" cy="47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There’s A Billy Goat in the Gar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81080" y="2246400"/>
            <a:ext cx="5029200" cy="461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5242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lp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i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2982960"/>
            <a:ext cx="8915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0"/>
            <a:ext cx="739152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ic Awareness -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neme Categor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5105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391520" y="6035760"/>
            <a:ext cx="175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short vowel /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0"/>
            <a:ext cx="7391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Short Vowel /o/ o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1143000"/>
            <a:ext cx="35049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I say a word that begins with /o/, make an o in sign language. When I say a word that does not have a /o/ at the beginning, put your hands in your lap.  Let’s do the same with the middle sou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120" y="2438280"/>
            <a:ext cx="3582720" cy="18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580920" y="1143000"/>
            <a:ext cx="838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162920" y="591516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o/ o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143000"/>
            <a:ext cx="685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19810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114300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38480" y="1981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1981080"/>
            <a:ext cx="190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28195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819520"/>
            <a:ext cx="1524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3581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2520" y="3581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19720" y="35812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44956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62520" y="44956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19720" y="44956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 Buil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19720" y="121932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48320" y="121932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121932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43828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19720" y="22860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o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4290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419720" y="31240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o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441972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41148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18148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49528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09588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95680" y="5791320"/>
            <a:ext cx="12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o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95720" y="228240"/>
            <a:ext cx="12193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blend sounds into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eading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m got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ck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t six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d will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ick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e u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 cat ca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o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o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ap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o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o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o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box has a big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o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n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 </cp:lastModifiedBy>
  <dcterms:modified xsi:type="dcterms:W3CDTF">2009-09-21T03:15:33Z</dcterms:modified>
  <cp:revision>14</cp:revision>
  <dc:subject/>
  <dc:title>Slide 1</dc:title>
</cp:coreProperties>
</file>