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37F-24A7-4F35-8038-873BDFD6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66D-D4EC-400B-9385-4D541732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A26-3DDA-4FC0-A04D-A2DEDEB5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438-4E42-4ED6-A663-A27B3B8A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290-DB4F-49B8-B112-F83E2A9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B02-3ACA-47FC-8AB2-6EF3377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4A7-9E44-4099-9DEB-6448022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391-0513-4609-BCB6-80D7CED9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C63-3941-4C3F-93EF-09ABEABD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110-41EA-4E96-9E2A-6EC1BB4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943-1280-4776-9B08-DFB080A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248-50D5-427D-8229-4FBA5EB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50C0-78A6-4759-8DD1-BF3DA0ECD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om and Dad have jo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oz wants a job, to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295280"/>
          <a:ext cx="8686440" cy="47242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Yoshi’s F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ld over and over again.  Folk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from all over the wor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0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horrible</a:t>
            </a:r>
            <a:br>
              <a:rPr sz="4000"/>
            </a:b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really bad and awfu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4688" t="40625" r="43528" b="22938"/>
          <a:stretch/>
        </p:blipFill>
        <p:spPr>
          <a:xfrm>
            <a:off x="990720" y="2743200"/>
            <a:ext cx="708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ho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cooked the “stinky” fish.  The fish smell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like potato chips.  I think they tas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t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3" descr="invigorated.jpg"/>
          <p:cNvPicPr/>
          <p:nvPr/>
        </p:nvPicPr>
        <p:blipFill>
          <a:blip r:embed="rId1"/>
          <a:stretch/>
        </p:blipFill>
        <p:spPr>
          <a:xfrm>
            <a:off x="4797360" y="1341360"/>
            <a:ext cx="3355920" cy="4675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full of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licious smells of breakf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hot day, going swimming makes me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br>
              <a:rPr sz="4400"/>
            </a:br>
            <a:br>
              <a:rPr sz="44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omething to a friend,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gave it to her or him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presented.jpg"/>
          <p:cNvPicPr/>
          <p:nvPr/>
        </p:nvPicPr>
        <p:blipFill>
          <a:blip r:embed="rId1"/>
          <a:srcRect l="0" t="0" r="-224" b="16911"/>
          <a:stretch/>
        </p:blipFill>
        <p:spPr>
          <a:xfrm>
            <a:off x="1828800" y="2590920"/>
            <a:ext cx="5473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riend with a gift on hi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in a contest, 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pr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s sentence:  I’d like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 about gardens you have 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might you see in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might see a ___________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and Yoshi live near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cooks on his hiba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shi likes the smell of broiled e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j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s like to n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6880" y="0"/>
            <a:ext cx="56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62956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98296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0"/>
            <a:ext cx="73915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ic Awareness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Categ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91520" y="603576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short vowel /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hort Vowel /o/ o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143000"/>
            <a:ext cx="35049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begins with /o/, make an o in sign language. When I say a word that does not have a /o/ at the beginning, put your hands in your lap.  Let’s do the same with the middl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58272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4956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ad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 g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s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cat c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p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x has a bi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1T03:15:33Z</dcterms:modified>
  <cp:revision>14</cp:revision>
  <dc:subject/>
  <dc:title>Slide 1</dc:title>
</cp:coreProperties>
</file>