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BA69-B7CC-460F-8843-A84A26451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E64C-150E-463C-8768-10735DBD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03A3-AE38-466B-8D46-9C082924D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59B4-AA40-405C-97E3-FEF27709F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D2B-D663-4309-B0EE-2D745B98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91B-02BA-44E5-9D97-22B7E0AC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A14-5DC7-454E-BC4D-CAC62069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2B8-9C9C-4F41-A429-BE6F9E64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271-3B4C-4801-851C-F9A422DD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F20-DF1F-4E50-8154-EE1592C8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D95-40D1-46FC-AB1C-A37B5732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ABE-213D-4742-81B4-F93FAC74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2DF-E8B6-4306-A44B-1E31FEB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526-B9EF-4616-AC49-3A1B5DE9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776-81ED-4746-96BC-A3D43C4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2E4-C3C3-4F8A-B492-CCC53687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7F94-EDA0-4121-A82E-B363118DC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elling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209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h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no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d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l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533520"/>
            <a:ext cx="2210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81320" y="-360"/>
            <a:ext cx="2133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28600"/>
            <a:ext cx="83059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people and animals in stories are called characters.  The story “Yoshi’s Feast” is about two people – Yoshi and Sabu.  Yoshi and Sabu are both characters in the sto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56865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8" descr="aid 3.jpg"/>
          <p:cNvPicPr/>
          <p:nvPr/>
        </p:nvPicPr>
        <p:blipFill>
          <a:blip r:embed="rId1"/>
          <a:stretch/>
        </p:blipFill>
        <p:spPr>
          <a:xfrm>
            <a:off x="4921200" y="1370160"/>
            <a:ext cx="3308400" cy="5000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one, you help him or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28600" y="1143000"/>
            <a:ext cx="86868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ome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the little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d means – to help some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 needed help moving  a big chair, I asked my friend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might you need someone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733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5" descr="persistent 2.jpg"/>
          <p:cNvPicPr/>
          <p:nvPr/>
        </p:nvPicPr>
        <p:blipFill>
          <a:blip r:embed="rId1"/>
          <a:stretch/>
        </p:blipFill>
        <p:spPr>
          <a:xfrm>
            <a:off x="3809880" y="1371600"/>
            <a:ext cx="4821480" cy="47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keep trying and never give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28600" y="1143000"/>
            <a:ext cx="868680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oys we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t means – you keep trying and never give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am persistent at riding a bike.  What is something you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y do you think people have pe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ople like pets becaus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ontent Placeholder 3" descr="excessive-sweating.jpg"/>
          <p:cNvPicPr/>
          <p:nvPr/>
        </p:nvPicPr>
        <p:blipFill>
          <a:blip r:embed="rId1"/>
          <a:stretch/>
        </p:blipFill>
        <p:spPr>
          <a:xfrm>
            <a:off x="4648320" y="838080"/>
            <a:ext cx="3657600" cy="5491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temperatur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very hot and un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924680" y="6019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04920" y="12193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irl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h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eltering means- it is very hot and uncomfor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e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any people like to go swimm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else could you do to cool off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95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1520" y="5867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write about something that has happened in class recent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95680" y="21337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My Do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12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438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f to j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5791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2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38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5791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30240" y="0"/>
            <a:ext cx="54835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20578200">
            <a:off x="228600" y="380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Highlight short i and short o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23T02:20:39Z</dcterms:modified>
  <cp:revision>17</cp:revision>
  <dc:subject/>
  <dc:title>Slide 1</dc:title>
</cp:coreProperties>
</file>