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948A-D027-4D63-88A1-A256FFC6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AAD2-38BE-465A-A706-5FE32051B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377D-262B-4EC6-8873-5A30D8044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9F9B-4373-4DE0-ACBE-3FDBEFCE2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80D-EA89-46E4-AD58-9F677D53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185-DC0E-4366-833E-5B4423E7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F95-CDC2-41D1-A063-48A3892A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DEB-1454-468E-AF72-7C42FA16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034-FFA1-4667-88A1-025B7D40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699-D0A1-4FD6-9CD0-FA805B8C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332-C3A8-47DD-9BCA-54AE2CE5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1DD-0963-4914-9DC2-686727BD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391-8517-4763-85F7-C40DE726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F73-77B8-4259-BC8A-9A624067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55C-3188-4E30-B9A8-CB64805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538-A910-4897-B040-4DA7F83B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4C54-328E-4FB4-9147-8E1AD8C7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elling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209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to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ho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not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do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lo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533520"/>
            <a:ext cx="2210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81320" y="-360"/>
            <a:ext cx="2133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4240" y="1332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28600"/>
            <a:ext cx="83059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e people and animals in stories are called characters.  The story “Yoshi’s Feast” is about two people – Yoshi and Sabu.  Yoshi and Sabu are both characters in the sto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56865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ontent Placeholder 8" descr="aid 3.jpg"/>
          <p:cNvPicPr/>
          <p:nvPr/>
        </p:nvPicPr>
        <p:blipFill>
          <a:blip r:embed="rId1"/>
          <a:stretch/>
        </p:blipFill>
        <p:spPr>
          <a:xfrm>
            <a:off x="4921200" y="1370160"/>
            <a:ext cx="3308400" cy="50004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one, you help him or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28600" y="1143000"/>
            <a:ext cx="868680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ome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the little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d means – to help some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 needed help moving  a big chair, I asked my friend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might you need someone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733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5" descr="persistent 2.jpg"/>
          <p:cNvPicPr/>
          <p:nvPr/>
        </p:nvPicPr>
        <p:blipFill>
          <a:blip r:embed="rId1"/>
          <a:stretch/>
        </p:blipFill>
        <p:spPr>
          <a:xfrm>
            <a:off x="3809880" y="1371600"/>
            <a:ext cx="4821480" cy="47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keep trying and never give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28600" y="1143000"/>
            <a:ext cx="868680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oys we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istent means – you keep trying and never give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am persistent at riding a bike.  What is something you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y do you think people have pe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ople like pets because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Content Placeholder 3" descr="excessive-sweating.jpg"/>
          <p:cNvPicPr/>
          <p:nvPr/>
        </p:nvPicPr>
        <p:blipFill>
          <a:blip r:embed="rId1"/>
          <a:stretch/>
        </p:blipFill>
        <p:spPr>
          <a:xfrm>
            <a:off x="4648320" y="838080"/>
            <a:ext cx="3657600" cy="5491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temperatur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very hot and un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7924680" y="6019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04920" y="12193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irl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h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eltering means- it is very hot and uncomfor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e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many people like to go swimm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else could you do to cool off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1520" y="5867280"/>
            <a:ext cx="175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write about something that has happened in class recent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95680" y="213372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My Do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748520"/>
            <a:ext cx="8915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short o? Where is short 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I am. Here I 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in a hot pot, rocky top, and stop clock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- o - o    o - o - 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1238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121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4382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f to j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5791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21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382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5791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30240" y="0"/>
            <a:ext cx="54835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20578200">
            <a:off x="228600" y="380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Highlight short i and short o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23T02:20:39Z</dcterms:modified>
  <cp:revision>17</cp:revision>
  <dc:subject/>
  <dc:title>Slide 1</dc:title>
</cp:coreProperties>
</file>