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588-E55A-4C27-865F-B88F9C8B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3B3-0341-432D-8C01-6A4A482E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8BE-992A-4BCE-A430-CA77F4E6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2A0-DC00-4A81-A63F-9274AB2C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4B6-4687-4B1D-962E-6757830C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169-F592-4F7D-BC15-9CF62682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2F4-C6D0-4037-97AE-1AF2D198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937-52CA-4D25-8F4B-7145CF73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FE7-1856-4ED5-9174-788CDAAC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F40-56F9-431F-8467-31D81E36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D81-50FB-4A23-BE2D-5F3796C2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497-B9CC-46C0-8405-4727D270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8545-5B7B-4F37-BC86-7DE629AA5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rsjonesroom.com/songs/vowelshor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4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Vowel /o/ and 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spelling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2666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80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828800"/>
            <a:ext cx="26672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3960" y="228240"/>
            <a:ext cx="205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ght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d Bob dig too 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 you ________ the d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____ you, Bo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1520" y="152280"/>
            <a:ext cx="175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tinguish fiction from nonfi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4240" y="1332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0"/>
            <a:ext cx="451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448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read remember to read the words carefully and do not skip over any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e words as they are printed and do not add any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4593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a story read a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73152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There’s A Billy Goat in the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962160" cy="363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91120" y="1523880"/>
            <a:ext cx="49528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racter yip-yaps to get the goat to come out of the ga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attern do you see in this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racter gets the billy goat to come out of the ga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goat run aw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8" descr="aid 3.jpg"/>
          <p:cNvPicPr/>
          <p:nvPr/>
        </p:nvPicPr>
        <p:blipFill>
          <a:blip r:embed="rId1"/>
          <a:stretch/>
        </p:blipFill>
        <p:spPr>
          <a:xfrm>
            <a:off x="4921200" y="1370160"/>
            <a:ext cx="3308400" cy="5000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one, you help him or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some ways that you coul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younger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embers of your famil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733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5" descr="persistent 2.jpg"/>
          <p:cNvPicPr/>
          <p:nvPr/>
        </p:nvPicPr>
        <p:blipFill>
          <a:blip r:embed="rId1"/>
          <a:stretch/>
        </p:blipFill>
        <p:spPr>
          <a:xfrm>
            <a:off x="3809880" y="1371600"/>
            <a:ext cx="4821480" cy="4789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keep trying and never give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different kinds of gard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f you had a garden, what would you pl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f I had a garden, I would plant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it is a good thing to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you want to learn something? 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think of something that it might not be a good idea to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  Explain why you think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3" descr="excessive-sweating.jpg"/>
          <p:cNvPicPr/>
          <p:nvPr/>
        </p:nvPicPr>
        <p:blipFill>
          <a:blip r:embed="rId1"/>
          <a:stretch/>
        </p:blipFill>
        <p:spPr>
          <a:xfrm>
            <a:off x="4648320" y="838080"/>
            <a:ext cx="3657600" cy="5491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temperatur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very hot and un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that the room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could you do to cool 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clothing would you be wearing if you lived in a place that ha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mpera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write complet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fix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og n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s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x is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d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67480" y="152280"/>
            <a:ext cx="1447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write complet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ords to these groups of words to make complete sentences.  They need to begin with capital letters and end with peri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 up the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ig 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led the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62920" y="152280"/>
            <a:ext cx="175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your writing journal, tell about something that you have done with a family member recent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24280" y="23623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I Dig, Dig, Di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inal Sound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748520"/>
            <a:ext cx="8915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short o? Where is short 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I am. Here I 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in a hot pot, rocky top, and stop clock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- o - o    o - o - 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762120"/>
            <a:ext cx="1238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295280"/>
          <a:ext cx="8610480" cy="5246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Root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61920"/>
            <a:ext cx="75438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24T02:45:53Z</dcterms:modified>
  <cp:revision>24</cp:revision>
  <dc:subject/>
  <dc:title>Slide 1</dc:title>
</cp:coreProperties>
</file>