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CBB-491E-44A0-94A8-9508CA68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02C-4FEA-4AA1-8094-363287D4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03B-3A5C-4568-A8DF-D86A07DC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29DB-6650-4980-A1D0-571E6077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ECD-9EE8-4AC7-91F9-580896DC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A5F-761B-4816-A2B5-5694BE23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C2F3-3BC6-4221-928A-D2D1053A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9D4-F15A-4BC0-ADBB-874953B7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E42-90DA-4019-8701-360C4C0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5D0-FC71-482A-96DB-F65CD0C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D9C-4C2F-4EE4-9D28-63F819D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6CA-CC8D-41F5-AB36-1F8EEC0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7C2A-6F70-43F0-B723-852BE46EF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rsjonesroom.com/songs/vowelshor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4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Vowel /o/ and 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spell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2666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80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828800"/>
            <a:ext cx="26672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d Bob dig too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you ________ the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 you, Bo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1520" y="152280"/>
            <a:ext cx="175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tinguish fiction from nonfi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0"/>
            <a:ext cx="451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448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read remember to read the words carefully and do not skip over any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e words as they are printed and do not add any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4593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a story read a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73152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here’s A Billy Goat in the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962160" cy="363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91120" y="1523880"/>
            <a:ext cx="49528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racter yip-yaps to get the goat to come out of the ga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ttern do you see in this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racter gets the billy goat to come out of the ga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goat run aw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8" descr="aid 3.jpg"/>
          <p:cNvPicPr/>
          <p:nvPr/>
        </p:nvPicPr>
        <p:blipFill>
          <a:blip r:embed="rId1"/>
          <a:stretch/>
        </p:blipFill>
        <p:spPr>
          <a:xfrm>
            <a:off x="4921200" y="1370160"/>
            <a:ext cx="3308400" cy="5000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one, you help him or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some ways that you coul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younger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embers of your famil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733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5" descr="persistent 2.jpg"/>
          <p:cNvPicPr/>
          <p:nvPr/>
        </p:nvPicPr>
        <p:blipFill>
          <a:blip r:embed="rId1"/>
          <a:stretch/>
        </p:blipFill>
        <p:spPr>
          <a:xfrm>
            <a:off x="3809880" y="1371600"/>
            <a:ext cx="4821480" cy="478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keep trying and never give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different kinds of gard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f you had a garden, what would you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f I had a garden, I would plant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it is a good thing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you want to learn something? 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think of something that it might not be a good idea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  Explain why you think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3" descr="excessive-sweating.jpg"/>
          <p:cNvPicPr/>
          <p:nvPr/>
        </p:nvPicPr>
        <p:blipFill>
          <a:blip r:embed="rId1"/>
          <a:stretch/>
        </p:blipFill>
        <p:spPr>
          <a:xfrm>
            <a:off x="4648320" y="838080"/>
            <a:ext cx="3657600" cy="549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temperatur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very hot and un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that the room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could you do to cool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clothing would you be wearing if you lived in a place that ha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mpera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write complet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fix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og n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x is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d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67480" y="152280"/>
            <a:ext cx="1447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write complet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ords to these groups of words to make complete sentences.  They need to begin with capital letters and end with peri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 up the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ig 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led the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62920" y="152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your writing journal, tell about something that you have done with a family member recent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4280" y="23623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I Dig, Dig, Di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295280"/>
          <a:ext cx="8610480" cy="5246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Root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61920"/>
            <a:ext cx="75438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24T02:45:53Z</dcterms:modified>
  <cp:revision>24</cp:revision>
  <dc:subject/>
  <dc:title>Slide 1</dc:title>
</cp:coreProperties>
</file>