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E059-84B9-49B4-BD8D-A9FE429C5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CD4C-3079-43CF-A2B1-1609C70CA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9870-00FA-47AB-87A4-A9EE64354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F2CE-6474-45A5-B3D3-47B8AAF67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15A4-AB27-4DDA-8BBB-C1998D7E1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16F1-4901-4064-B1F2-4CBA87F67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AD8A-3CFA-4D6A-80C8-A0705B7D0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EF22-4B9D-47EA-936C-6BA831262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6591-146B-41A0-8A52-8D2CCF829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6FCD-361A-435B-8005-9975EC2BA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FAD7-6B0A-4079-BA2A-F5B88D4BD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8D0B-655E-4708-AC5A-325E76D4B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7E31D-A337-4B11-9C04-2A30FE0F12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mrsjonesroom.com/songs/vowelshort.html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8305560" cy="6568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209680" y="38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ri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ptember 26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sson 5, Day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40044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view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Robust Vocabul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rri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esent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vigorate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ersist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welte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467480" y="228240"/>
            <a:ext cx="1447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cognize and write complete telling senten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240" y="304920"/>
            <a:ext cx="838188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elling Sente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162920" y="152280"/>
            <a:ext cx="1752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compose telling sentences.  To understand that telling sentences tell about thin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ntences About Thin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sentence names the thing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sentence tells about the thing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words in the sentence describe the thing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urnal Wri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your journal, draw a place that you like to visit.  Write three sentences about that place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009920" y="-3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listen and respond appropriately to oral communica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Question of the Da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hat is your favorite poem or rhy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hy do you like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My favorite poem is 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My favorite rhyme is _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467480" y="228240"/>
            <a:ext cx="152424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 - To read high frequency wor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3520" y="2282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Word Wall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h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o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o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u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an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2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2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2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" dur="20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" dur="20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" dur="200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" dur="2000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009920" y="274320"/>
            <a:ext cx="16765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develop the ability to listen for a purpo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44480" y="1600200"/>
            <a:ext cx="3462480" cy="45259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495680" y="2133720"/>
            <a:ext cx="381024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ad Aloud –             “I Dig, Dig, Dig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honemic Awareness – Middle Sou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1748520"/>
            <a:ext cx="8915400" cy="32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    </a:t>
            </a:r>
            <a:br>
              <a:rPr sz="18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re is short o? Where is short o?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ere I am. Here I am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 am in a hot pot, rocky top, and stop clock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 - o - o    o - o - o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62520" y="762120"/>
            <a:ext cx="1238040" cy="11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3880" y="3045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lections –ed, -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nted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cked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y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nting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cking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y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315200" y="0"/>
            <a:ext cx="1654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bjective: To recognize root words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lections –ed, -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315200" y="0"/>
            <a:ext cx="1654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bjective: To recognize root words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04920" y="1295280"/>
          <a:ext cx="8610480" cy="5181480"/>
        </p:xfrm>
        <a:graphic>
          <a:graphicData uri="http://schemas.openxmlformats.org/drawingml/2006/table">
            <a:tbl>
              <a:tblPr/>
              <a:tblGrid>
                <a:gridCol w="2869920"/>
                <a:gridCol w="2870280"/>
                <a:gridCol w="2870280"/>
              </a:tblGrid>
              <a:tr h="767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Root Wor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Add -e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Add -ing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95720" y="228240"/>
            <a:ext cx="12193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cognize spelling patter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43000" y="1676160"/>
            <a:ext cx="73152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t is time for our spelling test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ietly get your paper read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ok at the example that I will put under the document camer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523880" y="380880"/>
            <a:ext cx="5715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pelling Word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3960" y="228240"/>
            <a:ext cx="2057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a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380880"/>
            <a:ext cx="822960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Sight Word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u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an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el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01:35:05Z</dcterms:created>
  <dc:creator>Carey Dailey</dc:creator>
  <dc:description/>
  <dc:language>en-US</dc:language>
  <cp:lastModifiedBy>Carey Dailey</cp:lastModifiedBy>
  <dcterms:modified xsi:type="dcterms:W3CDTF">2008-11-21T04:43:22Z</dcterms:modified>
  <cp:revision>23</cp:revision>
  <dc:subject/>
  <dc:title>Slide 1</dc:title>
</cp:coreProperties>
</file>